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616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616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5880" y="812520"/>
            <a:ext cx="5826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3240"/>
            <a:ext cx="6851520" cy="913752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635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6640" indent="-220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2680" indent="-2239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33160" y="1479600"/>
            <a:ext cx="3806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RAINING AND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PERFORMANC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QUESTIONNA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301720" y="45072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#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717880" y="45072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7400" y="7418520"/>
            <a:ext cx="178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aluable docu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6680" y="715644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840" y="7615080"/>
            <a:ext cx="36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turn in the reply-paid envelope as soon a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120" y="7821720"/>
            <a:ext cx="167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thanks for your hel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0720" y="357120"/>
            <a:ext cx="19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40" y="5002200"/>
            <a:ext cx="6829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6320" y="3637080"/>
            <a:ext cx="3139200" cy="1125720"/>
            <a:chOff x="526320" y="3637080"/>
            <a:chExt cx="3139200" cy="1125720"/>
          </a:xfrm>
        </p:grpSpPr>
        <p:sp>
          <p:nvSpPr>
            <p:cNvPr id="49" name=""/>
            <p:cNvSpPr/>
            <p:nvPr/>
          </p:nvSpPr>
          <p:spPr>
            <a:xfrm>
              <a:off x="527760" y="4175280"/>
              <a:ext cx="1540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swer by ticking a box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647800" y="4483080"/>
              <a:ext cx="1017720" cy="270000"/>
              <a:chOff x="2647800" y="4483080"/>
              <a:chExt cx="1017720" cy="270000"/>
            </a:xfrm>
          </p:grpSpPr>
          <p:sp>
            <p:nvSpPr>
              <p:cNvPr id="51" name=""/>
              <p:cNvSpPr/>
              <p:nvPr/>
            </p:nvSpPr>
            <p:spPr>
              <a:xfrm>
                <a:off x="2647800" y="4483080"/>
                <a:ext cx="1017720" cy="27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57520" y="4741920"/>
                <a:ext cx="990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527040" y="3637080"/>
              <a:ext cx="303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is questionnaire is about you and your train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317680" y="4141800"/>
              <a:ext cx="1335240" cy="183960"/>
              <a:chOff x="2317680" y="4141800"/>
              <a:chExt cx="1335240" cy="183960"/>
            </a:xfrm>
          </p:grpSpPr>
          <p:sp>
            <p:nvSpPr>
              <p:cNvPr id="55" name=""/>
              <p:cNvSpPr/>
              <p:nvPr/>
            </p:nvSpPr>
            <p:spPr>
              <a:xfrm>
                <a:off x="2701800" y="4141800"/>
                <a:ext cx="173160" cy="17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17680" y="4141800"/>
                <a:ext cx="184320" cy="18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86280" y="4141800"/>
                <a:ext cx="182520" cy="18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68600" y="4141800"/>
                <a:ext cx="184320" cy="18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762280" y="4119480"/>
              <a:ext cx="136440" cy="14616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78"/>
                  </a:moveTo>
                  <a:lnTo>
                    <a:pt x="20" y="91"/>
                  </a:lnTo>
                  <a:lnTo>
                    <a:pt x="33" y="78"/>
                  </a:lnTo>
                  <a:lnTo>
                    <a:pt x="53" y="39"/>
                  </a:lnTo>
                  <a:lnTo>
                    <a:pt x="79" y="6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62280" y="41194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0" y="78"/>
                  </a:moveTo>
                  <a:lnTo>
                    <a:pt x="7" y="85"/>
                  </a:lnTo>
                  <a:lnTo>
                    <a:pt x="13" y="85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40" y="65"/>
                  </a:lnTo>
                  <a:lnTo>
                    <a:pt x="40" y="59"/>
                  </a:lnTo>
                  <a:lnTo>
                    <a:pt x="46" y="52"/>
                  </a:lnTo>
                  <a:lnTo>
                    <a:pt x="59" y="33"/>
                  </a:lnTo>
                  <a:lnTo>
                    <a:pt x="66" y="20"/>
                  </a:lnTo>
                  <a:lnTo>
                    <a:pt x="72" y="13"/>
                  </a:lnTo>
                  <a:lnTo>
                    <a:pt x="79" y="6"/>
                  </a:lnTo>
                  <a:lnTo>
                    <a:pt x="8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711520" y="4503600"/>
              <a:ext cx="903240" cy="177840"/>
              <a:chOff x="2711520" y="4503600"/>
              <a:chExt cx="903240" cy="177840"/>
            </a:xfrm>
          </p:grpSpPr>
          <p:sp>
            <p:nvSpPr>
              <p:cNvPr id="62" name=""/>
              <p:cNvSpPr/>
              <p:nvPr/>
            </p:nvSpPr>
            <p:spPr>
              <a:xfrm>
                <a:off x="2773440" y="4597560"/>
                <a:ext cx="11160" cy="83880"/>
              </a:xfrm>
              <a:custGeom>
                <a:avLst/>
                <a:gdLst/>
                <a:ahLst/>
                <a:rect l="l" t="t" r="r" b="b"/>
                <a:pathLst>
                  <a:path w="7" h="53">
                    <a:moveTo>
                      <a:pt x="0" y="0"/>
                    </a:moveTo>
                    <a:lnTo>
                      <a:pt x="0" y="45"/>
                    </a:lnTo>
                    <a:lnTo>
                      <a:pt x="6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73440" y="4597560"/>
                <a:ext cx="11160" cy="83880"/>
              </a:xfrm>
              <a:custGeom>
                <a:avLst/>
                <a:gdLst/>
                <a:ahLst/>
                <a:rect l="l" t="t" r="r" b="b"/>
                <a:pathLst>
                  <a:path w="7" h="53">
                    <a:moveTo>
                      <a:pt x="0" y="0"/>
                    </a:moveTo>
                    <a:lnTo>
                      <a:pt x="0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6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73440" y="455436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73440" y="455760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35360" y="4533840"/>
                <a:ext cx="12600" cy="147600"/>
              </a:xfrm>
              <a:custGeom>
                <a:avLst/>
                <a:gdLst/>
                <a:ahLst/>
                <a:rect l="l" t="t" r="r" b="b"/>
                <a:pathLst>
                  <a:path w="8" h="93">
                    <a:moveTo>
                      <a:pt x="0" y="0"/>
                    </a:moveTo>
                    <a:lnTo>
                      <a:pt x="7" y="46"/>
                    </a:lnTo>
                    <a:lnTo>
                      <a:pt x="7" y="85"/>
                    </a:lnTo>
                    <a:lnTo>
                      <a:pt x="7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35360" y="4533840"/>
                <a:ext cx="12600" cy="147600"/>
              </a:xfrm>
              <a:custGeom>
                <a:avLst/>
                <a:gdLst/>
                <a:ahLst/>
                <a:rect l="l" t="t" r="r" b="b"/>
                <a:pathLst>
                  <a:path w="8" h="93">
                    <a:moveTo>
                      <a:pt x="0" y="0"/>
                    </a:moveTo>
                    <a:lnTo>
                      <a:pt x="0" y="7"/>
                    </a:lnTo>
                    <a:lnTo>
                      <a:pt x="7" y="33"/>
                    </a:lnTo>
                    <a:lnTo>
                      <a:pt x="7" y="53"/>
                    </a:lnTo>
                    <a:lnTo>
                      <a:pt x="7" y="59"/>
                    </a:lnTo>
                    <a:lnTo>
                      <a:pt x="7" y="66"/>
                    </a:lnTo>
                    <a:lnTo>
                      <a:pt x="7" y="79"/>
                    </a:lnTo>
                    <a:lnTo>
                      <a:pt x="7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46520" y="4597560"/>
                <a:ext cx="52200" cy="3168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32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46520" y="4597560"/>
                <a:ext cx="63360" cy="8388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32" y="0"/>
                    </a:moveTo>
                    <a:lnTo>
                      <a:pt x="0" y="19"/>
                    </a:lnTo>
                    <a:lnTo>
                      <a:pt x="32" y="39"/>
                    </a:lnTo>
                    <a:lnTo>
                      <a:pt x="39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846520" y="462744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0" y="0"/>
                    </a:moveTo>
                    <a:lnTo>
                      <a:pt x="13" y="7"/>
                    </a:lnTo>
                    <a:lnTo>
                      <a:pt x="19" y="13"/>
                    </a:lnTo>
                    <a:lnTo>
                      <a:pt x="26" y="20"/>
                    </a:lnTo>
                    <a:lnTo>
                      <a:pt x="39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59200" y="4586400"/>
                <a:ext cx="95040" cy="8388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13" y="26"/>
                    </a:moveTo>
                    <a:lnTo>
                      <a:pt x="53" y="26"/>
                    </a:lnTo>
                    <a:lnTo>
                      <a:pt x="53" y="13"/>
                    </a:lnTo>
                    <a:lnTo>
                      <a:pt x="33" y="0"/>
                    </a:lnTo>
                    <a:lnTo>
                      <a:pt x="7" y="13"/>
                    </a:lnTo>
                    <a:lnTo>
                      <a:pt x="0" y="33"/>
                    </a:lnTo>
                    <a:lnTo>
                      <a:pt x="20" y="52"/>
                    </a:lnTo>
                    <a:lnTo>
                      <a:pt x="46" y="52"/>
                    </a:lnTo>
                    <a:lnTo>
                      <a:pt x="59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9200" y="4597560"/>
                <a:ext cx="9504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13" y="19"/>
                    </a:moveTo>
                    <a:lnTo>
                      <a:pt x="27" y="19"/>
                    </a:lnTo>
                    <a:lnTo>
                      <a:pt x="33" y="19"/>
                    </a:lnTo>
                    <a:lnTo>
                      <a:pt x="46" y="19"/>
                    </a:lnTo>
                    <a:lnTo>
                      <a:pt x="53" y="13"/>
                    </a:lnTo>
                    <a:lnTo>
                      <a:pt x="53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6"/>
                    </a:lnTo>
                    <a:lnTo>
                      <a:pt x="7" y="13"/>
                    </a:lnTo>
                    <a:lnTo>
                      <a:pt x="7" y="19"/>
                    </a:lnTo>
                    <a:lnTo>
                      <a:pt x="0" y="26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13" y="45"/>
                    </a:lnTo>
                    <a:lnTo>
                      <a:pt x="27" y="45"/>
                    </a:lnTo>
                    <a:lnTo>
                      <a:pt x="33" y="45"/>
                    </a:lnTo>
                    <a:lnTo>
                      <a:pt x="40" y="45"/>
                    </a:lnTo>
                    <a:lnTo>
                      <a:pt x="53" y="45"/>
                    </a:lnTo>
                    <a:lnTo>
                      <a:pt x="59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219480" y="4513320"/>
                <a:ext cx="42840" cy="168120"/>
              </a:xfrm>
              <a:custGeom>
                <a:avLst/>
                <a:gdLst/>
                <a:ahLst/>
                <a:rect l="l" t="t" r="r" b="b"/>
                <a:pathLst>
                  <a:path w="27" h="106">
                    <a:moveTo>
                      <a:pt x="6" y="0"/>
                    </a:moveTo>
                    <a:lnTo>
                      <a:pt x="0" y="72"/>
                    </a:lnTo>
                    <a:lnTo>
                      <a:pt x="6" y="92"/>
                    </a:lnTo>
                    <a:lnTo>
                      <a:pt x="6" y="98"/>
                    </a:lnTo>
                    <a:lnTo>
                      <a:pt x="26" y="10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19480" y="4513320"/>
                <a:ext cx="42840" cy="168120"/>
              </a:xfrm>
              <a:custGeom>
                <a:avLst/>
                <a:gdLst/>
                <a:ahLst/>
                <a:rect l="l" t="t" r="r" b="b"/>
                <a:pathLst>
                  <a:path w="27" h="106">
                    <a:moveTo>
                      <a:pt x="6" y="0"/>
                    </a:moveTo>
                    <a:lnTo>
                      <a:pt x="6" y="7"/>
                    </a:lnTo>
                    <a:lnTo>
                      <a:pt x="6" y="20"/>
                    </a:lnTo>
                    <a:lnTo>
                      <a:pt x="0" y="39"/>
                    </a:lnTo>
                    <a:lnTo>
                      <a:pt x="0" y="53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6" y="85"/>
                    </a:lnTo>
                    <a:lnTo>
                      <a:pt x="6" y="98"/>
                    </a:lnTo>
                    <a:lnTo>
                      <a:pt x="26" y="10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87800" y="4565520"/>
                <a:ext cx="63360" cy="1800"/>
              </a:xfrm>
              <a:custGeom>
                <a:avLst/>
                <a:gdLst/>
                <a:ahLst/>
                <a:rect l="l" t="t" r="r" b="b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97160" y="4565520"/>
                <a:ext cx="46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322800" y="4503600"/>
                <a:ext cx="12600" cy="177840"/>
              </a:xfrm>
              <a:custGeom>
                <a:avLst/>
                <a:gdLst/>
                <a:ahLst/>
                <a:rect l="l" t="t" r="r" b="b"/>
                <a:pathLst>
                  <a:path w="8" h="112">
                    <a:moveTo>
                      <a:pt x="0" y="0"/>
                    </a:moveTo>
                    <a:lnTo>
                      <a:pt x="7" y="65"/>
                    </a:lnTo>
                    <a:lnTo>
                      <a:pt x="0" y="98"/>
                    </a:lnTo>
                    <a:lnTo>
                      <a:pt x="0" y="1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22800" y="4503600"/>
                <a:ext cx="12600" cy="177840"/>
              </a:xfrm>
              <a:custGeom>
                <a:avLst/>
                <a:gdLst/>
                <a:ahLst/>
                <a:rect l="l" t="t" r="r" b="b"/>
                <a:pathLst>
                  <a:path w="8" h="112">
                    <a:moveTo>
                      <a:pt x="0" y="0"/>
                    </a:moveTo>
                    <a:lnTo>
                      <a:pt x="0" y="13"/>
                    </a:lnTo>
                    <a:lnTo>
                      <a:pt x="7" y="45"/>
                    </a:lnTo>
                    <a:lnTo>
                      <a:pt x="7" y="59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4"/>
                    </a:lnTo>
                    <a:lnTo>
                      <a:pt x="0" y="1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22800" y="4586400"/>
                <a:ext cx="8388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13"/>
                    </a:moveTo>
                    <a:lnTo>
                      <a:pt x="20" y="0"/>
                    </a:lnTo>
                    <a:lnTo>
                      <a:pt x="46" y="7"/>
                    </a:lnTo>
                    <a:lnTo>
                      <a:pt x="52" y="46"/>
                    </a:lnTo>
                    <a:lnTo>
                      <a:pt x="46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22800" y="459756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6"/>
                    </a:moveTo>
                    <a:lnTo>
                      <a:pt x="13" y="0"/>
                    </a:lnTo>
                    <a:lnTo>
                      <a:pt x="20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6" y="13"/>
                    </a:lnTo>
                    <a:lnTo>
                      <a:pt x="46" y="19"/>
                    </a:lnTo>
                    <a:lnTo>
                      <a:pt x="52" y="32"/>
                    </a:lnTo>
                    <a:lnTo>
                      <a:pt x="52" y="39"/>
                    </a:lnTo>
                    <a:lnTo>
                      <a:pt x="46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57440" y="458640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39"/>
                    </a:lnTo>
                    <a:lnTo>
                      <a:pt x="0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57440" y="458640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1" h="60">
                    <a:moveTo>
                      <a:pt x="0" y="0"/>
                    </a:moveTo>
                    <a:lnTo>
                      <a:pt x="0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52760" y="45496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98840" y="4586400"/>
                <a:ext cx="115920" cy="9504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52" y="7"/>
                    </a:moveTo>
                    <a:lnTo>
                      <a:pt x="39" y="0"/>
                    </a:lnTo>
                    <a:lnTo>
                      <a:pt x="7" y="7"/>
                    </a:lnTo>
                    <a:lnTo>
                      <a:pt x="7" y="20"/>
                    </a:lnTo>
                    <a:lnTo>
                      <a:pt x="39" y="26"/>
                    </a:lnTo>
                    <a:lnTo>
                      <a:pt x="59" y="33"/>
                    </a:lnTo>
                    <a:lnTo>
                      <a:pt x="72" y="46"/>
                    </a:lnTo>
                    <a:lnTo>
                      <a:pt x="52" y="59"/>
                    </a:lnTo>
                    <a:lnTo>
                      <a:pt x="13" y="59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98840" y="458640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2" y="7"/>
                    </a:moveTo>
                    <a:lnTo>
                      <a:pt x="46" y="7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3" y="7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13" y="26"/>
                    </a:lnTo>
                    <a:lnTo>
                      <a:pt x="20" y="26"/>
                    </a:lnTo>
                    <a:lnTo>
                      <a:pt x="33" y="26"/>
                    </a:lnTo>
                    <a:lnTo>
                      <a:pt x="46" y="33"/>
                    </a:lnTo>
                    <a:lnTo>
                      <a:pt x="52" y="33"/>
                    </a:lnTo>
                    <a:lnTo>
                      <a:pt x="65" y="39"/>
                    </a:lnTo>
                    <a:lnTo>
                      <a:pt x="65" y="52"/>
                    </a:lnTo>
                    <a:lnTo>
                      <a:pt x="59" y="52"/>
                    </a:lnTo>
                    <a:lnTo>
                      <a:pt x="52" y="59"/>
                    </a:lnTo>
                    <a:lnTo>
                      <a:pt x="46" y="59"/>
                    </a:lnTo>
                    <a:lnTo>
                      <a:pt x="33" y="59"/>
                    </a:lnTo>
                    <a:lnTo>
                      <a:pt x="26" y="59"/>
                    </a:lnTo>
                    <a:lnTo>
                      <a:pt x="7" y="52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11520" y="4533840"/>
                <a:ext cx="1440" cy="14760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0" y="0"/>
                    </a:moveTo>
                    <a:lnTo>
                      <a:pt x="0" y="59"/>
                    </a:lnTo>
                    <a:lnTo>
                      <a:pt x="0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711520" y="4533840"/>
                <a:ext cx="1440" cy="14760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0" y="0"/>
                    </a:moveTo>
                    <a:lnTo>
                      <a:pt x="0" y="13"/>
                    </a:lnTo>
                    <a:lnTo>
                      <a:pt x="0" y="40"/>
                    </a:lnTo>
                    <a:lnTo>
                      <a:pt x="0" y="66"/>
                    </a:lnTo>
                    <a:lnTo>
                      <a:pt x="0" y="85"/>
                    </a:lnTo>
                    <a:lnTo>
                      <a:pt x="0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526320" y="45799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by filling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80320" y="45799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70840" y="457992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ank lin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23800" y="260280"/>
            <a:ext cx="267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chool of Physical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73480" y="376200"/>
            <a:ext cx="9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200" y="614520"/>
            <a:ext cx="265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versity of Otago, Box 56, Dunedin, NEW ZEA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2880" y="569880"/>
            <a:ext cx="2654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920" y="771480"/>
            <a:ext cx="1130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one (64) (3) 479 73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40920" y="7714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ax  (64) (3) 479 73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600" y="522288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ease put something on every blank li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960" y="5419800"/>
            <a:ext cx="289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 we know you haven't missed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25160" y="6021360"/>
            <a:ext cx="6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0280" y="5702400"/>
            <a:ext cx="315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a dash or a zero where necessary. 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3560" y="602136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per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19320" y="5934240"/>
            <a:ext cx="487440" cy="269640"/>
            <a:chOff x="2119320" y="5934240"/>
            <a:chExt cx="487440" cy="269640"/>
          </a:xfrm>
        </p:grpSpPr>
        <p:sp>
          <p:nvSpPr>
            <p:cNvPr id="103" name=""/>
            <p:cNvSpPr/>
            <p:nvPr/>
          </p:nvSpPr>
          <p:spPr>
            <a:xfrm>
              <a:off x="2119320" y="5934240"/>
              <a:ext cx="4874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28680" y="6194520"/>
              <a:ext cx="46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65480" y="6068880"/>
            <a:ext cx="218880" cy="33480"/>
          </a:xfrm>
          <a:custGeom>
            <a:avLst/>
            <a:gdLst/>
            <a:ahLst/>
            <a:rect l="l" t="t" r="r" b="b"/>
            <a:pathLst>
              <a:path w="138" h="21">
                <a:moveTo>
                  <a:pt x="0" y="20"/>
                </a:moveTo>
                <a:lnTo>
                  <a:pt x="19" y="7"/>
                </a:lnTo>
                <a:lnTo>
                  <a:pt x="59" y="7"/>
                </a:lnTo>
                <a:lnTo>
                  <a:pt x="104" y="7"/>
                </a:lnTo>
                <a:lnTo>
                  <a:pt x="1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5480" y="6068880"/>
            <a:ext cx="218880" cy="33480"/>
          </a:xfrm>
          <a:custGeom>
            <a:avLst/>
            <a:gdLst/>
            <a:ahLst/>
            <a:rect l="l" t="t" r="r" b="b"/>
            <a:pathLst>
              <a:path w="138" h="21">
                <a:moveTo>
                  <a:pt x="0" y="20"/>
                </a:moveTo>
                <a:lnTo>
                  <a:pt x="13" y="13"/>
                </a:lnTo>
                <a:lnTo>
                  <a:pt x="32" y="7"/>
                </a:lnTo>
                <a:lnTo>
                  <a:pt x="39" y="7"/>
                </a:lnTo>
                <a:lnTo>
                  <a:pt x="52" y="7"/>
                </a:lnTo>
                <a:lnTo>
                  <a:pt x="72" y="7"/>
                </a:lnTo>
                <a:lnTo>
                  <a:pt x="85" y="7"/>
                </a:lnTo>
                <a:lnTo>
                  <a:pt x="98" y="7"/>
                </a:lnTo>
                <a:lnTo>
                  <a:pt x="117" y="7"/>
                </a:lnTo>
                <a:lnTo>
                  <a:pt x="1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7760" y="6416640"/>
            <a:ext cx="344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you are not sure about something, please estim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6320" y="6593040"/>
            <a:ext cx="21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n't spend too much time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40" y="3352680"/>
            <a:ext cx="6829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40" y="1295280"/>
            <a:ext cx="6829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40" y="7008840"/>
            <a:ext cx="6829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2400" y="539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4480" y="5076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600" y="2879640"/>
            <a:ext cx="361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many years have you been training for this spor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4160" y="2568600"/>
            <a:ext cx="248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main competitive spor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513160"/>
            <a:ext cx="2665440" cy="2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1160" y="2744640"/>
            <a:ext cx="263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824200"/>
            <a:ext cx="4176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8200" y="3056040"/>
            <a:ext cx="37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24120" y="287964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7840" y="4657680"/>
            <a:ext cx="393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the highest level you are competing at in this clas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1600" y="494820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11840" y="496728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9520" y="494820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69960" y="496728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vincial or st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6280" y="494820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71400" y="496728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ocal or cl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52760" y="494820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4120" y="496728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6320" y="4075200"/>
            <a:ext cx="3727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present age-group and/or competition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4248000"/>
            <a:ext cx="363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for example under 16, open, veteran, lightweight etc)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2800" y="4168800"/>
            <a:ext cx="2306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32160" y="4400640"/>
            <a:ext cx="2279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9280" y="5537160"/>
            <a:ext cx="511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lease describe your best performances in competitions in the last 12 month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70600" y="6024600"/>
            <a:ext cx="796320" cy="306000"/>
            <a:chOff x="3270600" y="6024600"/>
            <a:chExt cx="796320" cy="306000"/>
          </a:xfrm>
        </p:grpSpPr>
        <p:sp>
          <p:nvSpPr>
            <p:cNvPr id="136" name=""/>
            <p:cNvSpPr/>
            <p:nvPr/>
          </p:nvSpPr>
          <p:spPr>
            <a:xfrm>
              <a:off x="3437640" y="602460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70600" y="616284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73480" y="6361200"/>
            <a:ext cx="822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82840" y="660384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3480" y="6719760"/>
            <a:ext cx="822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82840" y="696276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3480" y="7078680"/>
            <a:ext cx="822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82840" y="732312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3480" y="7439040"/>
            <a:ext cx="822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82840" y="768204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3480" y="7797960"/>
            <a:ext cx="8222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2840" y="804060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6046920"/>
            <a:ext cx="704880" cy="307440"/>
            <a:chOff x="770040" y="6046920"/>
            <a:chExt cx="704880" cy="307440"/>
          </a:xfrm>
        </p:grpSpPr>
        <p:sp>
          <p:nvSpPr>
            <p:cNvPr id="149" name=""/>
            <p:cNvSpPr/>
            <p:nvPr/>
          </p:nvSpPr>
          <p:spPr>
            <a:xfrm>
              <a:off x="770040" y="604692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pproxim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05480" y="61866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65280" y="6372360"/>
            <a:ext cx="915840" cy="2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4640" y="6603840"/>
            <a:ext cx="889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5800" y="6369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33360" y="6369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280" y="6730920"/>
            <a:ext cx="915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4640" y="696276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5800" y="67276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3360" y="67276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280" y="709128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4640" y="732312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55800" y="70880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33360" y="70880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280" y="745020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4640" y="768204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5800" y="7446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33360" y="7446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280" y="780876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4640" y="8040600"/>
            <a:ext cx="889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55800" y="7805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3360" y="7805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3440" y="3298680"/>
            <a:ext cx="19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specific event have you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4160" y="3471840"/>
            <a:ext cx="225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een training for in the last sea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4520" y="3646440"/>
            <a:ext cx="272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for example discus, 100m freestyle etc)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14800" y="3554280"/>
            <a:ext cx="3314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24160" y="3786120"/>
            <a:ext cx="3286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7040" y="6361200"/>
            <a:ext cx="14605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06400" y="6603840"/>
            <a:ext cx="1444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7040" y="6719760"/>
            <a:ext cx="146052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400" y="696276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7040" y="7078680"/>
            <a:ext cx="146052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06400" y="732312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7040" y="7439040"/>
            <a:ext cx="14605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06400" y="768204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7040" y="7797960"/>
            <a:ext cx="14605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06400" y="8040600"/>
            <a:ext cx="1444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00520" y="6035760"/>
            <a:ext cx="796320" cy="307440"/>
            <a:chOff x="2000520" y="6035760"/>
            <a:chExt cx="796320" cy="307440"/>
          </a:xfrm>
        </p:grpSpPr>
        <p:sp>
          <p:nvSpPr>
            <p:cNvPr id="187" name=""/>
            <p:cNvSpPr/>
            <p:nvPr/>
          </p:nvSpPr>
          <p:spPr>
            <a:xfrm>
              <a:off x="2033640" y="603576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ype of ev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00520" y="617544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223160" y="6035760"/>
            <a:ext cx="796320" cy="307440"/>
            <a:chOff x="4223160" y="6035760"/>
            <a:chExt cx="796320" cy="307440"/>
          </a:xfrm>
        </p:grpSpPr>
        <p:sp>
          <p:nvSpPr>
            <p:cNvPr id="190" name=""/>
            <p:cNvSpPr/>
            <p:nvPr/>
          </p:nvSpPr>
          <p:spPr>
            <a:xfrm>
              <a:off x="4495320" y="60357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3160" y="617544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211640" y="6361200"/>
            <a:ext cx="82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1000" y="660384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6719760"/>
            <a:ext cx="8240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21000" y="696276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7078680"/>
            <a:ext cx="8240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21000" y="732312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7439040"/>
            <a:ext cx="82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21000" y="768204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7797960"/>
            <a:ext cx="8240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21000" y="804060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62400" y="6361200"/>
            <a:ext cx="6606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6603840"/>
            <a:ext cx="633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62400" y="6719760"/>
            <a:ext cx="66060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72120" y="696276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0" y="7078680"/>
            <a:ext cx="66060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72120" y="732312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62400" y="7439040"/>
            <a:ext cx="660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72120" y="768204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62400" y="7797960"/>
            <a:ext cx="6606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72120" y="8040600"/>
            <a:ext cx="633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086800" y="6035760"/>
            <a:ext cx="796320" cy="307440"/>
            <a:chOff x="5086800" y="6035760"/>
            <a:chExt cx="796320" cy="307440"/>
          </a:xfrm>
        </p:grpSpPr>
        <p:sp>
          <p:nvSpPr>
            <p:cNvPr id="213" name=""/>
            <p:cNvSpPr/>
            <p:nvPr/>
          </p:nvSpPr>
          <p:spPr>
            <a:xfrm>
              <a:off x="5335920" y="6035760"/>
              <a:ext cx="29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6800" y="617544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12400" y="5386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4600" y="573408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n example is show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" y="2416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0640" y="6477120"/>
            <a:ext cx="303120" cy="12600"/>
          </a:xfrm>
          <a:custGeom>
            <a:avLst/>
            <a:gdLst/>
            <a:ahLst/>
            <a:rect l="l" t="t" r="r" b="b"/>
            <a:pathLst>
              <a:path w="191" h="8">
                <a:moveTo>
                  <a:pt x="0" y="7"/>
                </a:moveTo>
                <a:lnTo>
                  <a:pt x="88" y="0"/>
                </a:lnTo>
                <a:lnTo>
                  <a:pt x="19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6120" y="640728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lnTo>
                  <a:pt x="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8120" y="6418440"/>
            <a:ext cx="69840" cy="152280"/>
          </a:xfrm>
          <a:custGeom>
            <a:avLst/>
            <a:gdLst/>
            <a:ahLst/>
            <a:rect l="l" t="t" r="r" b="b"/>
            <a:pathLst>
              <a:path w="44" h="96">
                <a:moveTo>
                  <a:pt x="43" y="15"/>
                </a:moveTo>
                <a:lnTo>
                  <a:pt x="36" y="0"/>
                </a:lnTo>
                <a:lnTo>
                  <a:pt x="7" y="7"/>
                </a:lnTo>
                <a:lnTo>
                  <a:pt x="0" y="22"/>
                </a:lnTo>
                <a:lnTo>
                  <a:pt x="21" y="44"/>
                </a:lnTo>
                <a:lnTo>
                  <a:pt x="36" y="37"/>
                </a:lnTo>
                <a:lnTo>
                  <a:pt x="43" y="0"/>
                </a:lnTo>
                <a:lnTo>
                  <a:pt x="43" y="59"/>
                </a:lnTo>
                <a:lnTo>
                  <a:pt x="36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49280" y="6429240"/>
            <a:ext cx="58680" cy="141480"/>
          </a:xfrm>
          <a:custGeom>
            <a:avLst/>
            <a:gdLst/>
            <a:ahLst/>
            <a:rect l="l" t="t" r="r" b="b"/>
            <a:pathLst>
              <a:path w="37" h="89">
                <a:moveTo>
                  <a:pt x="36" y="8"/>
                </a:moveTo>
                <a:lnTo>
                  <a:pt x="36" y="0"/>
                </a:lnTo>
                <a:lnTo>
                  <a:pt x="29" y="0"/>
                </a:lnTo>
                <a:lnTo>
                  <a:pt x="14" y="0"/>
                </a:lnTo>
                <a:lnTo>
                  <a:pt x="7" y="0"/>
                </a:lnTo>
                <a:lnTo>
                  <a:pt x="0" y="8"/>
                </a:lnTo>
                <a:lnTo>
                  <a:pt x="0" y="22"/>
                </a:lnTo>
                <a:lnTo>
                  <a:pt x="7" y="22"/>
                </a:lnTo>
                <a:lnTo>
                  <a:pt x="14" y="37"/>
                </a:lnTo>
                <a:lnTo>
                  <a:pt x="14" y="30"/>
                </a:lnTo>
                <a:lnTo>
                  <a:pt x="22" y="30"/>
                </a:lnTo>
                <a:lnTo>
                  <a:pt x="29" y="30"/>
                </a:lnTo>
                <a:lnTo>
                  <a:pt x="36" y="22"/>
                </a:lnTo>
                <a:lnTo>
                  <a:pt x="36" y="15"/>
                </a:lnTo>
                <a:lnTo>
                  <a:pt x="36" y="8"/>
                </a:lnTo>
                <a:lnTo>
                  <a:pt x="36" y="15"/>
                </a:lnTo>
                <a:lnTo>
                  <a:pt x="36" y="22"/>
                </a:lnTo>
                <a:lnTo>
                  <a:pt x="36" y="37"/>
                </a:lnTo>
                <a:lnTo>
                  <a:pt x="36" y="66"/>
                </a:lnTo>
                <a:lnTo>
                  <a:pt x="29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37080" y="6418440"/>
            <a:ext cx="104760" cy="128520"/>
          </a:xfrm>
          <a:custGeom>
            <a:avLst/>
            <a:gdLst/>
            <a:ahLst/>
            <a:rect l="l" t="t" r="r" b="b"/>
            <a:pathLst>
              <a:path w="66" h="81">
                <a:moveTo>
                  <a:pt x="7" y="15"/>
                </a:moveTo>
                <a:lnTo>
                  <a:pt x="29" y="0"/>
                </a:lnTo>
                <a:lnTo>
                  <a:pt x="43" y="0"/>
                </a:lnTo>
                <a:lnTo>
                  <a:pt x="51" y="22"/>
                </a:lnTo>
                <a:lnTo>
                  <a:pt x="43" y="59"/>
                </a:lnTo>
                <a:lnTo>
                  <a:pt x="22" y="73"/>
                </a:lnTo>
                <a:lnTo>
                  <a:pt x="0" y="80"/>
                </a:lnTo>
                <a:lnTo>
                  <a:pt x="7" y="73"/>
                </a:lnTo>
                <a:lnTo>
                  <a:pt x="58" y="80"/>
                </a:lnTo>
                <a:lnTo>
                  <a:pt x="65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45160" y="6396120"/>
            <a:ext cx="82440" cy="163440"/>
          </a:xfrm>
          <a:custGeom>
            <a:avLst/>
            <a:gdLst/>
            <a:ahLst/>
            <a:rect l="l" t="t" r="r" b="b"/>
            <a:pathLst>
              <a:path w="52" h="103">
                <a:moveTo>
                  <a:pt x="37" y="0"/>
                </a:moveTo>
                <a:lnTo>
                  <a:pt x="15" y="0"/>
                </a:lnTo>
                <a:lnTo>
                  <a:pt x="0" y="36"/>
                </a:lnTo>
                <a:lnTo>
                  <a:pt x="0" y="80"/>
                </a:lnTo>
                <a:lnTo>
                  <a:pt x="15" y="102"/>
                </a:lnTo>
                <a:lnTo>
                  <a:pt x="37" y="102"/>
                </a:lnTo>
                <a:lnTo>
                  <a:pt x="51" y="80"/>
                </a:lnTo>
                <a:lnTo>
                  <a:pt x="29" y="51"/>
                </a:lnTo>
                <a:lnTo>
                  <a:pt x="15" y="51"/>
                </a:lnTo>
                <a:lnTo>
                  <a:pt x="0" y="65"/>
                </a:lnTo>
                <a:lnTo>
                  <a:pt x="7" y="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99080" y="646416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694040" y="6459480"/>
            <a:ext cx="2052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7120" y="8456760"/>
            <a:ext cx="370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often does a coach advise you about your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" y="8305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12680" y="8771040"/>
            <a:ext cx="1954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3960" y="870912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7840" y="883620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t 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9240" y="877104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01360" y="8709120"/>
            <a:ext cx="48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32440" y="8836200"/>
            <a:ext cx="7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nce a mon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52840" y="877104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27720" y="8709120"/>
            <a:ext cx="7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nce or tw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27240" y="8836200"/>
            <a:ext cx="45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mon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8771040"/>
            <a:ext cx="1936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3600" y="8709120"/>
            <a:ext cx="61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bout o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80680" y="8836200"/>
            <a:ext cx="39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16600" y="8771040"/>
            <a:ext cx="1951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10920" y="8709120"/>
            <a:ext cx="7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veral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0760" y="8836200"/>
            <a:ext cx="39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21040" y="6429240"/>
            <a:ext cx="82440" cy="117720"/>
          </a:xfrm>
          <a:custGeom>
            <a:avLst/>
            <a:gdLst/>
            <a:ahLst/>
            <a:rect l="l" t="t" r="r" b="b"/>
            <a:pathLst>
              <a:path w="52" h="74">
                <a:moveTo>
                  <a:pt x="51" y="15"/>
                </a:moveTo>
                <a:lnTo>
                  <a:pt x="37" y="0"/>
                </a:lnTo>
                <a:lnTo>
                  <a:pt x="0" y="8"/>
                </a:lnTo>
                <a:lnTo>
                  <a:pt x="15" y="30"/>
                </a:lnTo>
                <a:lnTo>
                  <a:pt x="51" y="44"/>
                </a:lnTo>
                <a:lnTo>
                  <a:pt x="51" y="66"/>
                </a:lnTo>
                <a:lnTo>
                  <a:pt x="22" y="73"/>
                </a:lnTo>
                <a:lnTo>
                  <a:pt x="0" y="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7960" y="6383160"/>
            <a:ext cx="36720" cy="163800"/>
          </a:xfrm>
          <a:custGeom>
            <a:avLst/>
            <a:gdLst/>
            <a:ahLst/>
            <a:rect l="l" t="t" r="r" b="b"/>
            <a:pathLst>
              <a:path w="23" h="103">
                <a:moveTo>
                  <a:pt x="22" y="0"/>
                </a:moveTo>
                <a:lnTo>
                  <a:pt x="7" y="37"/>
                </a:lnTo>
                <a:lnTo>
                  <a:pt x="0" y="88"/>
                </a:lnTo>
                <a:lnTo>
                  <a:pt x="14" y="102"/>
                </a:lnTo>
                <a:lnTo>
                  <a:pt x="22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65360" y="6429240"/>
            <a:ext cx="84240" cy="14400"/>
          </a:xfrm>
          <a:custGeom>
            <a:avLst/>
            <a:gdLst/>
            <a:ahLst/>
            <a:rect l="l" t="t" r="r" b="b"/>
            <a:pathLst>
              <a:path w="53" h="9">
                <a:moveTo>
                  <a:pt x="0" y="0"/>
                </a:moveTo>
                <a:lnTo>
                  <a:pt x="44" y="8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65360" y="6429240"/>
            <a:ext cx="84240" cy="14400"/>
          </a:xfrm>
          <a:custGeom>
            <a:avLst/>
            <a:gdLst/>
            <a:ahLst/>
            <a:rect l="l" t="t" r="r" b="b"/>
            <a:pathLst>
              <a:path w="53" h="9">
                <a:moveTo>
                  <a:pt x="0" y="0"/>
                </a:moveTo>
                <a:lnTo>
                  <a:pt x="8" y="0"/>
                </a:lnTo>
                <a:lnTo>
                  <a:pt x="30" y="8"/>
                </a:lnTo>
                <a:lnTo>
                  <a:pt x="37" y="8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27120" y="6442200"/>
            <a:ext cx="106560" cy="104760"/>
          </a:xfrm>
          <a:custGeom>
            <a:avLst/>
            <a:gdLst/>
            <a:ahLst/>
            <a:rect l="l" t="t" r="r" b="b"/>
            <a:pathLst>
              <a:path w="67" h="66">
                <a:moveTo>
                  <a:pt x="0" y="0"/>
                </a:moveTo>
                <a:lnTo>
                  <a:pt x="0" y="58"/>
                </a:lnTo>
                <a:lnTo>
                  <a:pt x="0" y="29"/>
                </a:lnTo>
                <a:lnTo>
                  <a:pt x="14" y="7"/>
                </a:lnTo>
                <a:lnTo>
                  <a:pt x="36" y="7"/>
                </a:lnTo>
                <a:lnTo>
                  <a:pt x="51" y="22"/>
                </a:lnTo>
                <a:lnTo>
                  <a:pt x="58" y="65"/>
                </a:lnTo>
                <a:lnTo>
                  <a:pt x="66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5800" y="6442200"/>
            <a:ext cx="106200" cy="187200"/>
          </a:xfrm>
          <a:custGeom>
            <a:avLst/>
            <a:gdLst/>
            <a:ahLst/>
            <a:rect l="l" t="t" r="r" b="b"/>
            <a:pathLst>
              <a:path w="67" h="118">
                <a:moveTo>
                  <a:pt x="0" y="58"/>
                </a:moveTo>
                <a:lnTo>
                  <a:pt x="44" y="65"/>
                </a:lnTo>
                <a:lnTo>
                  <a:pt x="66" y="51"/>
                </a:lnTo>
                <a:lnTo>
                  <a:pt x="66" y="14"/>
                </a:lnTo>
                <a:lnTo>
                  <a:pt x="36" y="0"/>
                </a:lnTo>
                <a:lnTo>
                  <a:pt x="22" y="14"/>
                </a:lnTo>
                <a:lnTo>
                  <a:pt x="7" y="87"/>
                </a:lnTo>
                <a:lnTo>
                  <a:pt x="0" y="117"/>
                </a:lnTo>
                <a:lnTo>
                  <a:pt x="15" y="87"/>
                </a:lnTo>
                <a:lnTo>
                  <a:pt x="15" y="22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52520" y="6429240"/>
            <a:ext cx="82800" cy="130320"/>
          </a:xfrm>
          <a:custGeom>
            <a:avLst/>
            <a:gdLst/>
            <a:ahLst/>
            <a:rect l="l" t="t" r="r" b="b"/>
            <a:pathLst>
              <a:path w="52" h="82">
                <a:moveTo>
                  <a:pt x="0" y="0"/>
                </a:moveTo>
                <a:lnTo>
                  <a:pt x="8" y="52"/>
                </a:lnTo>
                <a:lnTo>
                  <a:pt x="8" y="81"/>
                </a:lnTo>
                <a:lnTo>
                  <a:pt x="0" y="15"/>
                </a:lnTo>
                <a:lnTo>
                  <a:pt x="15" y="8"/>
                </a:lnTo>
                <a:lnTo>
                  <a:pt x="51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8440" y="6453360"/>
            <a:ext cx="14400" cy="93600"/>
          </a:xfrm>
          <a:custGeom>
            <a:avLst/>
            <a:gdLst/>
            <a:ahLst/>
            <a:rect l="l" t="t" r="r" b="b"/>
            <a:pathLst>
              <a:path w="9" h="59">
                <a:moveTo>
                  <a:pt x="0" y="0"/>
                </a:moveTo>
                <a:lnTo>
                  <a:pt x="8" y="22"/>
                </a:lnTo>
                <a:lnTo>
                  <a:pt x="0" y="58"/>
                </a:lnTo>
                <a:lnTo>
                  <a:pt x="8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3760" y="6413400"/>
            <a:ext cx="9720" cy="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1360" y="6396120"/>
            <a:ext cx="14400" cy="163440"/>
          </a:xfrm>
          <a:custGeom>
            <a:avLst/>
            <a:gdLst/>
            <a:ahLst/>
            <a:rect l="l" t="t" r="r" b="b"/>
            <a:pathLst>
              <a:path w="9" h="103">
                <a:moveTo>
                  <a:pt x="0" y="0"/>
                </a:moveTo>
                <a:lnTo>
                  <a:pt x="8" y="29"/>
                </a:lnTo>
                <a:lnTo>
                  <a:pt x="0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4160" y="6396120"/>
            <a:ext cx="150840" cy="163440"/>
          </a:xfrm>
          <a:custGeom>
            <a:avLst/>
            <a:gdLst/>
            <a:ahLst/>
            <a:rect l="l" t="t" r="r" b="b"/>
            <a:pathLst>
              <a:path w="95" h="103">
                <a:moveTo>
                  <a:pt x="51" y="0"/>
                </a:moveTo>
                <a:lnTo>
                  <a:pt x="29" y="7"/>
                </a:lnTo>
                <a:lnTo>
                  <a:pt x="7" y="29"/>
                </a:lnTo>
                <a:lnTo>
                  <a:pt x="0" y="65"/>
                </a:lnTo>
                <a:lnTo>
                  <a:pt x="29" y="94"/>
                </a:lnTo>
                <a:lnTo>
                  <a:pt x="58" y="102"/>
                </a:lnTo>
                <a:lnTo>
                  <a:pt x="87" y="80"/>
                </a:lnTo>
                <a:lnTo>
                  <a:pt x="94" y="58"/>
                </a:lnTo>
                <a:lnTo>
                  <a:pt x="73" y="14"/>
                </a:lnTo>
                <a:lnTo>
                  <a:pt x="51" y="0"/>
                </a:lnTo>
                <a:lnTo>
                  <a:pt x="36" y="7"/>
                </a:lnTo>
                <a:lnTo>
                  <a:pt x="21" y="14"/>
                </a:lnTo>
                <a:lnTo>
                  <a:pt x="14" y="21"/>
                </a:lnTo>
                <a:lnTo>
                  <a:pt x="7" y="36"/>
                </a:lnTo>
                <a:lnTo>
                  <a:pt x="7" y="43"/>
                </a:lnTo>
                <a:lnTo>
                  <a:pt x="7" y="58"/>
                </a:lnTo>
                <a:lnTo>
                  <a:pt x="7" y="73"/>
                </a:lnTo>
                <a:lnTo>
                  <a:pt x="14" y="80"/>
                </a:lnTo>
                <a:lnTo>
                  <a:pt x="21" y="87"/>
                </a:lnTo>
                <a:lnTo>
                  <a:pt x="36" y="102"/>
                </a:lnTo>
                <a:lnTo>
                  <a:pt x="43" y="102"/>
                </a:lnTo>
                <a:lnTo>
                  <a:pt x="51" y="102"/>
                </a:lnTo>
                <a:lnTo>
                  <a:pt x="65" y="102"/>
                </a:lnTo>
                <a:lnTo>
                  <a:pt x="73" y="94"/>
                </a:lnTo>
                <a:lnTo>
                  <a:pt x="80" y="87"/>
                </a:lnTo>
                <a:lnTo>
                  <a:pt x="87" y="80"/>
                </a:lnTo>
                <a:lnTo>
                  <a:pt x="87" y="73"/>
                </a:lnTo>
                <a:lnTo>
                  <a:pt x="87" y="65"/>
                </a:lnTo>
                <a:lnTo>
                  <a:pt x="87" y="51"/>
                </a:lnTo>
                <a:lnTo>
                  <a:pt x="87" y="43"/>
                </a:lnTo>
                <a:lnTo>
                  <a:pt x="80" y="36"/>
                </a:lnTo>
                <a:lnTo>
                  <a:pt x="80" y="29"/>
                </a:lnTo>
                <a:lnTo>
                  <a:pt x="65" y="7"/>
                </a:lnTo>
                <a:lnTo>
                  <a:pt x="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78120" y="6407280"/>
            <a:ext cx="141480" cy="174600"/>
          </a:xfrm>
          <a:custGeom>
            <a:avLst/>
            <a:gdLst/>
            <a:ahLst/>
            <a:rect l="l" t="t" r="r" b="b"/>
            <a:pathLst>
              <a:path w="89" h="110">
                <a:moveTo>
                  <a:pt x="51" y="0"/>
                </a:moveTo>
                <a:lnTo>
                  <a:pt x="37" y="0"/>
                </a:lnTo>
                <a:lnTo>
                  <a:pt x="0" y="36"/>
                </a:lnTo>
                <a:lnTo>
                  <a:pt x="8" y="73"/>
                </a:lnTo>
                <a:lnTo>
                  <a:pt x="22" y="102"/>
                </a:lnTo>
                <a:lnTo>
                  <a:pt x="51" y="109"/>
                </a:lnTo>
                <a:lnTo>
                  <a:pt x="81" y="87"/>
                </a:lnTo>
                <a:lnTo>
                  <a:pt x="88" y="51"/>
                </a:lnTo>
                <a:lnTo>
                  <a:pt x="73" y="14"/>
                </a:lnTo>
                <a:lnTo>
                  <a:pt x="51" y="0"/>
                </a:lnTo>
                <a:lnTo>
                  <a:pt x="44" y="0"/>
                </a:lnTo>
                <a:lnTo>
                  <a:pt x="37" y="7"/>
                </a:lnTo>
                <a:lnTo>
                  <a:pt x="22" y="14"/>
                </a:lnTo>
                <a:lnTo>
                  <a:pt x="15" y="22"/>
                </a:lnTo>
                <a:lnTo>
                  <a:pt x="8" y="29"/>
                </a:lnTo>
                <a:lnTo>
                  <a:pt x="0" y="44"/>
                </a:lnTo>
                <a:lnTo>
                  <a:pt x="0" y="51"/>
                </a:lnTo>
                <a:lnTo>
                  <a:pt x="8" y="66"/>
                </a:lnTo>
                <a:lnTo>
                  <a:pt x="15" y="80"/>
                </a:lnTo>
                <a:lnTo>
                  <a:pt x="15" y="87"/>
                </a:lnTo>
                <a:lnTo>
                  <a:pt x="22" y="95"/>
                </a:lnTo>
                <a:lnTo>
                  <a:pt x="30" y="102"/>
                </a:lnTo>
                <a:lnTo>
                  <a:pt x="37" y="102"/>
                </a:lnTo>
                <a:lnTo>
                  <a:pt x="44" y="102"/>
                </a:lnTo>
                <a:lnTo>
                  <a:pt x="59" y="102"/>
                </a:lnTo>
                <a:lnTo>
                  <a:pt x="66" y="95"/>
                </a:lnTo>
                <a:lnTo>
                  <a:pt x="73" y="95"/>
                </a:lnTo>
                <a:lnTo>
                  <a:pt x="88" y="80"/>
                </a:lnTo>
                <a:lnTo>
                  <a:pt x="88" y="73"/>
                </a:lnTo>
                <a:lnTo>
                  <a:pt x="88" y="66"/>
                </a:lnTo>
                <a:lnTo>
                  <a:pt x="88" y="44"/>
                </a:lnTo>
                <a:lnTo>
                  <a:pt x="81" y="29"/>
                </a:lnTo>
                <a:lnTo>
                  <a:pt x="81" y="22"/>
                </a:lnTo>
                <a:lnTo>
                  <a:pt x="66" y="7"/>
                </a:lnTo>
                <a:lnTo>
                  <a:pt x="5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8800" y="6464160"/>
            <a:ext cx="106560" cy="117720"/>
          </a:xfrm>
          <a:custGeom>
            <a:avLst/>
            <a:gdLst/>
            <a:ahLst/>
            <a:rect l="l" t="t" r="r" b="b"/>
            <a:pathLst>
              <a:path w="67" h="74">
                <a:moveTo>
                  <a:pt x="0" y="0"/>
                </a:moveTo>
                <a:lnTo>
                  <a:pt x="0" y="66"/>
                </a:lnTo>
                <a:lnTo>
                  <a:pt x="0" y="51"/>
                </a:lnTo>
                <a:lnTo>
                  <a:pt x="0" y="30"/>
                </a:lnTo>
                <a:lnTo>
                  <a:pt x="22" y="8"/>
                </a:lnTo>
                <a:lnTo>
                  <a:pt x="29" y="66"/>
                </a:lnTo>
                <a:lnTo>
                  <a:pt x="29" y="30"/>
                </a:lnTo>
                <a:lnTo>
                  <a:pt x="51" y="8"/>
                </a:lnTo>
                <a:lnTo>
                  <a:pt x="66" y="15"/>
                </a:lnTo>
                <a:lnTo>
                  <a:pt x="66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8400" y="640728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7" y="0"/>
                </a:moveTo>
                <a:lnTo>
                  <a:pt x="7" y="22"/>
                </a:lnTo>
                <a:lnTo>
                  <a:pt x="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1320" y="1125360"/>
            <a:ext cx="187200" cy="1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114156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1320" y="1125360"/>
            <a:ext cx="187200" cy="1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41560" y="11415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3520" y="1560600"/>
            <a:ext cx="137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heigh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3520" y="1141560"/>
            <a:ext cx="118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sex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3880" y="690480"/>
            <a:ext cx="119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a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22360" y="6904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6880" y="633240"/>
            <a:ext cx="4748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76240" y="88884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72480" y="1560600"/>
            <a:ext cx="55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m  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40040" y="1490760"/>
            <a:ext cx="47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4940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7960" y="156060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e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92480" y="1490760"/>
            <a:ext cx="4744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184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15360" y="1560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ch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57720" y="1490760"/>
            <a:ext cx="47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4600" y="2011320"/>
            <a:ext cx="180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at is your usual weigh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67040" y="199872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kg  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11560" y="1932120"/>
            <a:ext cx="4744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20920" y="218592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19840" y="19987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2200" y="1932120"/>
            <a:ext cx="4762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1920" y="2185920"/>
            <a:ext cx="447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199872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29240" y="1932120"/>
            <a:ext cx="4744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38600" y="218592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96920" y="6416640"/>
            <a:ext cx="95400" cy="130320"/>
          </a:xfrm>
          <a:custGeom>
            <a:avLst/>
            <a:gdLst/>
            <a:ahLst/>
            <a:rect l="l" t="t" r="r" b="b"/>
            <a:pathLst>
              <a:path w="60" h="82">
                <a:moveTo>
                  <a:pt x="8" y="15"/>
                </a:moveTo>
                <a:lnTo>
                  <a:pt x="22" y="0"/>
                </a:lnTo>
                <a:lnTo>
                  <a:pt x="37" y="0"/>
                </a:lnTo>
                <a:lnTo>
                  <a:pt x="44" y="22"/>
                </a:lnTo>
                <a:lnTo>
                  <a:pt x="37" y="59"/>
                </a:lnTo>
                <a:lnTo>
                  <a:pt x="15" y="73"/>
                </a:lnTo>
                <a:lnTo>
                  <a:pt x="0" y="81"/>
                </a:lnTo>
                <a:lnTo>
                  <a:pt x="0" y="66"/>
                </a:lnTo>
                <a:lnTo>
                  <a:pt x="51" y="81"/>
                </a:lnTo>
                <a:lnTo>
                  <a:pt x="59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0000" y="6424560"/>
            <a:ext cx="69840" cy="152280"/>
          </a:xfrm>
          <a:custGeom>
            <a:avLst/>
            <a:gdLst/>
            <a:ahLst/>
            <a:rect l="l" t="t" r="r" b="b"/>
            <a:pathLst>
              <a:path w="44" h="96">
                <a:moveTo>
                  <a:pt x="43" y="15"/>
                </a:moveTo>
                <a:lnTo>
                  <a:pt x="36" y="0"/>
                </a:lnTo>
                <a:lnTo>
                  <a:pt x="7" y="7"/>
                </a:lnTo>
                <a:lnTo>
                  <a:pt x="0" y="22"/>
                </a:lnTo>
                <a:lnTo>
                  <a:pt x="21" y="44"/>
                </a:lnTo>
                <a:lnTo>
                  <a:pt x="36" y="37"/>
                </a:lnTo>
                <a:lnTo>
                  <a:pt x="43" y="0"/>
                </a:lnTo>
                <a:lnTo>
                  <a:pt x="43" y="59"/>
                </a:lnTo>
                <a:lnTo>
                  <a:pt x="36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6435720"/>
            <a:ext cx="59040" cy="141120"/>
          </a:xfrm>
          <a:custGeom>
            <a:avLst/>
            <a:gdLst/>
            <a:ahLst/>
            <a:rect l="l" t="t" r="r" b="b"/>
            <a:pathLst>
              <a:path w="37" h="89">
                <a:moveTo>
                  <a:pt x="36" y="8"/>
                </a:moveTo>
                <a:lnTo>
                  <a:pt x="36" y="0"/>
                </a:lnTo>
                <a:lnTo>
                  <a:pt x="29" y="0"/>
                </a:lnTo>
                <a:lnTo>
                  <a:pt x="14" y="0"/>
                </a:lnTo>
                <a:lnTo>
                  <a:pt x="7" y="0"/>
                </a:lnTo>
                <a:lnTo>
                  <a:pt x="0" y="8"/>
                </a:lnTo>
                <a:lnTo>
                  <a:pt x="0" y="22"/>
                </a:lnTo>
                <a:lnTo>
                  <a:pt x="7" y="22"/>
                </a:lnTo>
                <a:lnTo>
                  <a:pt x="14" y="37"/>
                </a:lnTo>
                <a:lnTo>
                  <a:pt x="14" y="30"/>
                </a:lnTo>
                <a:lnTo>
                  <a:pt x="22" y="30"/>
                </a:lnTo>
                <a:lnTo>
                  <a:pt x="29" y="30"/>
                </a:lnTo>
                <a:lnTo>
                  <a:pt x="36" y="22"/>
                </a:lnTo>
                <a:lnTo>
                  <a:pt x="36" y="15"/>
                </a:lnTo>
                <a:lnTo>
                  <a:pt x="36" y="8"/>
                </a:lnTo>
                <a:lnTo>
                  <a:pt x="36" y="15"/>
                </a:lnTo>
                <a:lnTo>
                  <a:pt x="36" y="22"/>
                </a:lnTo>
                <a:lnTo>
                  <a:pt x="36" y="37"/>
                </a:lnTo>
                <a:lnTo>
                  <a:pt x="36" y="66"/>
                </a:lnTo>
                <a:lnTo>
                  <a:pt x="29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0" y="10018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0" y="140796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0" y="18399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0" y="32115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0" y="39862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0" y="45705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360" y="450720"/>
            <a:ext cx="695772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36360" y="2309760"/>
            <a:ext cx="693252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5294160"/>
            <a:ext cx="693252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36360" y="8223120"/>
            <a:ext cx="693252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96760" y="6413400"/>
            <a:ext cx="1800" cy="15264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lnTo>
                  <a:pt x="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9400" y="640080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lnTo>
                  <a:pt x="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4720" y="2943360"/>
            <a:ext cx="402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lease list ALL your training problems in the last 6 month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3080" y="3902040"/>
            <a:ext cx="223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ason for lost or reduced 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68880" y="37609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9560" y="39243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6680" y="376092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30960" y="39243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5080" y="907920"/>
            <a:ext cx="480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ere is a list of problems that make athletes stop or reduce their train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2720" y="119052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200" y="119052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LLNE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67800" y="1193760"/>
            <a:ext cx="357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lds, flu, viruses, asthma, stomach upsets, infec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1880" y="1190520"/>
            <a:ext cx="19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141912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7640" y="1419120"/>
            <a:ext cx="16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RAINING INJUR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32600" y="1432080"/>
            <a:ext cx="23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prains, fractures, pain in muscle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9600" y="1419120"/>
            <a:ext cx="19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2720" y="164772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647720"/>
            <a:ext cx="131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VER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51800" y="1666800"/>
            <a:ext cx="393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ouldn't reach your usual training and performance targe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51080" y="1830240"/>
            <a:ext cx="41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have felt very tired, worried or lacking in confide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48920" y="19940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had sore muscles and bad mood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90400" y="4152960"/>
            <a:ext cx="5705280" cy="263520"/>
            <a:chOff x="590400" y="4152960"/>
            <a:chExt cx="5705280" cy="263520"/>
          </a:xfrm>
        </p:grpSpPr>
        <p:grpSp>
          <p:nvGrpSpPr>
            <p:cNvPr id="322" name=""/>
            <p:cNvGrpSpPr/>
            <p:nvPr/>
          </p:nvGrpSpPr>
          <p:grpSpPr>
            <a:xfrm>
              <a:off x="590400" y="4152960"/>
              <a:ext cx="3243240" cy="260280"/>
              <a:chOff x="590400" y="4152960"/>
              <a:chExt cx="3243240" cy="260280"/>
            </a:xfrm>
          </p:grpSpPr>
          <p:sp>
            <p:nvSpPr>
              <p:cNvPr id="323" name=""/>
              <p:cNvSpPr/>
              <p:nvPr/>
            </p:nvSpPr>
            <p:spPr>
              <a:xfrm>
                <a:off x="590400" y="4152960"/>
                <a:ext cx="324324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2200" y="440208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246560" y="4152960"/>
              <a:ext cx="856800" cy="263520"/>
              <a:chOff x="4246560" y="4152960"/>
              <a:chExt cx="856800" cy="2635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246560" y="4152960"/>
                <a:ext cx="495360" cy="249120"/>
                <a:chOff x="4246560" y="4152960"/>
                <a:chExt cx="495360" cy="24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246560" y="4152960"/>
                  <a:ext cx="495360" cy="24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248000" y="439272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4800960" y="421812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37080" y="4152960"/>
              <a:ext cx="858600" cy="263520"/>
              <a:chOff x="5437080" y="4152960"/>
              <a:chExt cx="858600" cy="2635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437080" y="4152960"/>
                <a:ext cx="495360" cy="249120"/>
                <a:chOff x="5437080" y="4152960"/>
                <a:chExt cx="495360" cy="24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437080" y="4152960"/>
                  <a:ext cx="495360" cy="24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438880" y="439272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5993280" y="421812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90400" y="4533840"/>
            <a:ext cx="5705280" cy="263520"/>
            <a:chOff x="590400" y="4533840"/>
            <a:chExt cx="5705280" cy="263520"/>
          </a:xfrm>
        </p:grpSpPr>
        <p:grpSp>
          <p:nvGrpSpPr>
            <p:cNvPr id="336" name=""/>
            <p:cNvGrpSpPr/>
            <p:nvPr/>
          </p:nvGrpSpPr>
          <p:grpSpPr>
            <a:xfrm>
              <a:off x="590400" y="4533840"/>
              <a:ext cx="3243240" cy="260280"/>
              <a:chOff x="590400" y="4533840"/>
              <a:chExt cx="3243240" cy="260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90400" y="4533840"/>
                <a:ext cx="324324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92200" y="478476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246560" y="4533840"/>
              <a:ext cx="856800" cy="263520"/>
              <a:chOff x="4246560" y="4533840"/>
              <a:chExt cx="856800" cy="2635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4246560" y="4533840"/>
                <a:ext cx="495360" cy="260280"/>
                <a:chOff x="4246560" y="4533840"/>
                <a:chExt cx="495360" cy="2602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246560" y="4533840"/>
                  <a:ext cx="495360" cy="26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248000" y="478476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800960" y="459900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437080" y="4533840"/>
              <a:ext cx="858600" cy="263520"/>
              <a:chOff x="5437080" y="4533840"/>
              <a:chExt cx="858600" cy="2635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5437080" y="4533840"/>
                <a:ext cx="495360" cy="260280"/>
                <a:chOff x="5437080" y="4533840"/>
                <a:chExt cx="495360" cy="260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437080" y="4533840"/>
                  <a:ext cx="495360" cy="26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438880" y="478476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5993280" y="459900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590400" y="4915080"/>
            <a:ext cx="5705280" cy="274320"/>
            <a:chOff x="590400" y="4915080"/>
            <a:chExt cx="5705280" cy="274320"/>
          </a:xfrm>
        </p:grpSpPr>
        <p:grpSp>
          <p:nvGrpSpPr>
            <p:cNvPr id="350" name=""/>
            <p:cNvGrpSpPr/>
            <p:nvPr/>
          </p:nvGrpSpPr>
          <p:grpSpPr>
            <a:xfrm>
              <a:off x="590400" y="4915080"/>
              <a:ext cx="3243240" cy="261720"/>
              <a:chOff x="590400" y="4915080"/>
              <a:chExt cx="3243240" cy="261720"/>
            </a:xfrm>
          </p:grpSpPr>
          <p:sp>
            <p:nvSpPr>
              <p:cNvPr id="351" name=""/>
              <p:cNvSpPr/>
              <p:nvPr/>
            </p:nvSpPr>
            <p:spPr>
              <a:xfrm>
                <a:off x="590400" y="4915080"/>
                <a:ext cx="324324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2200" y="516564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246560" y="4915080"/>
              <a:ext cx="856800" cy="274320"/>
              <a:chOff x="4246560" y="4915080"/>
              <a:chExt cx="856800" cy="2743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4246560" y="4915080"/>
                <a:ext cx="495360" cy="261720"/>
                <a:chOff x="4246560" y="4915080"/>
                <a:chExt cx="495360" cy="2617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246560" y="491508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8000" y="516564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4800960" y="49910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37080" y="4915080"/>
              <a:ext cx="858600" cy="274320"/>
              <a:chOff x="5437080" y="4915080"/>
              <a:chExt cx="858600" cy="274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5437080" y="4915080"/>
                <a:ext cx="495360" cy="261720"/>
                <a:chOff x="5437080" y="4915080"/>
                <a:chExt cx="495360" cy="2617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437080" y="491508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438880" y="516564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5993280" y="49910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590400" y="5295960"/>
            <a:ext cx="5705280" cy="274680"/>
            <a:chOff x="590400" y="5295960"/>
            <a:chExt cx="5705280" cy="274680"/>
          </a:xfrm>
        </p:grpSpPr>
        <p:grpSp>
          <p:nvGrpSpPr>
            <p:cNvPr id="364" name=""/>
            <p:cNvGrpSpPr/>
            <p:nvPr/>
          </p:nvGrpSpPr>
          <p:grpSpPr>
            <a:xfrm>
              <a:off x="590400" y="5307120"/>
              <a:ext cx="3243240" cy="250560"/>
              <a:chOff x="590400" y="5307120"/>
              <a:chExt cx="3243240" cy="250560"/>
            </a:xfrm>
          </p:grpSpPr>
          <p:sp>
            <p:nvSpPr>
              <p:cNvPr id="365" name=""/>
              <p:cNvSpPr/>
              <p:nvPr/>
            </p:nvSpPr>
            <p:spPr>
              <a:xfrm>
                <a:off x="590400" y="5307120"/>
                <a:ext cx="324324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2200" y="554688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246560" y="5295960"/>
              <a:ext cx="856800" cy="274680"/>
              <a:chOff x="4246560" y="5295960"/>
              <a:chExt cx="856800" cy="2746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4246560" y="5295960"/>
                <a:ext cx="495360" cy="261720"/>
                <a:chOff x="4246560" y="5295960"/>
                <a:chExt cx="495360" cy="261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246560" y="529596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248000" y="554688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4800960" y="537228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437080" y="5295960"/>
              <a:ext cx="858600" cy="274680"/>
              <a:chOff x="5437080" y="5295960"/>
              <a:chExt cx="858600" cy="2746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437080" y="5295960"/>
                <a:ext cx="495360" cy="261720"/>
                <a:chOff x="5437080" y="5295960"/>
                <a:chExt cx="495360" cy="261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437080" y="529596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438880" y="554688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5993280" y="537228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90400" y="5688000"/>
            <a:ext cx="5705280" cy="263520"/>
            <a:chOff x="590400" y="5688000"/>
            <a:chExt cx="5705280" cy="263520"/>
          </a:xfrm>
        </p:grpSpPr>
        <p:grpSp>
          <p:nvGrpSpPr>
            <p:cNvPr id="378" name=""/>
            <p:cNvGrpSpPr/>
            <p:nvPr/>
          </p:nvGrpSpPr>
          <p:grpSpPr>
            <a:xfrm>
              <a:off x="590400" y="5688000"/>
              <a:ext cx="3243240" cy="262080"/>
              <a:chOff x="590400" y="5688000"/>
              <a:chExt cx="3243240" cy="262080"/>
            </a:xfrm>
          </p:grpSpPr>
          <p:sp>
            <p:nvSpPr>
              <p:cNvPr id="379" name=""/>
              <p:cNvSpPr/>
              <p:nvPr/>
            </p:nvSpPr>
            <p:spPr>
              <a:xfrm>
                <a:off x="590400" y="5688000"/>
                <a:ext cx="3243240" cy="2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2200" y="593892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246560" y="5688000"/>
              <a:ext cx="856800" cy="263520"/>
              <a:chOff x="4246560" y="5688000"/>
              <a:chExt cx="856800" cy="263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246560" y="5688000"/>
                <a:ext cx="495360" cy="250920"/>
                <a:chOff x="4246560" y="5688000"/>
                <a:chExt cx="495360" cy="250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246560" y="5688000"/>
                  <a:ext cx="495360" cy="25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8000" y="592776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4800960" y="575316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437080" y="5688000"/>
              <a:ext cx="858600" cy="263520"/>
              <a:chOff x="5437080" y="5688000"/>
              <a:chExt cx="858600" cy="263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437080" y="5688000"/>
                <a:ext cx="495360" cy="250920"/>
                <a:chOff x="5437080" y="5688000"/>
                <a:chExt cx="495360" cy="250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437080" y="5688000"/>
                  <a:ext cx="495360" cy="25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438880" y="592776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5993280" y="575316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590400" y="6068880"/>
            <a:ext cx="5705280" cy="265320"/>
            <a:chOff x="590400" y="6068880"/>
            <a:chExt cx="5705280" cy="265320"/>
          </a:xfrm>
        </p:grpSpPr>
        <p:grpSp>
          <p:nvGrpSpPr>
            <p:cNvPr id="392" name=""/>
            <p:cNvGrpSpPr/>
            <p:nvPr/>
          </p:nvGrpSpPr>
          <p:grpSpPr>
            <a:xfrm>
              <a:off x="590400" y="6068880"/>
              <a:ext cx="3243240" cy="262080"/>
              <a:chOff x="590400" y="6068880"/>
              <a:chExt cx="3243240" cy="262080"/>
            </a:xfrm>
          </p:grpSpPr>
          <p:sp>
            <p:nvSpPr>
              <p:cNvPr id="393" name=""/>
              <p:cNvSpPr/>
              <p:nvPr/>
            </p:nvSpPr>
            <p:spPr>
              <a:xfrm>
                <a:off x="590400" y="6068880"/>
                <a:ext cx="3243240" cy="2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2200" y="631980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46560" y="6068880"/>
              <a:ext cx="856800" cy="265320"/>
              <a:chOff x="4246560" y="6068880"/>
              <a:chExt cx="856800" cy="2653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246560" y="6068880"/>
                <a:ext cx="495360" cy="262080"/>
                <a:chOff x="4246560" y="6068880"/>
                <a:chExt cx="495360" cy="262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246560" y="60688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248000" y="631980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4800960" y="61358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437080" y="6068880"/>
              <a:ext cx="858600" cy="265320"/>
              <a:chOff x="5437080" y="6068880"/>
              <a:chExt cx="858600" cy="26532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437080" y="6068880"/>
                <a:ext cx="495360" cy="262080"/>
                <a:chOff x="5437080" y="6068880"/>
                <a:chExt cx="495360" cy="262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437080" y="60688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8880" y="631980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5993280" y="61358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590400" y="6450120"/>
            <a:ext cx="5705280" cy="276120"/>
            <a:chOff x="590400" y="6450120"/>
            <a:chExt cx="5705280" cy="276120"/>
          </a:xfrm>
        </p:grpSpPr>
        <p:grpSp>
          <p:nvGrpSpPr>
            <p:cNvPr id="406" name=""/>
            <p:cNvGrpSpPr/>
            <p:nvPr/>
          </p:nvGrpSpPr>
          <p:grpSpPr>
            <a:xfrm>
              <a:off x="590400" y="6461280"/>
              <a:ext cx="3243240" cy="250560"/>
              <a:chOff x="590400" y="6461280"/>
              <a:chExt cx="3243240" cy="250560"/>
            </a:xfrm>
          </p:grpSpPr>
          <p:sp>
            <p:nvSpPr>
              <p:cNvPr id="407" name=""/>
              <p:cNvSpPr/>
              <p:nvPr/>
            </p:nvSpPr>
            <p:spPr>
              <a:xfrm>
                <a:off x="590400" y="6461280"/>
                <a:ext cx="3243240" cy="25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2200" y="670068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246560" y="6450120"/>
              <a:ext cx="856800" cy="276120"/>
              <a:chOff x="4246560" y="6450120"/>
              <a:chExt cx="856800" cy="2761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246560" y="6450120"/>
                <a:ext cx="495360" cy="261720"/>
                <a:chOff x="4246560" y="6450120"/>
                <a:chExt cx="495360" cy="2617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246560" y="645012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248000" y="670068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4800960" y="652788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437080" y="6450120"/>
              <a:ext cx="858600" cy="276120"/>
              <a:chOff x="5437080" y="6450120"/>
              <a:chExt cx="858600" cy="27612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437080" y="6450120"/>
                <a:ext cx="495360" cy="261720"/>
                <a:chOff x="5437080" y="6450120"/>
                <a:chExt cx="495360" cy="261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437080" y="6450120"/>
                  <a:ext cx="495360" cy="26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438880" y="670068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5993280" y="652788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744480" y="4173480"/>
            <a:ext cx="2030400" cy="198360"/>
            <a:chOff x="744480" y="4173480"/>
            <a:chExt cx="2030400" cy="198360"/>
          </a:xfrm>
        </p:grpSpPr>
        <p:sp>
          <p:nvSpPr>
            <p:cNvPr id="420" name=""/>
            <p:cNvSpPr/>
            <p:nvPr/>
          </p:nvSpPr>
          <p:spPr>
            <a:xfrm>
              <a:off x="744480" y="4218120"/>
              <a:ext cx="142920" cy="13176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74" y="20"/>
                  </a:moveTo>
                  <a:lnTo>
                    <a:pt x="30" y="0"/>
                  </a:lnTo>
                  <a:lnTo>
                    <a:pt x="7" y="14"/>
                  </a:lnTo>
                  <a:lnTo>
                    <a:pt x="67" y="34"/>
                  </a:lnTo>
                  <a:lnTo>
                    <a:pt x="89" y="55"/>
                  </a:lnTo>
                  <a:lnTo>
                    <a:pt x="59" y="82"/>
                  </a:lnTo>
                  <a:lnTo>
                    <a:pt x="0" y="62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4480" y="4229280"/>
              <a:ext cx="131760" cy="109440"/>
            </a:xfrm>
            <a:custGeom>
              <a:avLst/>
              <a:gdLst/>
              <a:ahLst/>
              <a:rect l="l" t="t" r="r" b="b"/>
              <a:pathLst>
                <a:path w="83" h="69">
                  <a:moveTo>
                    <a:pt x="74" y="13"/>
                  </a:moveTo>
                  <a:lnTo>
                    <a:pt x="59" y="7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5" y="7"/>
                  </a:lnTo>
                  <a:lnTo>
                    <a:pt x="30" y="13"/>
                  </a:lnTo>
                  <a:lnTo>
                    <a:pt x="37" y="13"/>
                  </a:lnTo>
                  <a:lnTo>
                    <a:pt x="45" y="20"/>
                  </a:lnTo>
                  <a:lnTo>
                    <a:pt x="52" y="20"/>
                  </a:lnTo>
                  <a:lnTo>
                    <a:pt x="59" y="27"/>
                  </a:lnTo>
                  <a:lnTo>
                    <a:pt x="74" y="34"/>
                  </a:lnTo>
                  <a:lnTo>
                    <a:pt x="82" y="41"/>
                  </a:lnTo>
                  <a:lnTo>
                    <a:pt x="82" y="48"/>
                  </a:lnTo>
                  <a:lnTo>
                    <a:pt x="82" y="55"/>
                  </a:lnTo>
                  <a:lnTo>
                    <a:pt x="74" y="61"/>
                  </a:lnTo>
                  <a:lnTo>
                    <a:pt x="67" y="68"/>
                  </a:lnTo>
                  <a:lnTo>
                    <a:pt x="52" y="68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1"/>
                  </a:lnTo>
                  <a:lnTo>
                    <a:pt x="7" y="55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44640" y="4249800"/>
              <a:ext cx="120600" cy="8892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45" y="0"/>
                  </a:moveTo>
                  <a:lnTo>
                    <a:pt x="0" y="7"/>
                  </a:lnTo>
                  <a:lnTo>
                    <a:pt x="0" y="35"/>
                  </a:lnTo>
                  <a:lnTo>
                    <a:pt x="37" y="55"/>
                  </a:lnTo>
                  <a:lnTo>
                    <a:pt x="75" y="35"/>
                  </a:lnTo>
                  <a:lnTo>
                    <a:pt x="67" y="0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44640" y="424980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45" y="0"/>
                  </a:moveTo>
                  <a:lnTo>
                    <a:pt x="37" y="0"/>
                  </a:lnTo>
                  <a:lnTo>
                    <a:pt x="15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8" y="35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2" y="42"/>
                  </a:lnTo>
                  <a:lnTo>
                    <a:pt x="67" y="35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0" y="7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09520" y="4240080"/>
              <a:ext cx="120960" cy="10980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0" y="0"/>
                  </a:moveTo>
                  <a:lnTo>
                    <a:pt x="8" y="41"/>
                  </a:lnTo>
                  <a:lnTo>
                    <a:pt x="8" y="54"/>
                  </a:lnTo>
                  <a:lnTo>
                    <a:pt x="15" y="68"/>
                  </a:lnTo>
                  <a:lnTo>
                    <a:pt x="0" y="20"/>
                  </a:lnTo>
                  <a:lnTo>
                    <a:pt x="45" y="6"/>
                  </a:lnTo>
                  <a:lnTo>
                    <a:pt x="7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09520" y="4240080"/>
              <a:ext cx="120960" cy="9864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0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8" y="41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15" y="61"/>
                  </a:lnTo>
                  <a:lnTo>
                    <a:pt x="8" y="61"/>
                  </a:lnTo>
                  <a:lnTo>
                    <a:pt x="15" y="61"/>
                  </a:lnTo>
                  <a:lnTo>
                    <a:pt x="8" y="48"/>
                  </a:lnTo>
                  <a:lnTo>
                    <a:pt x="8" y="41"/>
                  </a:lnTo>
                  <a:lnTo>
                    <a:pt x="8" y="27"/>
                  </a:lnTo>
                  <a:lnTo>
                    <a:pt x="8" y="20"/>
                  </a:lnTo>
                  <a:lnTo>
                    <a:pt x="23" y="13"/>
                  </a:lnTo>
                  <a:lnTo>
                    <a:pt x="30" y="13"/>
                  </a:lnTo>
                  <a:lnTo>
                    <a:pt x="60" y="13"/>
                  </a:lnTo>
                  <a:lnTo>
                    <a:pt x="7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74760" y="4240080"/>
              <a:ext cx="142920" cy="10980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8" y="27"/>
                  </a:moveTo>
                  <a:lnTo>
                    <a:pt x="75" y="20"/>
                  </a:lnTo>
                  <a:lnTo>
                    <a:pt x="67" y="0"/>
                  </a:lnTo>
                  <a:lnTo>
                    <a:pt x="23" y="6"/>
                  </a:lnTo>
                  <a:lnTo>
                    <a:pt x="0" y="34"/>
                  </a:lnTo>
                  <a:lnTo>
                    <a:pt x="15" y="61"/>
                  </a:lnTo>
                  <a:lnTo>
                    <a:pt x="60" y="68"/>
                  </a:lnTo>
                  <a:lnTo>
                    <a:pt x="89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360" y="4240080"/>
              <a:ext cx="130320" cy="10980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0" y="27"/>
                  </a:moveTo>
                  <a:lnTo>
                    <a:pt x="7" y="27"/>
                  </a:lnTo>
                  <a:lnTo>
                    <a:pt x="22" y="27"/>
                  </a:lnTo>
                  <a:lnTo>
                    <a:pt x="37" y="20"/>
                  </a:lnTo>
                  <a:lnTo>
                    <a:pt x="44" y="20"/>
                  </a:lnTo>
                  <a:lnTo>
                    <a:pt x="52" y="20"/>
                  </a:lnTo>
                  <a:lnTo>
                    <a:pt x="67" y="13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9" y="6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2" y="6"/>
                  </a:lnTo>
                  <a:lnTo>
                    <a:pt x="7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7" y="54"/>
                  </a:lnTo>
                  <a:lnTo>
                    <a:pt x="22" y="68"/>
                  </a:lnTo>
                  <a:lnTo>
                    <a:pt x="29" y="68"/>
                  </a:lnTo>
                  <a:lnTo>
                    <a:pt x="37" y="68"/>
                  </a:lnTo>
                  <a:lnTo>
                    <a:pt x="44" y="68"/>
                  </a:lnTo>
                  <a:lnTo>
                    <a:pt x="59" y="61"/>
                  </a:lnTo>
                  <a:lnTo>
                    <a:pt x="74" y="54"/>
                  </a:lnTo>
                  <a:lnTo>
                    <a:pt x="81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4880" y="4229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82" y="13"/>
                  </a:moveTo>
                  <a:lnTo>
                    <a:pt x="15" y="0"/>
                  </a:lnTo>
                  <a:lnTo>
                    <a:pt x="8" y="27"/>
                  </a:lnTo>
                  <a:lnTo>
                    <a:pt x="45" y="41"/>
                  </a:lnTo>
                  <a:lnTo>
                    <a:pt x="82" y="55"/>
                  </a:lnTo>
                  <a:lnTo>
                    <a:pt x="45" y="75"/>
                  </a:lnTo>
                  <a:lnTo>
                    <a:pt x="8" y="68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04880" y="4240080"/>
              <a:ext cx="131760" cy="109800"/>
            </a:xfrm>
            <a:custGeom>
              <a:avLst/>
              <a:gdLst/>
              <a:ahLst/>
              <a:rect l="l" t="t" r="r" b="b"/>
              <a:pathLst>
                <a:path w="83" h="69">
                  <a:moveTo>
                    <a:pt x="82" y="6"/>
                  </a:moveTo>
                  <a:lnTo>
                    <a:pt x="67" y="6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37" y="34"/>
                  </a:lnTo>
                  <a:lnTo>
                    <a:pt x="52" y="41"/>
                  </a:lnTo>
                  <a:lnTo>
                    <a:pt x="60" y="41"/>
                  </a:lnTo>
                  <a:lnTo>
                    <a:pt x="75" y="48"/>
                  </a:lnTo>
                  <a:lnTo>
                    <a:pt x="75" y="54"/>
                  </a:lnTo>
                  <a:lnTo>
                    <a:pt x="67" y="61"/>
                  </a:lnTo>
                  <a:lnTo>
                    <a:pt x="52" y="68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3" y="68"/>
                  </a:lnTo>
                  <a:lnTo>
                    <a:pt x="8" y="5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70120" y="4184640"/>
              <a:ext cx="108000" cy="187200"/>
            </a:xfrm>
            <a:custGeom>
              <a:avLst/>
              <a:gdLst/>
              <a:ahLst/>
              <a:rect l="l" t="t" r="r" b="b"/>
              <a:pathLst>
                <a:path w="68" h="118">
                  <a:moveTo>
                    <a:pt x="0" y="0"/>
                  </a:moveTo>
                  <a:lnTo>
                    <a:pt x="0" y="103"/>
                  </a:lnTo>
                  <a:lnTo>
                    <a:pt x="0" y="110"/>
                  </a:lnTo>
                  <a:lnTo>
                    <a:pt x="0" y="76"/>
                  </a:lnTo>
                  <a:lnTo>
                    <a:pt x="15" y="55"/>
                  </a:lnTo>
                  <a:lnTo>
                    <a:pt x="60" y="55"/>
                  </a:lnTo>
                  <a:lnTo>
                    <a:pt x="67" y="89"/>
                  </a:lnTo>
                  <a:lnTo>
                    <a:pt x="67" y="117"/>
                  </a:lnTo>
                  <a:lnTo>
                    <a:pt x="67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70120" y="4184640"/>
              <a:ext cx="108000" cy="17640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0" y="0"/>
                  </a:moveTo>
                  <a:lnTo>
                    <a:pt x="0" y="14"/>
                  </a:lnTo>
                  <a:lnTo>
                    <a:pt x="0" y="35"/>
                  </a:lnTo>
                  <a:lnTo>
                    <a:pt x="0" y="55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8" y="69"/>
                  </a:lnTo>
                  <a:lnTo>
                    <a:pt x="8" y="62"/>
                  </a:lnTo>
                  <a:lnTo>
                    <a:pt x="30" y="55"/>
                  </a:lnTo>
                  <a:lnTo>
                    <a:pt x="37" y="55"/>
                  </a:lnTo>
                  <a:lnTo>
                    <a:pt x="45" y="55"/>
                  </a:lnTo>
                  <a:lnTo>
                    <a:pt x="52" y="62"/>
                  </a:lnTo>
                  <a:lnTo>
                    <a:pt x="60" y="69"/>
                  </a:lnTo>
                  <a:lnTo>
                    <a:pt x="60" y="76"/>
                  </a:lnTo>
                  <a:lnTo>
                    <a:pt x="67" y="83"/>
                  </a:lnTo>
                  <a:lnTo>
                    <a:pt x="67" y="96"/>
                  </a:lnTo>
                  <a:lnTo>
                    <a:pt x="67" y="103"/>
                  </a:lnTo>
                  <a:lnTo>
                    <a:pt x="67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4200" y="4249800"/>
              <a:ext cx="107640" cy="11124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7" y="7"/>
                  </a:moveTo>
                  <a:lnTo>
                    <a:pt x="7" y="7"/>
                  </a:lnTo>
                  <a:lnTo>
                    <a:pt x="0" y="42"/>
                  </a:lnTo>
                  <a:lnTo>
                    <a:pt x="30" y="69"/>
                  </a:lnTo>
                  <a:lnTo>
                    <a:pt x="67" y="55"/>
                  </a:lnTo>
                  <a:lnTo>
                    <a:pt x="59" y="14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24200" y="4249800"/>
              <a:ext cx="107640" cy="10008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37" y="7"/>
                  </a:moveTo>
                  <a:lnTo>
                    <a:pt x="30" y="7"/>
                  </a:lnTo>
                  <a:lnTo>
                    <a:pt x="22" y="7"/>
                  </a:lnTo>
                  <a:lnTo>
                    <a:pt x="15" y="1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7" y="48"/>
                  </a:lnTo>
                  <a:lnTo>
                    <a:pt x="15" y="55"/>
                  </a:lnTo>
                  <a:lnTo>
                    <a:pt x="22" y="62"/>
                  </a:lnTo>
                  <a:lnTo>
                    <a:pt x="30" y="62"/>
                  </a:lnTo>
                  <a:lnTo>
                    <a:pt x="52" y="62"/>
                  </a:lnTo>
                  <a:lnTo>
                    <a:pt x="59" y="62"/>
                  </a:lnTo>
                  <a:lnTo>
                    <a:pt x="67" y="48"/>
                  </a:lnTo>
                  <a:lnTo>
                    <a:pt x="67" y="35"/>
                  </a:lnTo>
                  <a:lnTo>
                    <a:pt x="67" y="28"/>
                  </a:lnTo>
                  <a:lnTo>
                    <a:pt x="52" y="7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76480" y="424980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7"/>
                  </a:moveTo>
                  <a:lnTo>
                    <a:pt x="8" y="62"/>
                  </a:lnTo>
                  <a:lnTo>
                    <a:pt x="52" y="62"/>
                  </a:lnTo>
                  <a:lnTo>
                    <a:pt x="75" y="35"/>
                  </a:lnTo>
                  <a:lnTo>
                    <a:pt x="75" y="0"/>
                  </a:lnTo>
                  <a:lnTo>
                    <a:pt x="75" y="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76480" y="4260960"/>
              <a:ext cx="120600" cy="8892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0" y="0"/>
                  </a:moveTo>
                  <a:lnTo>
                    <a:pt x="0" y="14"/>
                  </a:lnTo>
                  <a:lnTo>
                    <a:pt x="8" y="35"/>
                  </a:lnTo>
                  <a:lnTo>
                    <a:pt x="15" y="48"/>
                  </a:lnTo>
                  <a:lnTo>
                    <a:pt x="23" y="5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60" y="48"/>
                  </a:lnTo>
                  <a:lnTo>
                    <a:pt x="60" y="41"/>
                  </a:lnTo>
                  <a:lnTo>
                    <a:pt x="67" y="35"/>
                  </a:lnTo>
                  <a:lnTo>
                    <a:pt x="75" y="21"/>
                  </a:lnTo>
                  <a:lnTo>
                    <a:pt x="75" y="7"/>
                  </a:lnTo>
                  <a:lnTo>
                    <a:pt x="75" y="14"/>
                  </a:lnTo>
                  <a:lnTo>
                    <a:pt x="75" y="21"/>
                  </a:lnTo>
                  <a:lnTo>
                    <a:pt x="75" y="35"/>
                  </a:lnTo>
                  <a:lnTo>
                    <a:pt x="75" y="48"/>
                  </a:lnTo>
                  <a:lnTo>
                    <a:pt x="75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4320" y="4184640"/>
              <a:ext cx="1440" cy="1652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69"/>
                  </a:lnTo>
                  <a:lnTo>
                    <a:pt x="0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4320" y="4184640"/>
              <a:ext cx="1440" cy="16524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21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0" y="96"/>
                  </a:lnTo>
                  <a:lnTo>
                    <a:pt x="0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01840" y="4173480"/>
              <a:ext cx="154080" cy="18756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81" y="62"/>
                  </a:moveTo>
                  <a:lnTo>
                    <a:pt x="22" y="55"/>
                  </a:lnTo>
                  <a:lnTo>
                    <a:pt x="0" y="90"/>
                  </a:lnTo>
                  <a:lnTo>
                    <a:pt x="44" y="117"/>
                  </a:lnTo>
                  <a:lnTo>
                    <a:pt x="81" y="103"/>
                  </a:lnTo>
                  <a:lnTo>
                    <a:pt x="81" y="69"/>
                  </a:lnTo>
                  <a:lnTo>
                    <a:pt x="81" y="0"/>
                  </a:lnTo>
                  <a:lnTo>
                    <a:pt x="74" y="14"/>
                  </a:lnTo>
                  <a:lnTo>
                    <a:pt x="74" y="83"/>
                  </a:lnTo>
                  <a:lnTo>
                    <a:pt x="96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000" y="4184640"/>
              <a:ext cx="142920" cy="16524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4" y="55"/>
                  </a:moveTo>
                  <a:lnTo>
                    <a:pt x="59" y="55"/>
                  </a:lnTo>
                  <a:lnTo>
                    <a:pt x="37" y="55"/>
                  </a:lnTo>
                  <a:lnTo>
                    <a:pt x="22" y="55"/>
                  </a:lnTo>
                  <a:lnTo>
                    <a:pt x="15" y="62"/>
                  </a:lnTo>
                  <a:lnTo>
                    <a:pt x="7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7" y="89"/>
                  </a:lnTo>
                  <a:lnTo>
                    <a:pt x="15" y="96"/>
                  </a:lnTo>
                  <a:lnTo>
                    <a:pt x="22" y="103"/>
                  </a:lnTo>
                  <a:lnTo>
                    <a:pt x="30" y="103"/>
                  </a:lnTo>
                  <a:lnTo>
                    <a:pt x="37" y="103"/>
                  </a:lnTo>
                  <a:lnTo>
                    <a:pt x="52" y="103"/>
                  </a:lnTo>
                  <a:lnTo>
                    <a:pt x="67" y="96"/>
                  </a:lnTo>
                  <a:lnTo>
                    <a:pt x="74" y="89"/>
                  </a:lnTo>
                  <a:lnTo>
                    <a:pt x="74" y="83"/>
                  </a:lnTo>
                  <a:lnTo>
                    <a:pt x="74" y="76"/>
                  </a:lnTo>
                  <a:lnTo>
                    <a:pt x="74" y="62"/>
                  </a:lnTo>
                  <a:lnTo>
                    <a:pt x="74" y="48"/>
                  </a:lnTo>
                  <a:lnTo>
                    <a:pt x="74" y="35"/>
                  </a:lnTo>
                  <a:lnTo>
                    <a:pt x="74" y="28"/>
                  </a:lnTo>
                  <a:lnTo>
                    <a:pt x="74" y="21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67" y="14"/>
                  </a:lnTo>
                  <a:lnTo>
                    <a:pt x="67" y="21"/>
                  </a:lnTo>
                  <a:lnTo>
                    <a:pt x="67" y="35"/>
                  </a:lnTo>
                  <a:lnTo>
                    <a:pt x="67" y="41"/>
                  </a:lnTo>
                  <a:lnTo>
                    <a:pt x="67" y="48"/>
                  </a:lnTo>
                  <a:lnTo>
                    <a:pt x="67" y="62"/>
                  </a:lnTo>
                  <a:lnTo>
                    <a:pt x="74" y="76"/>
                  </a:lnTo>
                  <a:lnTo>
                    <a:pt x="82" y="96"/>
                  </a:lnTo>
                  <a:lnTo>
                    <a:pt x="89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89040" y="4249800"/>
              <a:ext cx="131760" cy="10008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15" y="28"/>
                  </a:moveTo>
                  <a:lnTo>
                    <a:pt x="75" y="28"/>
                  </a:lnTo>
                  <a:lnTo>
                    <a:pt x="52" y="0"/>
                  </a:lnTo>
                  <a:lnTo>
                    <a:pt x="8" y="14"/>
                  </a:lnTo>
                  <a:lnTo>
                    <a:pt x="0" y="48"/>
                  </a:lnTo>
                  <a:lnTo>
                    <a:pt x="52" y="62"/>
                  </a:lnTo>
                  <a:lnTo>
                    <a:pt x="82" y="55"/>
                  </a:lnTo>
                  <a:lnTo>
                    <a:pt x="75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02000" y="4260960"/>
              <a:ext cx="118800" cy="8892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7" y="21"/>
                  </a:moveTo>
                  <a:lnTo>
                    <a:pt x="15" y="21"/>
                  </a:lnTo>
                  <a:lnTo>
                    <a:pt x="22" y="21"/>
                  </a:lnTo>
                  <a:lnTo>
                    <a:pt x="37" y="21"/>
                  </a:lnTo>
                  <a:lnTo>
                    <a:pt x="44" y="21"/>
                  </a:lnTo>
                  <a:lnTo>
                    <a:pt x="59" y="14"/>
                  </a:lnTo>
                  <a:lnTo>
                    <a:pt x="59" y="7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7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7" y="41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37" y="55"/>
                  </a:lnTo>
                  <a:lnTo>
                    <a:pt x="52" y="55"/>
                  </a:lnTo>
                  <a:lnTo>
                    <a:pt x="59" y="55"/>
                  </a:lnTo>
                  <a:lnTo>
                    <a:pt x="74" y="48"/>
                  </a:lnTo>
                  <a:lnTo>
                    <a:pt x="67" y="48"/>
                  </a:lnTo>
                  <a:lnTo>
                    <a:pt x="67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54280" y="426096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8" y="35"/>
                  </a:lnTo>
                  <a:lnTo>
                    <a:pt x="8" y="48"/>
                  </a:lnTo>
                  <a:lnTo>
                    <a:pt x="8" y="62"/>
                  </a:lnTo>
                  <a:lnTo>
                    <a:pt x="8" y="7"/>
                  </a:lnTo>
                  <a:lnTo>
                    <a:pt x="23" y="7"/>
                  </a:lnTo>
                  <a:lnTo>
                    <a:pt x="75" y="0"/>
                  </a:lnTo>
                  <a:lnTo>
                    <a:pt x="67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54280" y="4260960"/>
              <a:ext cx="108000" cy="889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0" y="0"/>
                  </a:moveTo>
                  <a:lnTo>
                    <a:pt x="0" y="7"/>
                  </a:lnTo>
                  <a:lnTo>
                    <a:pt x="8" y="28"/>
                  </a:lnTo>
                  <a:lnTo>
                    <a:pt x="8" y="35"/>
                  </a:lnTo>
                  <a:lnTo>
                    <a:pt x="8" y="41"/>
                  </a:lnTo>
                  <a:lnTo>
                    <a:pt x="8" y="48"/>
                  </a:lnTo>
                  <a:lnTo>
                    <a:pt x="8" y="55"/>
                  </a:lnTo>
                  <a:lnTo>
                    <a:pt x="8" y="48"/>
                  </a:lnTo>
                  <a:lnTo>
                    <a:pt x="8" y="41"/>
                  </a:lnTo>
                  <a:lnTo>
                    <a:pt x="8" y="35"/>
                  </a:lnTo>
                  <a:lnTo>
                    <a:pt x="8" y="28"/>
                  </a:lnTo>
                  <a:lnTo>
                    <a:pt x="8" y="21"/>
                  </a:lnTo>
                  <a:lnTo>
                    <a:pt x="8" y="14"/>
                  </a:lnTo>
                  <a:lnTo>
                    <a:pt x="15" y="7"/>
                  </a:lnTo>
                  <a:lnTo>
                    <a:pt x="23" y="7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52" y="7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387680" y="416412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23" y="27"/>
                </a:moveTo>
                <a:lnTo>
                  <a:pt x="37" y="6"/>
                </a:lnTo>
                <a:lnTo>
                  <a:pt x="67" y="0"/>
                </a:lnTo>
                <a:lnTo>
                  <a:pt x="89" y="34"/>
                </a:lnTo>
                <a:lnTo>
                  <a:pt x="60" y="61"/>
                </a:lnTo>
                <a:lnTo>
                  <a:pt x="30" y="61"/>
                </a:lnTo>
                <a:lnTo>
                  <a:pt x="82" y="54"/>
                </a:lnTo>
                <a:lnTo>
                  <a:pt x="104" y="102"/>
                </a:lnTo>
                <a:lnTo>
                  <a:pt x="67" y="116"/>
                </a:lnTo>
                <a:lnTo>
                  <a:pt x="23" y="109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87680" y="4173480"/>
            <a:ext cx="155880" cy="176400"/>
          </a:xfrm>
          <a:custGeom>
            <a:avLst/>
            <a:gdLst/>
            <a:ahLst/>
            <a:rect l="l" t="t" r="r" b="b"/>
            <a:pathLst>
              <a:path w="98" h="111">
                <a:moveTo>
                  <a:pt x="23" y="21"/>
                </a:moveTo>
                <a:lnTo>
                  <a:pt x="30" y="14"/>
                </a:lnTo>
                <a:lnTo>
                  <a:pt x="37" y="7"/>
                </a:lnTo>
                <a:lnTo>
                  <a:pt x="45" y="0"/>
                </a:lnTo>
                <a:lnTo>
                  <a:pt x="52" y="0"/>
                </a:lnTo>
                <a:lnTo>
                  <a:pt x="60" y="0"/>
                </a:lnTo>
                <a:lnTo>
                  <a:pt x="67" y="0"/>
                </a:lnTo>
                <a:lnTo>
                  <a:pt x="75" y="14"/>
                </a:lnTo>
                <a:lnTo>
                  <a:pt x="82" y="21"/>
                </a:lnTo>
                <a:lnTo>
                  <a:pt x="82" y="28"/>
                </a:lnTo>
                <a:lnTo>
                  <a:pt x="82" y="35"/>
                </a:lnTo>
                <a:lnTo>
                  <a:pt x="75" y="42"/>
                </a:lnTo>
                <a:lnTo>
                  <a:pt x="67" y="48"/>
                </a:lnTo>
                <a:lnTo>
                  <a:pt x="52" y="55"/>
                </a:lnTo>
                <a:lnTo>
                  <a:pt x="45" y="55"/>
                </a:lnTo>
                <a:lnTo>
                  <a:pt x="37" y="55"/>
                </a:lnTo>
                <a:lnTo>
                  <a:pt x="52" y="48"/>
                </a:lnTo>
                <a:lnTo>
                  <a:pt x="60" y="48"/>
                </a:lnTo>
                <a:lnTo>
                  <a:pt x="67" y="48"/>
                </a:lnTo>
                <a:lnTo>
                  <a:pt x="75" y="48"/>
                </a:lnTo>
                <a:lnTo>
                  <a:pt x="82" y="55"/>
                </a:lnTo>
                <a:lnTo>
                  <a:pt x="89" y="62"/>
                </a:lnTo>
                <a:lnTo>
                  <a:pt x="97" y="69"/>
                </a:lnTo>
                <a:lnTo>
                  <a:pt x="97" y="76"/>
                </a:lnTo>
                <a:lnTo>
                  <a:pt x="97" y="90"/>
                </a:lnTo>
                <a:lnTo>
                  <a:pt x="82" y="103"/>
                </a:lnTo>
                <a:lnTo>
                  <a:pt x="75" y="110"/>
                </a:lnTo>
                <a:lnTo>
                  <a:pt x="60" y="110"/>
                </a:lnTo>
                <a:lnTo>
                  <a:pt x="45" y="110"/>
                </a:lnTo>
                <a:lnTo>
                  <a:pt x="37" y="110"/>
                </a:lnTo>
                <a:lnTo>
                  <a:pt x="15" y="96"/>
                </a:lnTo>
                <a:lnTo>
                  <a:pt x="0" y="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02320" y="4173480"/>
            <a:ext cx="155520" cy="176400"/>
          </a:xfrm>
          <a:custGeom>
            <a:avLst/>
            <a:gdLst/>
            <a:ahLst/>
            <a:rect l="l" t="t" r="r" b="b"/>
            <a:pathLst>
              <a:path w="98" h="111">
                <a:moveTo>
                  <a:pt x="82" y="7"/>
                </a:moveTo>
                <a:lnTo>
                  <a:pt x="30" y="0"/>
                </a:lnTo>
                <a:lnTo>
                  <a:pt x="0" y="7"/>
                </a:lnTo>
                <a:lnTo>
                  <a:pt x="0" y="21"/>
                </a:lnTo>
                <a:lnTo>
                  <a:pt x="0" y="48"/>
                </a:lnTo>
                <a:lnTo>
                  <a:pt x="45" y="35"/>
                </a:lnTo>
                <a:lnTo>
                  <a:pt x="82" y="42"/>
                </a:lnTo>
                <a:lnTo>
                  <a:pt x="97" y="69"/>
                </a:lnTo>
                <a:lnTo>
                  <a:pt x="82" y="103"/>
                </a:lnTo>
                <a:lnTo>
                  <a:pt x="38" y="110"/>
                </a:lnTo>
                <a:lnTo>
                  <a:pt x="0" y="103"/>
                </a:lnTo>
                <a:lnTo>
                  <a:pt x="0" y="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02320" y="4173480"/>
            <a:ext cx="155520" cy="176400"/>
          </a:xfrm>
          <a:custGeom>
            <a:avLst/>
            <a:gdLst/>
            <a:ahLst/>
            <a:rect l="l" t="t" r="r" b="b"/>
            <a:pathLst>
              <a:path w="98" h="111">
                <a:moveTo>
                  <a:pt x="82" y="7"/>
                </a:moveTo>
                <a:lnTo>
                  <a:pt x="75" y="7"/>
                </a:lnTo>
                <a:lnTo>
                  <a:pt x="45" y="0"/>
                </a:lnTo>
                <a:lnTo>
                  <a:pt x="30" y="0"/>
                </a:lnTo>
                <a:lnTo>
                  <a:pt x="23" y="0"/>
                </a:lnTo>
                <a:lnTo>
                  <a:pt x="15" y="0"/>
                </a:lnTo>
                <a:lnTo>
                  <a:pt x="8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8" y="42"/>
                </a:lnTo>
                <a:lnTo>
                  <a:pt x="23" y="42"/>
                </a:lnTo>
                <a:lnTo>
                  <a:pt x="30" y="42"/>
                </a:lnTo>
                <a:lnTo>
                  <a:pt x="52" y="42"/>
                </a:lnTo>
                <a:lnTo>
                  <a:pt x="60" y="42"/>
                </a:lnTo>
                <a:lnTo>
                  <a:pt x="75" y="42"/>
                </a:lnTo>
                <a:lnTo>
                  <a:pt x="90" y="48"/>
                </a:lnTo>
                <a:lnTo>
                  <a:pt x="90" y="55"/>
                </a:lnTo>
                <a:lnTo>
                  <a:pt x="97" y="62"/>
                </a:lnTo>
                <a:lnTo>
                  <a:pt x="97" y="76"/>
                </a:lnTo>
                <a:lnTo>
                  <a:pt x="90" y="90"/>
                </a:lnTo>
                <a:lnTo>
                  <a:pt x="90" y="96"/>
                </a:lnTo>
                <a:lnTo>
                  <a:pt x="67" y="110"/>
                </a:lnTo>
                <a:lnTo>
                  <a:pt x="60" y="110"/>
                </a:lnTo>
                <a:lnTo>
                  <a:pt x="52" y="110"/>
                </a:lnTo>
                <a:lnTo>
                  <a:pt x="30" y="110"/>
                </a:lnTo>
                <a:lnTo>
                  <a:pt x="23" y="110"/>
                </a:lnTo>
                <a:lnTo>
                  <a:pt x="8" y="103"/>
                </a:lnTo>
                <a:lnTo>
                  <a:pt x="0" y="96"/>
                </a:lnTo>
                <a:lnTo>
                  <a:pt x="0" y="90"/>
                </a:lnTo>
                <a:lnTo>
                  <a:pt x="0" y="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0280" y="73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9000" y="177840"/>
            <a:ext cx="521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las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98440" y="682776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35400" y="2232000"/>
            <a:ext cx="27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idents, family, travel or work problem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73920" y="2413080"/>
            <a:ext cx="339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d weather, exams, worry, apathy, loss of interest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4880" y="2219400"/>
            <a:ext cx="179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 OTHER PROBLEM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20" y="3193920"/>
            <a:ext cx="414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he number of days of LOST training (no training at all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6160" y="3379680"/>
            <a:ext cx="528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d/or the number of days of REDUCED training (lighter training than normal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1120" y="356544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n example is show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7640" y="609480"/>
            <a:ext cx="695808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36520" y="355680"/>
            <a:ext cx="447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n importa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5920" y="1077840"/>
            <a:ext cx="349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hen athletes prepare for an important competition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000" y="1278000"/>
            <a:ext cx="387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ir training usually consists of the following four phas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61360" y="1582560"/>
            <a:ext cx="237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uild-up (or base or conditio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61720" y="1828800"/>
            <a:ext cx="292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e-competition (or speciality or peak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57760" y="207504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a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60640" y="2320920"/>
            <a:ext cx="246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ost-competition (or out-of-seas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5920" y="2719440"/>
            <a:ext cx="329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he duration of each phase in your program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5560" y="2919240"/>
            <a:ext cx="3018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ssuming no injury, illness or other problem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1960" y="320688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: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1160" y="3394080"/>
            <a:ext cx="570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 you use more than four phases, please combine them into these four as best you ca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9720" y="3581280"/>
            <a:ext cx="4531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 you use less than four phases, cross out those not in your progr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8640" y="3781440"/>
            <a:ext cx="382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 your training consists of several cycles of these phase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560" y="3967200"/>
            <a:ext cx="2748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swer the question for only one cyc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4480" y="7316640"/>
            <a:ext cx="577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maining questions are about your training in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7360" y="7577280"/>
            <a:ext cx="437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colored insert to help you answer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76840" y="437976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uild-up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82200" y="470844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e-competi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05440" y="5024520"/>
            <a:ext cx="37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aper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17760" y="53532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ost-competi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670200" y="4319640"/>
            <a:ext cx="444600" cy="257040"/>
            <a:chOff x="3670200" y="4319640"/>
            <a:chExt cx="444600" cy="257040"/>
          </a:xfrm>
        </p:grpSpPr>
        <p:sp>
          <p:nvSpPr>
            <p:cNvPr id="479" name=""/>
            <p:cNvSpPr/>
            <p:nvPr/>
          </p:nvSpPr>
          <p:spPr>
            <a:xfrm>
              <a:off x="3670200" y="4319640"/>
              <a:ext cx="4446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2000" y="4565520"/>
              <a:ext cx="43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203720" y="43927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670200" y="4648320"/>
            <a:ext cx="444600" cy="245880"/>
            <a:chOff x="3670200" y="4648320"/>
            <a:chExt cx="444600" cy="245880"/>
          </a:xfrm>
        </p:grpSpPr>
        <p:sp>
          <p:nvSpPr>
            <p:cNvPr id="483" name=""/>
            <p:cNvSpPr/>
            <p:nvPr/>
          </p:nvSpPr>
          <p:spPr>
            <a:xfrm>
              <a:off x="3670200" y="4648320"/>
              <a:ext cx="44460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72000" y="4883040"/>
              <a:ext cx="43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203720" y="47084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70200" y="4964040"/>
            <a:ext cx="4446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72000" y="521172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91480" y="503712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ek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670200" y="5292720"/>
            <a:ext cx="444600" cy="246240"/>
            <a:chOff x="3670200" y="5292720"/>
            <a:chExt cx="444600" cy="246240"/>
          </a:xfrm>
        </p:grpSpPr>
        <p:sp>
          <p:nvSpPr>
            <p:cNvPr id="490" name=""/>
            <p:cNvSpPr/>
            <p:nvPr/>
          </p:nvSpPr>
          <p:spPr>
            <a:xfrm>
              <a:off x="3670200" y="5292720"/>
              <a:ext cx="44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2000" y="5527800"/>
              <a:ext cx="43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203720" y="53532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400" y="885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959360" y="4962600"/>
            <a:ext cx="444600" cy="258840"/>
            <a:chOff x="4959360" y="4962600"/>
            <a:chExt cx="444600" cy="258840"/>
          </a:xfrm>
        </p:grpSpPr>
        <p:sp>
          <p:nvSpPr>
            <p:cNvPr id="495" name=""/>
            <p:cNvSpPr/>
            <p:nvPr/>
          </p:nvSpPr>
          <p:spPr>
            <a:xfrm>
              <a:off x="4959360" y="4962600"/>
              <a:ext cx="444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60800" y="5210280"/>
              <a:ext cx="43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480280" y="503712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7520" y="6056280"/>
            <a:ext cx="619776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560" y="5799240"/>
            <a:ext cx="53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ease describe any part of your training not included in these four ph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0" y="808200"/>
            <a:ext cx="6958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-27000" y="7162920"/>
            <a:ext cx="69580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19960" y="79200"/>
            <a:ext cx="1657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9960" y="638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820800"/>
            <a:ext cx="604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scribe your training for a typical week of the build-u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4480" y="996840"/>
            <a:ext cx="235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4840" y="1332000"/>
            <a:ext cx="257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30800" y="13222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95480" y="1306440"/>
            <a:ext cx="455760" cy="211320"/>
            <a:chOff x="2895480" y="1306440"/>
            <a:chExt cx="455760" cy="211320"/>
          </a:xfrm>
        </p:grpSpPr>
        <p:sp>
          <p:nvSpPr>
            <p:cNvPr id="509" name=""/>
            <p:cNvSpPr/>
            <p:nvPr/>
          </p:nvSpPr>
          <p:spPr>
            <a:xfrm>
              <a:off x="2895480" y="1306440"/>
              <a:ext cx="455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15066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682880" y="13222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149720" y="1297080"/>
            <a:ext cx="465120" cy="220680"/>
            <a:chOff x="4149720" y="1297080"/>
            <a:chExt cx="465120" cy="220680"/>
          </a:xfrm>
        </p:grpSpPr>
        <p:sp>
          <p:nvSpPr>
            <p:cNvPr id="513" name=""/>
            <p:cNvSpPr/>
            <p:nvPr/>
          </p:nvSpPr>
          <p:spPr>
            <a:xfrm>
              <a:off x="4159080" y="129708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9720" y="15066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680" y="571680"/>
            <a:ext cx="6900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80320" y="22194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633840" y="2174760"/>
            <a:ext cx="453960" cy="211320"/>
            <a:chOff x="3633840" y="2174760"/>
            <a:chExt cx="453960" cy="211320"/>
          </a:xfrm>
        </p:grpSpPr>
        <p:sp>
          <p:nvSpPr>
            <p:cNvPr id="518" name=""/>
            <p:cNvSpPr/>
            <p:nvPr/>
          </p:nvSpPr>
          <p:spPr>
            <a:xfrm>
              <a:off x="3633840" y="2174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52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432400" y="22194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897440" y="2185920"/>
            <a:ext cx="453960" cy="209520"/>
            <a:chOff x="4897440" y="2185920"/>
            <a:chExt cx="453960" cy="209520"/>
          </a:xfrm>
        </p:grpSpPr>
        <p:sp>
          <p:nvSpPr>
            <p:cNvPr id="522" name=""/>
            <p:cNvSpPr/>
            <p:nvPr/>
          </p:nvSpPr>
          <p:spPr>
            <a:xfrm>
              <a:off x="4897440" y="21859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988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251080" y="2219400"/>
            <a:ext cx="130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80320" y="24811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633840" y="2459160"/>
            <a:ext cx="453960" cy="209520"/>
            <a:chOff x="3633840" y="2459160"/>
            <a:chExt cx="453960" cy="209520"/>
          </a:xfrm>
        </p:grpSpPr>
        <p:sp>
          <p:nvSpPr>
            <p:cNvPr id="527" name=""/>
            <p:cNvSpPr/>
            <p:nvPr/>
          </p:nvSpPr>
          <p:spPr>
            <a:xfrm>
              <a:off x="3633840" y="2459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5280" y="26575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432400" y="24811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97440" y="2459160"/>
            <a:ext cx="453960" cy="218880"/>
            <a:chOff x="4897440" y="2459160"/>
            <a:chExt cx="453960" cy="218880"/>
          </a:xfrm>
        </p:grpSpPr>
        <p:sp>
          <p:nvSpPr>
            <p:cNvPr id="531" name=""/>
            <p:cNvSpPr/>
            <p:nvPr/>
          </p:nvSpPr>
          <p:spPr>
            <a:xfrm>
              <a:off x="4897440" y="2459160"/>
              <a:ext cx="4539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98880" y="266868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01240" y="1703520"/>
            <a:ext cx="620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44760" y="17668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04480" y="2008080"/>
            <a:ext cx="209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05200" y="2754360"/>
            <a:ext cx="293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546440" y="3044880"/>
            <a:ext cx="2103480" cy="282600"/>
            <a:chOff x="4546440" y="3044880"/>
            <a:chExt cx="2103480" cy="282600"/>
          </a:xfrm>
        </p:grpSpPr>
        <p:sp>
          <p:nvSpPr>
            <p:cNvPr id="538" name=""/>
            <p:cNvSpPr/>
            <p:nvPr/>
          </p:nvSpPr>
          <p:spPr>
            <a:xfrm>
              <a:off x="454644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4824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14200" y="3044880"/>
            <a:ext cx="2103480" cy="282600"/>
            <a:chOff x="214200" y="3044880"/>
            <a:chExt cx="2103480" cy="282600"/>
          </a:xfrm>
        </p:grpSpPr>
        <p:sp>
          <p:nvSpPr>
            <p:cNvPr id="541" name=""/>
            <p:cNvSpPr/>
            <p:nvPr/>
          </p:nvSpPr>
          <p:spPr>
            <a:xfrm>
              <a:off x="21420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600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374920" y="3044880"/>
            <a:ext cx="2103480" cy="282600"/>
            <a:chOff x="2374920" y="3044880"/>
            <a:chExt cx="2103480" cy="282600"/>
          </a:xfrm>
        </p:grpSpPr>
        <p:sp>
          <p:nvSpPr>
            <p:cNvPr id="544" name=""/>
            <p:cNvSpPr/>
            <p:nvPr/>
          </p:nvSpPr>
          <p:spPr>
            <a:xfrm>
              <a:off x="237492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76360" y="331776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775160" y="2481120"/>
            <a:ext cx="177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40" y="166212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80320" y="39844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33840" y="3940200"/>
            <a:ext cx="453960" cy="210960"/>
            <a:chOff x="3633840" y="3940200"/>
            <a:chExt cx="453960" cy="210960"/>
          </a:xfrm>
        </p:grpSpPr>
        <p:sp>
          <p:nvSpPr>
            <p:cNvPr id="550" name=""/>
            <p:cNvSpPr/>
            <p:nvPr/>
          </p:nvSpPr>
          <p:spPr>
            <a:xfrm>
              <a:off x="3633840" y="3940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352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432400" y="39844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897440" y="3951360"/>
            <a:ext cx="453960" cy="209520"/>
            <a:chOff x="4897440" y="3951360"/>
            <a:chExt cx="453960" cy="209520"/>
          </a:xfrm>
        </p:grpSpPr>
        <p:sp>
          <p:nvSpPr>
            <p:cNvPr id="554" name=""/>
            <p:cNvSpPr/>
            <p:nvPr/>
          </p:nvSpPr>
          <p:spPr>
            <a:xfrm>
              <a:off x="4897440" y="39513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88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188720" y="3984480"/>
            <a:ext cx="2364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80320" y="424656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633840" y="4224240"/>
            <a:ext cx="453960" cy="209520"/>
            <a:chOff x="3633840" y="4224240"/>
            <a:chExt cx="453960" cy="209520"/>
          </a:xfrm>
        </p:grpSpPr>
        <p:sp>
          <p:nvSpPr>
            <p:cNvPr id="559" name=""/>
            <p:cNvSpPr/>
            <p:nvPr/>
          </p:nvSpPr>
          <p:spPr>
            <a:xfrm>
              <a:off x="3633840" y="4224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35280" y="44226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5432400" y="424656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897440" y="4224240"/>
            <a:ext cx="453960" cy="219240"/>
            <a:chOff x="4897440" y="4224240"/>
            <a:chExt cx="453960" cy="219240"/>
          </a:xfrm>
        </p:grpSpPr>
        <p:sp>
          <p:nvSpPr>
            <p:cNvPr id="563" name=""/>
            <p:cNvSpPr/>
            <p:nvPr/>
          </p:nvSpPr>
          <p:spPr>
            <a:xfrm>
              <a:off x="4897440" y="42242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98880" y="443376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99800" y="3456000"/>
            <a:ext cx="488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44760" y="35193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4120" y="3760920"/>
            <a:ext cx="23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4840" y="4519440"/>
            <a:ext cx="27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46440" y="4809960"/>
            <a:ext cx="2103480" cy="282600"/>
            <a:chOff x="4546440" y="4809960"/>
            <a:chExt cx="2103480" cy="282600"/>
          </a:xfrm>
        </p:grpSpPr>
        <p:sp>
          <p:nvSpPr>
            <p:cNvPr id="570" name=""/>
            <p:cNvSpPr/>
            <p:nvPr/>
          </p:nvSpPr>
          <p:spPr>
            <a:xfrm>
              <a:off x="454644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4824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14200" y="4809960"/>
            <a:ext cx="2103480" cy="282600"/>
            <a:chOff x="214200" y="4809960"/>
            <a:chExt cx="2103480" cy="282600"/>
          </a:xfrm>
        </p:grpSpPr>
        <p:sp>
          <p:nvSpPr>
            <p:cNvPr id="573" name=""/>
            <p:cNvSpPr/>
            <p:nvPr/>
          </p:nvSpPr>
          <p:spPr>
            <a:xfrm>
              <a:off x="21420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00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74920" y="4809960"/>
            <a:ext cx="2103480" cy="282600"/>
            <a:chOff x="2374920" y="4809960"/>
            <a:chExt cx="2103480" cy="282600"/>
          </a:xfrm>
        </p:grpSpPr>
        <p:sp>
          <p:nvSpPr>
            <p:cNvPr id="576" name=""/>
            <p:cNvSpPr/>
            <p:nvPr/>
          </p:nvSpPr>
          <p:spPr>
            <a:xfrm>
              <a:off x="237492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76360" y="50832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12800" y="4246560"/>
            <a:ext cx="284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40" y="341460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80320" y="57625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633840" y="5718240"/>
            <a:ext cx="453960" cy="210960"/>
            <a:chOff x="3633840" y="5718240"/>
            <a:chExt cx="453960" cy="210960"/>
          </a:xfrm>
        </p:grpSpPr>
        <p:sp>
          <p:nvSpPr>
            <p:cNvPr id="582" name=""/>
            <p:cNvSpPr/>
            <p:nvPr/>
          </p:nvSpPr>
          <p:spPr>
            <a:xfrm>
              <a:off x="3633840" y="5718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352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432400" y="57625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97440" y="5729400"/>
            <a:ext cx="453960" cy="209520"/>
            <a:chOff x="4897440" y="5729400"/>
            <a:chExt cx="453960" cy="209520"/>
          </a:xfrm>
        </p:grpSpPr>
        <p:sp>
          <p:nvSpPr>
            <p:cNvPr id="586" name=""/>
            <p:cNvSpPr/>
            <p:nvPr/>
          </p:nvSpPr>
          <p:spPr>
            <a:xfrm>
              <a:off x="4897440" y="57294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988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45600" y="576252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80320" y="60246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633840" y="6002280"/>
            <a:ext cx="453960" cy="209520"/>
            <a:chOff x="3633840" y="6002280"/>
            <a:chExt cx="453960" cy="209520"/>
          </a:xfrm>
        </p:grpSpPr>
        <p:sp>
          <p:nvSpPr>
            <p:cNvPr id="591" name=""/>
            <p:cNvSpPr/>
            <p:nvPr/>
          </p:nvSpPr>
          <p:spPr>
            <a:xfrm>
              <a:off x="3633840" y="60022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35280" y="62006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432400" y="60246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897440" y="6002280"/>
            <a:ext cx="453960" cy="219240"/>
            <a:chOff x="4897440" y="6002280"/>
            <a:chExt cx="453960" cy="219240"/>
          </a:xfrm>
        </p:grpSpPr>
        <p:sp>
          <p:nvSpPr>
            <p:cNvPr id="595" name=""/>
            <p:cNvSpPr/>
            <p:nvPr/>
          </p:nvSpPr>
          <p:spPr>
            <a:xfrm>
              <a:off x="4897440" y="600228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8880" y="62118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00520" y="5221440"/>
            <a:ext cx="396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44760" y="5284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04120" y="5526000"/>
            <a:ext cx="196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05200" y="6297480"/>
            <a:ext cx="278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546440" y="6588000"/>
            <a:ext cx="2103480" cy="282600"/>
            <a:chOff x="4546440" y="6588000"/>
            <a:chExt cx="2103480" cy="282600"/>
          </a:xfrm>
        </p:grpSpPr>
        <p:sp>
          <p:nvSpPr>
            <p:cNvPr id="602" name=""/>
            <p:cNvSpPr/>
            <p:nvPr/>
          </p:nvSpPr>
          <p:spPr>
            <a:xfrm>
              <a:off x="454644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4824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14200" y="6588000"/>
            <a:ext cx="2103480" cy="282600"/>
            <a:chOff x="214200" y="6588000"/>
            <a:chExt cx="2103480" cy="282600"/>
          </a:xfrm>
        </p:grpSpPr>
        <p:sp>
          <p:nvSpPr>
            <p:cNvPr id="605" name=""/>
            <p:cNvSpPr/>
            <p:nvPr/>
          </p:nvSpPr>
          <p:spPr>
            <a:xfrm>
              <a:off x="21420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600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374920" y="6588000"/>
            <a:ext cx="2103480" cy="282600"/>
            <a:chOff x="2374920" y="6588000"/>
            <a:chExt cx="2103480" cy="282600"/>
          </a:xfrm>
        </p:grpSpPr>
        <p:sp>
          <p:nvSpPr>
            <p:cNvPr id="608" name=""/>
            <p:cNvSpPr/>
            <p:nvPr/>
          </p:nvSpPr>
          <p:spPr>
            <a:xfrm>
              <a:off x="237492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76360" y="68612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45600" y="602460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0" y="51800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80320" y="74898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633840" y="7445520"/>
            <a:ext cx="453960" cy="210960"/>
            <a:chOff x="3633840" y="7445520"/>
            <a:chExt cx="453960" cy="210960"/>
          </a:xfrm>
        </p:grpSpPr>
        <p:sp>
          <p:nvSpPr>
            <p:cNvPr id="614" name=""/>
            <p:cNvSpPr/>
            <p:nvPr/>
          </p:nvSpPr>
          <p:spPr>
            <a:xfrm>
              <a:off x="3633840" y="74455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352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432400" y="74898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897440" y="7456320"/>
            <a:ext cx="453960" cy="209880"/>
            <a:chOff x="4897440" y="7456320"/>
            <a:chExt cx="453960" cy="209880"/>
          </a:xfrm>
        </p:grpSpPr>
        <p:sp>
          <p:nvSpPr>
            <p:cNvPr id="618" name=""/>
            <p:cNvSpPr/>
            <p:nvPr/>
          </p:nvSpPr>
          <p:spPr>
            <a:xfrm>
              <a:off x="4897440" y="7456320"/>
              <a:ext cx="453960" cy="20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988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03400" y="6999120"/>
            <a:ext cx="404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4760" y="706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68400" y="7459560"/>
            <a:ext cx="257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5920" y="7772400"/>
            <a:ext cx="338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46440" y="8050320"/>
            <a:ext cx="2103480" cy="282600"/>
            <a:chOff x="4546440" y="8050320"/>
            <a:chExt cx="2103480" cy="282600"/>
          </a:xfrm>
        </p:grpSpPr>
        <p:sp>
          <p:nvSpPr>
            <p:cNvPr id="625" name=""/>
            <p:cNvSpPr/>
            <p:nvPr/>
          </p:nvSpPr>
          <p:spPr>
            <a:xfrm>
              <a:off x="454644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4824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4200" y="8050320"/>
            <a:ext cx="2103480" cy="282600"/>
            <a:chOff x="214200" y="8050320"/>
            <a:chExt cx="2103480" cy="282600"/>
          </a:xfrm>
        </p:grpSpPr>
        <p:sp>
          <p:nvSpPr>
            <p:cNvPr id="628" name=""/>
            <p:cNvSpPr/>
            <p:nvPr/>
          </p:nvSpPr>
          <p:spPr>
            <a:xfrm>
              <a:off x="21420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600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374920" y="8050320"/>
            <a:ext cx="2103480" cy="282600"/>
            <a:chOff x="2374920" y="8050320"/>
            <a:chExt cx="2103480" cy="282600"/>
          </a:xfrm>
        </p:grpSpPr>
        <p:sp>
          <p:nvSpPr>
            <p:cNvPr id="631" name=""/>
            <p:cNvSpPr/>
            <p:nvPr/>
          </p:nvSpPr>
          <p:spPr>
            <a:xfrm>
              <a:off x="237492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76360" y="832320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440" y="6958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80" y="84074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73120" y="853452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19960" y="66600"/>
            <a:ext cx="1776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9960" y="638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820800"/>
            <a:ext cx="611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scribe your training for a typical week of the pre-com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4480" y="996840"/>
            <a:ext cx="235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4840" y="1332000"/>
            <a:ext cx="257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30800" y="13222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95480" y="1306440"/>
            <a:ext cx="455760" cy="211320"/>
            <a:chOff x="2895480" y="1306440"/>
            <a:chExt cx="455760" cy="211320"/>
          </a:xfrm>
        </p:grpSpPr>
        <p:sp>
          <p:nvSpPr>
            <p:cNvPr id="643" name=""/>
            <p:cNvSpPr/>
            <p:nvPr/>
          </p:nvSpPr>
          <p:spPr>
            <a:xfrm>
              <a:off x="2895480" y="1306440"/>
              <a:ext cx="45576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7280" y="15066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682880" y="13222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149720" y="1297080"/>
            <a:ext cx="465120" cy="220680"/>
            <a:chOff x="4149720" y="1297080"/>
            <a:chExt cx="465120" cy="220680"/>
          </a:xfrm>
        </p:grpSpPr>
        <p:sp>
          <p:nvSpPr>
            <p:cNvPr id="647" name=""/>
            <p:cNvSpPr/>
            <p:nvPr/>
          </p:nvSpPr>
          <p:spPr>
            <a:xfrm>
              <a:off x="4159080" y="129708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49720" y="15066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680" y="571680"/>
            <a:ext cx="6900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80320" y="22194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633840" y="2174760"/>
            <a:ext cx="453960" cy="211320"/>
            <a:chOff x="3633840" y="2174760"/>
            <a:chExt cx="453960" cy="211320"/>
          </a:xfrm>
        </p:grpSpPr>
        <p:sp>
          <p:nvSpPr>
            <p:cNvPr id="652" name=""/>
            <p:cNvSpPr/>
            <p:nvPr/>
          </p:nvSpPr>
          <p:spPr>
            <a:xfrm>
              <a:off x="3633840" y="2174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352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432400" y="22194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897440" y="2185920"/>
            <a:ext cx="453960" cy="209520"/>
            <a:chOff x="4897440" y="2185920"/>
            <a:chExt cx="453960" cy="209520"/>
          </a:xfrm>
        </p:grpSpPr>
        <p:sp>
          <p:nvSpPr>
            <p:cNvPr id="656" name=""/>
            <p:cNvSpPr/>
            <p:nvPr/>
          </p:nvSpPr>
          <p:spPr>
            <a:xfrm>
              <a:off x="4897440" y="21859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988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251080" y="2219400"/>
            <a:ext cx="130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80320" y="24811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633840" y="2459160"/>
            <a:ext cx="453960" cy="209520"/>
            <a:chOff x="3633840" y="2459160"/>
            <a:chExt cx="453960" cy="209520"/>
          </a:xfrm>
        </p:grpSpPr>
        <p:sp>
          <p:nvSpPr>
            <p:cNvPr id="661" name=""/>
            <p:cNvSpPr/>
            <p:nvPr/>
          </p:nvSpPr>
          <p:spPr>
            <a:xfrm>
              <a:off x="3633840" y="2459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35280" y="26575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32400" y="24811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97440" y="2459160"/>
            <a:ext cx="453960" cy="218880"/>
            <a:chOff x="4897440" y="2459160"/>
            <a:chExt cx="453960" cy="218880"/>
          </a:xfrm>
        </p:grpSpPr>
        <p:sp>
          <p:nvSpPr>
            <p:cNvPr id="665" name=""/>
            <p:cNvSpPr/>
            <p:nvPr/>
          </p:nvSpPr>
          <p:spPr>
            <a:xfrm>
              <a:off x="4897440" y="2459160"/>
              <a:ext cx="4539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98880" y="266868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01240" y="1703520"/>
            <a:ext cx="620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4760" y="17668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4480" y="2008080"/>
            <a:ext cx="209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05200" y="2754360"/>
            <a:ext cx="293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546440" y="3044880"/>
            <a:ext cx="2103480" cy="282600"/>
            <a:chOff x="4546440" y="3044880"/>
            <a:chExt cx="2103480" cy="282600"/>
          </a:xfrm>
        </p:grpSpPr>
        <p:sp>
          <p:nvSpPr>
            <p:cNvPr id="672" name=""/>
            <p:cNvSpPr/>
            <p:nvPr/>
          </p:nvSpPr>
          <p:spPr>
            <a:xfrm>
              <a:off x="454644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4824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14200" y="3044880"/>
            <a:ext cx="2103480" cy="282600"/>
            <a:chOff x="214200" y="3044880"/>
            <a:chExt cx="2103480" cy="282600"/>
          </a:xfrm>
        </p:grpSpPr>
        <p:sp>
          <p:nvSpPr>
            <p:cNvPr id="675" name=""/>
            <p:cNvSpPr/>
            <p:nvPr/>
          </p:nvSpPr>
          <p:spPr>
            <a:xfrm>
              <a:off x="21420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600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74920" y="3044880"/>
            <a:ext cx="2103480" cy="282600"/>
            <a:chOff x="2374920" y="3044880"/>
            <a:chExt cx="2103480" cy="282600"/>
          </a:xfrm>
        </p:grpSpPr>
        <p:sp>
          <p:nvSpPr>
            <p:cNvPr id="678" name=""/>
            <p:cNvSpPr/>
            <p:nvPr/>
          </p:nvSpPr>
          <p:spPr>
            <a:xfrm>
              <a:off x="237492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6360" y="331776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775160" y="2481120"/>
            <a:ext cx="177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166212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80320" y="39844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633840" y="3940200"/>
            <a:ext cx="453960" cy="210960"/>
            <a:chOff x="3633840" y="3940200"/>
            <a:chExt cx="453960" cy="210960"/>
          </a:xfrm>
        </p:grpSpPr>
        <p:sp>
          <p:nvSpPr>
            <p:cNvPr id="684" name=""/>
            <p:cNvSpPr/>
            <p:nvPr/>
          </p:nvSpPr>
          <p:spPr>
            <a:xfrm>
              <a:off x="3633840" y="3940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352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432400" y="39844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897440" y="3951360"/>
            <a:ext cx="453960" cy="209520"/>
            <a:chOff x="4897440" y="3951360"/>
            <a:chExt cx="453960" cy="209520"/>
          </a:xfrm>
        </p:grpSpPr>
        <p:sp>
          <p:nvSpPr>
            <p:cNvPr id="688" name=""/>
            <p:cNvSpPr/>
            <p:nvPr/>
          </p:nvSpPr>
          <p:spPr>
            <a:xfrm>
              <a:off x="4897440" y="39513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8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1188720" y="3984480"/>
            <a:ext cx="2364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180320" y="424656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633840" y="4224240"/>
            <a:ext cx="453960" cy="209520"/>
            <a:chOff x="3633840" y="4224240"/>
            <a:chExt cx="453960" cy="209520"/>
          </a:xfrm>
        </p:grpSpPr>
        <p:sp>
          <p:nvSpPr>
            <p:cNvPr id="693" name=""/>
            <p:cNvSpPr/>
            <p:nvPr/>
          </p:nvSpPr>
          <p:spPr>
            <a:xfrm>
              <a:off x="3633840" y="4224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35280" y="44226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32400" y="424656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897440" y="4224240"/>
            <a:ext cx="453960" cy="219240"/>
            <a:chOff x="4897440" y="4224240"/>
            <a:chExt cx="453960" cy="219240"/>
          </a:xfrm>
        </p:grpSpPr>
        <p:sp>
          <p:nvSpPr>
            <p:cNvPr id="697" name=""/>
            <p:cNvSpPr/>
            <p:nvPr/>
          </p:nvSpPr>
          <p:spPr>
            <a:xfrm>
              <a:off x="4897440" y="42242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98880" y="443376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99800" y="3456000"/>
            <a:ext cx="488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44760" y="35193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04120" y="3760920"/>
            <a:ext cx="23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4840" y="4519440"/>
            <a:ext cx="27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546440" y="4809960"/>
            <a:ext cx="2103480" cy="282600"/>
            <a:chOff x="4546440" y="4809960"/>
            <a:chExt cx="2103480" cy="282600"/>
          </a:xfrm>
        </p:grpSpPr>
        <p:sp>
          <p:nvSpPr>
            <p:cNvPr id="704" name=""/>
            <p:cNvSpPr/>
            <p:nvPr/>
          </p:nvSpPr>
          <p:spPr>
            <a:xfrm>
              <a:off x="454644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4824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14200" y="4809960"/>
            <a:ext cx="2103480" cy="282600"/>
            <a:chOff x="214200" y="4809960"/>
            <a:chExt cx="2103480" cy="282600"/>
          </a:xfrm>
        </p:grpSpPr>
        <p:sp>
          <p:nvSpPr>
            <p:cNvPr id="707" name=""/>
            <p:cNvSpPr/>
            <p:nvPr/>
          </p:nvSpPr>
          <p:spPr>
            <a:xfrm>
              <a:off x="21420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600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374920" y="4809960"/>
            <a:ext cx="2103480" cy="282600"/>
            <a:chOff x="2374920" y="4809960"/>
            <a:chExt cx="2103480" cy="282600"/>
          </a:xfrm>
        </p:grpSpPr>
        <p:sp>
          <p:nvSpPr>
            <p:cNvPr id="710" name=""/>
            <p:cNvSpPr/>
            <p:nvPr/>
          </p:nvSpPr>
          <p:spPr>
            <a:xfrm>
              <a:off x="237492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76360" y="50832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712800" y="4246560"/>
            <a:ext cx="284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0" y="341460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180320" y="57625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633840" y="5718240"/>
            <a:ext cx="453960" cy="210960"/>
            <a:chOff x="3633840" y="5718240"/>
            <a:chExt cx="453960" cy="210960"/>
          </a:xfrm>
        </p:grpSpPr>
        <p:sp>
          <p:nvSpPr>
            <p:cNvPr id="716" name=""/>
            <p:cNvSpPr/>
            <p:nvPr/>
          </p:nvSpPr>
          <p:spPr>
            <a:xfrm>
              <a:off x="3633840" y="5718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52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5432400" y="57625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897440" y="5729400"/>
            <a:ext cx="453960" cy="209520"/>
            <a:chOff x="4897440" y="5729400"/>
            <a:chExt cx="453960" cy="209520"/>
          </a:xfrm>
        </p:grpSpPr>
        <p:sp>
          <p:nvSpPr>
            <p:cNvPr id="720" name=""/>
            <p:cNvSpPr/>
            <p:nvPr/>
          </p:nvSpPr>
          <p:spPr>
            <a:xfrm>
              <a:off x="4897440" y="57294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88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345600" y="576252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180320" y="60246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633840" y="6002280"/>
            <a:ext cx="453960" cy="209520"/>
            <a:chOff x="3633840" y="6002280"/>
            <a:chExt cx="453960" cy="209520"/>
          </a:xfrm>
        </p:grpSpPr>
        <p:sp>
          <p:nvSpPr>
            <p:cNvPr id="725" name=""/>
            <p:cNvSpPr/>
            <p:nvPr/>
          </p:nvSpPr>
          <p:spPr>
            <a:xfrm>
              <a:off x="3633840" y="60022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35280" y="62006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5432400" y="60246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897440" y="6002280"/>
            <a:ext cx="453960" cy="219240"/>
            <a:chOff x="4897440" y="6002280"/>
            <a:chExt cx="453960" cy="219240"/>
          </a:xfrm>
        </p:grpSpPr>
        <p:sp>
          <p:nvSpPr>
            <p:cNvPr id="729" name=""/>
            <p:cNvSpPr/>
            <p:nvPr/>
          </p:nvSpPr>
          <p:spPr>
            <a:xfrm>
              <a:off x="4897440" y="600228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98880" y="62118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00520" y="5221440"/>
            <a:ext cx="396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44760" y="5284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4120" y="5526000"/>
            <a:ext cx="196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5200" y="6297480"/>
            <a:ext cx="278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546440" y="6588000"/>
            <a:ext cx="2103480" cy="282600"/>
            <a:chOff x="4546440" y="6588000"/>
            <a:chExt cx="2103480" cy="282600"/>
          </a:xfrm>
        </p:grpSpPr>
        <p:sp>
          <p:nvSpPr>
            <p:cNvPr id="736" name=""/>
            <p:cNvSpPr/>
            <p:nvPr/>
          </p:nvSpPr>
          <p:spPr>
            <a:xfrm>
              <a:off x="454644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4824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14200" y="6588000"/>
            <a:ext cx="2103480" cy="282600"/>
            <a:chOff x="214200" y="6588000"/>
            <a:chExt cx="2103480" cy="282600"/>
          </a:xfrm>
        </p:grpSpPr>
        <p:sp>
          <p:nvSpPr>
            <p:cNvPr id="739" name=""/>
            <p:cNvSpPr/>
            <p:nvPr/>
          </p:nvSpPr>
          <p:spPr>
            <a:xfrm>
              <a:off x="21420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600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374920" y="6588000"/>
            <a:ext cx="2103480" cy="282600"/>
            <a:chOff x="2374920" y="6588000"/>
            <a:chExt cx="2103480" cy="282600"/>
          </a:xfrm>
        </p:grpSpPr>
        <p:sp>
          <p:nvSpPr>
            <p:cNvPr id="742" name=""/>
            <p:cNvSpPr/>
            <p:nvPr/>
          </p:nvSpPr>
          <p:spPr>
            <a:xfrm>
              <a:off x="237492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76360" y="68612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345600" y="602460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0" y="51800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80320" y="74898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633840" y="7445520"/>
            <a:ext cx="453960" cy="210960"/>
            <a:chOff x="3633840" y="7445520"/>
            <a:chExt cx="453960" cy="210960"/>
          </a:xfrm>
        </p:grpSpPr>
        <p:sp>
          <p:nvSpPr>
            <p:cNvPr id="748" name=""/>
            <p:cNvSpPr/>
            <p:nvPr/>
          </p:nvSpPr>
          <p:spPr>
            <a:xfrm>
              <a:off x="3633840" y="74455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352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432400" y="74898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897440" y="7456320"/>
            <a:ext cx="453960" cy="209880"/>
            <a:chOff x="4897440" y="7456320"/>
            <a:chExt cx="453960" cy="209880"/>
          </a:xfrm>
        </p:grpSpPr>
        <p:sp>
          <p:nvSpPr>
            <p:cNvPr id="752" name=""/>
            <p:cNvSpPr/>
            <p:nvPr/>
          </p:nvSpPr>
          <p:spPr>
            <a:xfrm>
              <a:off x="4897440" y="7456320"/>
              <a:ext cx="453960" cy="20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988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03400" y="6999120"/>
            <a:ext cx="404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44760" y="706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68400" y="7459560"/>
            <a:ext cx="257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920" y="7772400"/>
            <a:ext cx="338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546440" y="8050320"/>
            <a:ext cx="2103480" cy="282600"/>
            <a:chOff x="4546440" y="8050320"/>
            <a:chExt cx="2103480" cy="282600"/>
          </a:xfrm>
        </p:grpSpPr>
        <p:sp>
          <p:nvSpPr>
            <p:cNvPr id="759" name=""/>
            <p:cNvSpPr/>
            <p:nvPr/>
          </p:nvSpPr>
          <p:spPr>
            <a:xfrm>
              <a:off x="454644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4824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14200" y="8050320"/>
            <a:ext cx="2103480" cy="282600"/>
            <a:chOff x="214200" y="8050320"/>
            <a:chExt cx="2103480" cy="282600"/>
          </a:xfrm>
        </p:grpSpPr>
        <p:sp>
          <p:nvSpPr>
            <p:cNvPr id="762" name=""/>
            <p:cNvSpPr/>
            <p:nvPr/>
          </p:nvSpPr>
          <p:spPr>
            <a:xfrm>
              <a:off x="21420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600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374920" y="8050320"/>
            <a:ext cx="2103480" cy="282600"/>
            <a:chOff x="2374920" y="8050320"/>
            <a:chExt cx="2103480" cy="282600"/>
          </a:xfrm>
        </p:grpSpPr>
        <p:sp>
          <p:nvSpPr>
            <p:cNvPr id="765" name=""/>
            <p:cNvSpPr/>
            <p:nvPr/>
          </p:nvSpPr>
          <p:spPr>
            <a:xfrm>
              <a:off x="237492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76360" y="832320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1440" y="6958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680" y="84074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3120" y="853452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538020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5683320"/>
            <a:ext cx="6858000" cy="314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6289560"/>
            <a:ext cx="6858000" cy="312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5986440"/>
            <a:ext cx="6858000" cy="3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660240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5800" y="8244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5760" y="812880"/>
            <a:ext cx="429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how you reduce training prior to an important competi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5040" y="995400"/>
            <a:ext cx="392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ssume that you have NO illness, injury or other problem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2880" y="1417680"/>
            <a:ext cx="245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many days before an importa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2880" y="1579680"/>
            <a:ext cx="221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ompetition do you start to taper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29520" y="157968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" y="1873080"/>
            <a:ext cx="327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many days before an important competi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2880" y="2035080"/>
            <a:ext cx="256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o you have your last training sessio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822840" y="1967040"/>
            <a:ext cx="411120" cy="237960"/>
            <a:chOff x="3822840" y="1967040"/>
            <a:chExt cx="411120" cy="237960"/>
          </a:xfrm>
        </p:grpSpPr>
        <p:sp>
          <p:nvSpPr>
            <p:cNvPr id="784" name=""/>
            <p:cNvSpPr/>
            <p:nvPr/>
          </p:nvSpPr>
          <p:spPr>
            <a:xfrm>
              <a:off x="3822840" y="1967040"/>
              <a:ext cx="41112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24280" y="2195640"/>
              <a:ext cx="39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332600" y="203508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55160" y="660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71080" y="2565360"/>
            <a:ext cx="134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w do you taper?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75520" y="2890800"/>
            <a:ext cx="350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 change my train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raduall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throughout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087440" y="50576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008960" y="518652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t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61720" y="5186520"/>
            <a:ext cx="52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63000" y="518652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2200" y="518652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13240" y="5435640"/>
            <a:ext cx="67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25880" y="543564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92600" y="54356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249960" y="54356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194560" y="5738760"/>
            <a:ext cx="199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val (NOT counting res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57720" y="573876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25880" y="573876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92600" y="573876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249960" y="573876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9320" y="6041880"/>
            <a:ext cx="377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sts between each interval or rep during interval 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257720" y="604188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925880" y="604188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92600" y="604188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49960" y="604188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59400" y="634536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57720" y="6345360"/>
            <a:ext cx="1951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925880" y="6345360"/>
            <a:ext cx="19548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592600" y="6345360"/>
            <a:ext cx="1969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249960" y="6345360"/>
            <a:ext cx="1969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5040" y="4849920"/>
            <a:ext cx="378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uring the taper, how do you change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SPE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3440" y="50115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2880" y="5021280"/>
            <a:ext cx="225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n each of these types of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073120" y="873612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769608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7999560"/>
            <a:ext cx="6858000" cy="314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30268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494160" y="7753320"/>
            <a:ext cx="67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257720" y="7751880"/>
            <a:ext cx="1951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925880" y="7751880"/>
            <a:ext cx="19548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92600" y="7751880"/>
            <a:ext cx="1969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49960" y="7751880"/>
            <a:ext cx="1969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26640" y="8056440"/>
            <a:ext cx="54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57720" y="805500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25880" y="805500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92600" y="805500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49960" y="805500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640320" y="835992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257720" y="835812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25880" y="835812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92600" y="835812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49960" y="835812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74680" y="7143840"/>
            <a:ext cx="367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uring the taper, how do you change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NSIT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3960" y="7315200"/>
            <a:ext cx="326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pace or effort) of each of these types of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257720" y="543564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16520" y="290196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044360" y="3176640"/>
            <a:ext cx="333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 change my training most at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of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16520" y="31766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39920" y="3787920"/>
            <a:ext cx="21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ther strategy (please describe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880" y="4048200"/>
            <a:ext cx="6195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471920" y="290196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471920" y="31766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60760" y="267192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932360" y="26719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06720" y="66596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ki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257720" y="6657840"/>
            <a:ext cx="1951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925880" y="6657840"/>
            <a:ext cx="19548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92600" y="66578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49960" y="66578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611680" y="5062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90680" y="73724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011840" y="750096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t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64960" y="7500960"/>
            <a:ext cx="52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466240" y="750096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85080" y="7500960"/>
            <a:ext cx="49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14920" y="73771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40" y="584280"/>
            <a:ext cx="6900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160" y="128916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40" y="2413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-7920" y="4754520"/>
            <a:ext cx="68752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-17640" y="70516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133800" y="1517760"/>
            <a:ext cx="411120" cy="237960"/>
            <a:chOff x="3133800" y="1517760"/>
            <a:chExt cx="411120" cy="237960"/>
          </a:xfrm>
        </p:grpSpPr>
        <p:sp>
          <p:nvSpPr>
            <p:cNvPr id="866" name=""/>
            <p:cNvSpPr/>
            <p:nvPr/>
          </p:nvSpPr>
          <p:spPr>
            <a:xfrm>
              <a:off x="3133800" y="1517760"/>
              <a:ext cx="41112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35240" y="1746360"/>
              <a:ext cx="397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1123920" y="3471840"/>
            <a:ext cx="326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 change my training most at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of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916520" y="34718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471920" y="3471840"/>
            <a:ext cx="19692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47680" y="8458200"/>
            <a:ext cx="3347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leas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HECK BACK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rough the questionnai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46240" y="8651880"/>
            <a:ext cx="262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ke sure you answered everything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954680" y="8732880"/>
            <a:ext cx="1742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48400" y="8842320"/>
            <a:ext cx="4165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If you miss anything out, we may have to send it back to you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16720" y="66600"/>
            <a:ext cx="1994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7080" y="6253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6080" y="808200"/>
            <a:ext cx="6181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scribe your training for a typical week of the post-com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1240" y="984240"/>
            <a:ext cx="235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1600" y="1319040"/>
            <a:ext cx="257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430800" y="13096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95480" y="1293840"/>
            <a:ext cx="455760" cy="210960"/>
            <a:chOff x="2895480" y="1293840"/>
            <a:chExt cx="455760" cy="210960"/>
          </a:xfrm>
        </p:grpSpPr>
        <p:sp>
          <p:nvSpPr>
            <p:cNvPr id="882" name=""/>
            <p:cNvSpPr/>
            <p:nvPr/>
          </p:nvSpPr>
          <p:spPr>
            <a:xfrm>
              <a:off x="2895480" y="1293840"/>
              <a:ext cx="45576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97280" y="14940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4682880" y="13096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149720" y="1284120"/>
            <a:ext cx="465120" cy="220680"/>
            <a:chOff x="4149720" y="1284120"/>
            <a:chExt cx="465120" cy="220680"/>
          </a:xfrm>
        </p:grpSpPr>
        <p:sp>
          <p:nvSpPr>
            <p:cNvPr id="886" name=""/>
            <p:cNvSpPr/>
            <p:nvPr/>
          </p:nvSpPr>
          <p:spPr>
            <a:xfrm>
              <a:off x="4159080" y="128412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49720" y="14940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440" y="558720"/>
            <a:ext cx="690084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77080" y="22068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630600" y="2162160"/>
            <a:ext cx="453960" cy="211320"/>
            <a:chOff x="3630600" y="2162160"/>
            <a:chExt cx="453960" cy="211320"/>
          </a:xfrm>
        </p:grpSpPr>
        <p:sp>
          <p:nvSpPr>
            <p:cNvPr id="891" name=""/>
            <p:cNvSpPr/>
            <p:nvPr/>
          </p:nvSpPr>
          <p:spPr>
            <a:xfrm>
              <a:off x="3630600" y="2162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32040" y="23716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429160" y="22068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894200" y="2173320"/>
            <a:ext cx="453960" cy="209520"/>
            <a:chOff x="4894200" y="2173320"/>
            <a:chExt cx="453960" cy="209520"/>
          </a:xfrm>
        </p:grpSpPr>
        <p:sp>
          <p:nvSpPr>
            <p:cNvPr id="895" name=""/>
            <p:cNvSpPr/>
            <p:nvPr/>
          </p:nvSpPr>
          <p:spPr>
            <a:xfrm>
              <a:off x="4894200" y="21733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96000" y="237168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247840" y="2206800"/>
            <a:ext cx="130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77080" y="24685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630600" y="2446200"/>
            <a:ext cx="453960" cy="209520"/>
            <a:chOff x="3630600" y="2446200"/>
            <a:chExt cx="453960" cy="209520"/>
          </a:xfrm>
        </p:grpSpPr>
        <p:sp>
          <p:nvSpPr>
            <p:cNvPr id="900" name=""/>
            <p:cNvSpPr/>
            <p:nvPr/>
          </p:nvSpPr>
          <p:spPr>
            <a:xfrm>
              <a:off x="3630600" y="2446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32040" y="26449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429160" y="24685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894200" y="2446200"/>
            <a:ext cx="453960" cy="219240"/>
            <a:chOff x="4894200" y="2446200"/>
            <a:chExt cx="453960" cy="219240"/>
          </a:xfrm>
        </p:grpSpPr>
        <p:sp>
          <p:nvSpPr>
            <p:cNvPr id="904" name=""/>
            <p:cNvSpPr/>
            <p:nvPr/>
          </p:nvSpPr>
          <p:spPr>
            <a:xfrm>
              <a:off x="4894200" y="244620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96000" y="265572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198000" y="1690560"/>
            <a:ext cx="620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41520" y="17542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1240" y="1995480"/>
            <a:ext cx="209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1960" y="2741760"/>
            <a:ext cx="293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543560" y="3032280"/>
            <a:ext cx="2103480" cy="282600"/>
            <a:chOff x="4543560" y="3032280"/>
            <a:chExt cx="2103480" cy="282600"/>
          </a:xfrm>
        </p:grpSpPr>
        <p:sp>
          <p:nvSpPr>
            <p:cNvPr id="911" name=""/>
            <p:cNvSpPr/>
            <p:nvPr/>
          </p:nvSpPr>
          <p:spPr>
            <a:xfrm>
              <a:off x="454356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45000" y="330516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10960" y="3032280"/>
            <a:ext cx="2103480" cy="282600"/>
            <a:chOff x="210960" y="3032280"/>
            <a:chExt cx="2103480" cy="282600"/>
          </a:xfrm>
        </p:grpSpPr>
        <p:sp>
          <p:nvSpPr>
            <p:cNvPr id="914" name=""/>
            <p:cNvSpPr/>
            <p:nvPr/>
          </p:nvSpPr>
          <p:spPr>
            <a:xfrm>
              <a:off x="21096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2760" y="330516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371680" y="3032280"/>
            <a:ext cx="2103480" cy="282600"/>
            <a:chOff x="2371680" y="3032280"/>
            <a:chExt cx="2103480" cy="282600"/>
          </a:xfrm>
        </p:grpSpPr>
        <p:sp>
          <p:nvSpPr>
            <p:cNvPr id="917" name=""/>
            <p:cNvSpPr/>
            <p:nvPr/>
          </p:nvSpPr>
          <p:spPr>
            <a:xfrm>
              <a:off x="237168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73480" y="330516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771920" y="2468520"/>
            <a:ext cx="177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164952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77080" y="397188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630600" y="3927600"/>
            <a:ext cx="453960" cy="210960"/>
            <a:chOff x="3630600" y="3927600"/>
            <a:chExt cx="453960" cy="210960"/>
          </a:xfrm>
        </p:grpSpPr>
        <p:sp>
          <p:nvSpPr>
            <p:cNvPr id="923" name=""/>
            <p:cNvSpPr/>
            <p:nvPr/>
          </p:nvSpPr>
          <p:spPr>
            <a:xfrm>
              <a:off x="3630600" y="39276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32040" y="41371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5429160" y="39718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894200" y="3938760"/>
            <a:ext cx="453960" cy="209520"/>
            <a:chOff x="4894200" y="3938760"/>
            <a:chExt cx="453960" cy="209520"/>
          </a:xfrm>
        </p:grpSpPr>
        <p:sp>
          <p:nvSpPr>
            <p:cNvPr id="927" name=""/>
            <p:cNvSpPr/>
            <p:nvPr/>
          </p:nvSpPr>
          <p:spPr>
            <a:xfrm>
              <a:off x="4894200" y="3938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96000" y="413712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185480" y="3971880"/>
            <a:ext cx="2364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77080" y="423396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630600" y="4211640"/>
            <a:ext cx="453960" cy="209520"/>
            <a:chOff x="3630600" y="4211640"/>
            <a:chExt cx="453960" cy="209520"/>
          </a:xfrm>
        </p:grpSpPr>
        <p:sp>
          <p:nvSpPr>
            <p:cNvPr id="932" name=""/>
            <p:cNvSpPr/>
            <p:nvPr/>
          </p:nvSpPr>
          <p:spPr>
            <a:xfrm>
              <a:off x="3630600" y="42116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32040" y="44100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5429160" y="423396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894200" y="4211640"/>
            <a:ext cx="453960" cy="219240"/>
            <a:chOff x="4894200" y="4211640"/>
            <a:chExt cx="453960" cy="219240"/>
          </a:xfrm>
        </p:grpSpPr>
        <p:sp>
          <p:nvSpPr>
            <p:cNvPr id="936" name=""/>
            <p:cNvSpPr/>
            <p:nvPr/>
          </p:nvSpPr>
          <p:spPr>
            <a:xfrm>
              <a:off x="4894200" y="42116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896000" y="44211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96560" y="3443400"/>
            <a:ext cx="488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41520" y="35067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00880" y="3747960"/>
            <a:ext cx="23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01600" y="4506840"/>
            <a:ext cx="27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543560" y="4797360"/>
            <a:ext cx="2103480" cy="282600"/>
            <a:chOff x="4543560" y="4797360"/>
            <a:chExt cx="2103480" cy="282600"/>
          </a:xfrm>
        </p:grpSpPr>
        <p:sp>
          <p:nvSpPr>
            <p:cNvPr id="943" name=""/>
            <p:cNvSpPr/>
            <p:nvPr/>
          </p:nvSpPr>
          <p:spPr>
            <a:xfrm>
              <a:off x="454356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45000" y="507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0960" y="4797360"/>
            <a:ext cx="2103480" cy="282600"/>
            <a:chOff x="210960" y="4797360"/>
            <a:chExt cx="2103480" cy="282600"/>
          </a:xfrm>
        </p:grpSpPr>
        <p:sp>
          <p:nvSpPr>
            <p:cNvPr id="946" name=""/>
            <p:cNvSpPr/>
            <p:nvPr/>
          </p:nvSpPr>
          <p:spPr>
            <a:xfrm>
              <a:off x="21096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2760" y="507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71680" y="4797360"/>
            <a:ext cx="2103480" cy="282600"/>
            <a:chOff x="2371680" y="4797360"/>
            <a:chExt cx="2103480" cy="282600"/>
          </a:xfrm>
        </p:grpSpPr>
        <p:sp>
          <p:nvSpPr>
            <p:cNvPr id="949" name=""/>
            <p:cNvSpPr/>
            <p:nvPr/>
          </p:nvSpPr>
          <p:spPr>
            <a:xfrm>
              <a:off x="237168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3480" y="50706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09560" y="4233960"/>
            <a:ext cx="284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1440" y="340200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177080" y="574992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630600" y="5705640"/>
            <a:ext cx="453960" cy="210960"/>
            <a:chOff x="3630600" y="5705640"/>
            <a:chExt cx="453960" cy="210960"/>
          </a:xfrm>
        </p:grpSpPr>
        <p:sp>
          <p:nvSpPr>
            <p:cNvPr id="955" name=""/>
            <p:cNvSpPr/>
            <p:nvPr/>
          </p:nvSpPr>
          <p:spPr>
            <a:xfrm>
              <a:off x="3630600" y="57056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32040" y="59151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5429160" y="574992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894200" y="5716440"/>
            <a:ext cx="453960" cy="209520"/>
            <a:chOff x="4894200" y="5716440"/>
            <a:chExt cx="453960" cy="209520"/>
          </a:xfrm>
        </p:grpSpPr>
        <p:sp>
          <p:nvSpPr>
            <p:cNvPr id="959" name=""/>
            <p:cNvSpPr/>
            <p:nvPr/>
          </p:nvSpPr>
          <p:spPr>
            <a:xfrm>
              <a:off x="4894200" y="57164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96000" y="59151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342360" y="574992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177080" y="60120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630600" y="5989680"/>
            <a:ext cx="453960" cy="209520"/>
            <a:chOff x="3630600" y="5989680"/>
            <a:chExt cx="453960" cy="209520"/>
          </a:xfrm>
        </p:grpSpPr>
        <p:sp>
          <p:nvSpPr>
            <p:cNvPr id="964" name=""/>
            <p:cNvSpPr/>
            <p:nvPr/>
          </p:nvSpPr>
          <p:spPr>
            <a:xfrm>
              <a:off x="3630600" y="59896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2040" y="61880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429160" y="60120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894200" y="5989680"/>
            <a:ext cx="453960" cy="218880"/>
            <a:chOff x="4894200" y="5989680"/>
            <a:chExt cx="453960" cy="218880"/>
          </a:xfrm>
        </p:grpSpPr>
        <p:sp>
          <p:nvSpPr>
            <p:cNvPr id="968" name=""/>
            <p:cNvSpPr/>
            <p:nvPr/>
          </p:nvSpPr>
          <p:spPr>
            <a:xfrm>
              <a:off x="4894200" y="5989680"/>
              <a:ext cx="4539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96000" y="619920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197280" y="5208480"/>
            <a:ext cx="396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441520" y="5272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00880" y="5513400"/>
            <a:ext cx="196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01960" y="6284880"/>
            <a:ext cx="278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543560" y="6575400"/>
            <a:ext cx="2103480" cy="282600"/>
            <a:chOff x="4543560" y="6575400"/>
            <a:chExt cx="2103480" cy="282600"/>
          </a:xfrm>
        </p:grpSpPr>
        <p:sp>
          <p:nvSpPr>
            <p:cNvPr id="975" name=""/>
            <p:cNvSpPr/>
            <p:nvPr/>
          </p:nvSpPr>
          <p:spPr>
            <a:xfrm>
              <a:off x="454356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5000" y="68486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210960" y="6575400"/>
            <a:ext cx="2103480" cy="282600"/>
            <a:chOff x="210960" y="6575400"/>
            <a:chExt cx="2103480" cy="282600"/>
          </a:xfrm>
        </p:grpSpPr>
        <p:sp>
          <p:nvSpPr>
            <p:cNvPr id="978" name=""/>
            <p:cNvSpPr/>
            <p:nvPr/>
          </p:nvSpPr>
          <p:spPr>
            <a:xfrm>
              <a:off x="21096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2760" y="68486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371680" y="6575400"/>
            <a:ext cx="2103480" cy="282600"/>
            <a:chOff x="2371680" y="6575400"/>
            <a:chExt cx="2103480" cy="282600"/>
          </a:xfrm>
        </p:grpSpPr>
        <p:sp>
          <p:nvSpPr>
            <p:cNvPr id="981" name=""/>
            <p:cNvSpPr/>
            <p:nvPr/>
          </p:nvSpPr>
          <p:spPr>
            <a:xfrm>
              <a:off x="237168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73480" y="68486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42360" y="6012000"/>
            <a:ext cx="320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-1440" y="516744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177080" y="7477200"/>
            <a:ext cx="64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630600" y="7432560"/>
            <a:ext cx="453960" cy="211320"/>
            <a:chOff x="3630600" y="7432560"/>
            <a:chExt cx="453960" cy="211320"/>
          </a:xfrm>
        </p:grpSpPr>
        <p:sp>
          <p:nvSpPr>
            <p:cNvPr id="987" name=""/>
            <p:cNvSpPr/>
            <p:nvPr/>
          </p:nvSpPr>
          <p:spPr>
            <a:xfrm>
              <a:off x="3630600" y="74325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32040" y="76420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29160" y="747720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894200" y="7443720"/>
            <a:ext cx="453960" cy="209520"/>
            <a:chOff x="4894200" y="7443720"/>
            <a:chExt cx="453960" cy="209520"/>
          </a:xfrm>
        </p:grpSpPr>
        <p:sp>
          <p:nvSpPr>
            <p:cNvPr id="991" name=""/>
            <p:cNvSpPr/>
            <p:nvPr/>
          </p:nvSpPr>
          <p:spPr>
            <a:xfrm>
              <a:off x="4894200" y="74437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96000" y="764208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200160" y="6986520"/>
            <a:ext cx="404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41520" y="70502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965160" y="7446960"/>
            <a:ext cx="257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02680" y="7759800"/>
            <a:ext cx="338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543560" y="8037360"/>
            <a:ext cx="2103480" cy="282600"/>
            <a:chOff x="4543560" y="8037360"/>
            <a:chExt cx="2103480" cy="282600"/>
          </a:xfrm>
        </p:grpSpPr>
        <p:sp>
          <p:nvSpPr>
            <p:cNvPr id="998" name=""/>
            <p:cNvSpPr/>
            <p:nvPr/>
          </p:nvSpPr>
          <p:spPr>
            <a:xfrm>
              <a:off x="454356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45000" y="831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10960" y="8037360"/>
            <a:ext cx="2103480" cy="282600"/>
            <a:chOff x="210960" y="8037360"/>
            <a:chExt cx="2103480" cy="282600"/>
          </a:xfrm>
        </p:grpSpPr>
        <p:sp>
          <p:nvSpPr>
            <p:cNvPr id="1001" name=""/>
            <p:cNvSpPr/>
            <p:nvPr/>
          </p:nvSpPr>
          <p:spPr>
            <a:xfrm>
              <a:off x="21096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2760" y="831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371680" y="8037360"/>
            <a:ext cx="2103480" cy="282600"/>
            <a:chOff x="2371680" y="8037360"/>
            <a:chExt cx="2103480" cy="282600"/>
          </a:xfrm>
        </p:grpSpPr>
        <p:sp>
          <p:nvSpPr>
            <p:cNvPr id="1004" name=""/>
            <p:cNvSpPr/>
            <p:nvPr/>
          </p:nvSpPr>
          <p:spPr>
            <a:xfrm>
              <a:off x="237168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3480" y="83106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-1440" y="694548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440" y="83948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6:55:53Z</dcterms:created>
  <dc:creator>Department of Physiology</dc:creator>
  <dc:description/>
  <cp:keywords/>
  <dc:language>en-US</dc:language>
  <cp:lastModifiedBy>Reviewer</cp:lastModifiedBy>
  <cp:lastPrinted>1998-10-13T08:34:56Z</cp:lastPrinted>
  <dcterms:modified xsi:type="dcterms:W3CDTF">2007-11-05T18:48:42Z</dcterms:modified>
  <cp:revision>1</cp:revision>
  <dc:subject/>
  <dc:title>No Slide Title</dc:title>
</cp:coreProperties>
</file>