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582624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880" y="5506200"/>
            <a:ext cx="582624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88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6160" y="263952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3952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880" y="550620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6160" y="550620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6200"/>
            <a:ext cx="187596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880" y="2639520"/>
            <a:ext cx="5826240" cy="54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582624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5880" y="812520"/>
            <a:ext cx="58262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88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620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88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39520"/>
            <a:ext cx="284292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880" y="5506200"/>
            <a:ext cx="5826240" cy="2617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3240"/>
            <a:ext cx="6851520" cy="9137520"/>
          </a:xfrm>
          <a:prstGeom prst="rect">
            <a:avLst/>
          </a:prstGeom>
          <a:solidFill>
            <a:srgbClr val="cecece"/>
          </a:solidFill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5826240" cy="1523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5880" y="2639520"/>
            <a:ext cx="5826240" cy="5488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635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6640" indent="-2206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2680" indent="-2239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21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21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21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025720" y="1440000"/>
            <a:ext cx="422280" cy="34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455920" y="1440000"/>
            <a:ext cx="422280" cy="34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81440" y="1440000"/>
            <a:ext cx="433440" cy="34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17760" y="1440000"/>
            <a:ext cx="433440" cy="34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54440" y="1440000"/>
            <a:ext cx="431640" cy="34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1000" y="622440"/>
            <a:ext cx="1957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lace:  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622440"/>
            <a:ext cx="2151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ach: 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0960" y="954000"/>
            <a:ext cx="156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e:  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280" y="954000"/>
            <a:ext cx="2199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wimmer:  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0640" y="1444680"/>
            <a:ext cx="63972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4720" y="1452600"/>
            <a:ext cx="1440" cy="31752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1520" y="1341360"/>
            <a:ext cx="20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3680" y="18111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9960" y="18111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7080" y="1444680"/>
            <a:ext cx="42048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12720" y="1452600"/>
            <a:ext cx="1800" cy="3063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2320" y="18111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90120" y="18111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17600" y="1341360"/>
            <a:ext cx="32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mm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5480" y="1452600"/>
            <a:ext cx="1440" cy="3063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6240" y="18111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2200" y="1444680"/>
            <a:ext cx="2160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85240" y="1214280"/>
            <a:ext cx="48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ining for…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7440" y="18111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79120" y="1325520"/>
            <a:ext cx="17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,2,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65320" y="1325520"/>
            <a:ext cx="13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e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5400" y="1444680"/>
            <a:ext cx="43344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52840" y="1452600"/>
            <a:ext cx="1800" cy="3063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8520" y="1325520"/>
            <a:ext cx="37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o. of rep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508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172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9240" y="12142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rescrip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02120" y="1444680"/>
            <a:ext cx="65088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7000" y="1452600"/>
            <a:ext cx="1800" cy="3063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4880" y="1341360"/>
            <a:ext cx="291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220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964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1452600"/>
            <a:ext cx="1440" cy="3063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7556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5280" y="150192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92600" y="1442880"/>
            <a:ext cx="22572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24280" y="133668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6460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9840" y="1433520"/>
            <a:ext cx="215640" cy="35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240" y="18111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000" y="1477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15560" y="473040"/>
            <a:ext cx="29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= 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4840" y="598320"/>
            <a:ext cx="35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=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14840" y="725400"/>
            <a:ext cx="35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= 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14840" y="851040"/>
            <a:ext cx="35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 = 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14840" y="977760"/>
            <a:ext cx="35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 = 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14480" y="1103400"/>
            <a:ext cx="41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 = 1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8160" y="473040"/>
            <a:ext cx="44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= spr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88520" y="598320"/>
            <a:ext cx="38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= m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87800" y="725400"/>
            <a:ext cx="38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= bo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38000" y="47304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= stea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38360" y="59832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= 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38360" y="7254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= des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38720" y="85104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 = as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37640" y="9777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 = b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36920" y="1103400"/>
            <a:ext cx="49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 = pick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37640" y="123048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 = o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43160" y="1441440"/>
            <a:ext cx="1440" cy="31752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00960" y="18111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20200" y="18111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95520" y="13255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2200" y="1441440"/>
            <a:ext cx="1800" cy="31752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9300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9928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21040" y="1325520"/>
            <a:ext cx="168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97080" y="1441440"/>
            <a:ext cx="1800" cy="31752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932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596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7720" y="1325520"/>
            <a:ext cx="21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rea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33760" y="1441440"/>
            <a:ext cx="1440" cy="31752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6456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7228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94040" y="1325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d m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70440" y="1441440"/>
            <a:ext cx="1440" cy="31752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268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20120" y="18111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73040" y="247680"/>
            <a:ext cx="779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ining for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38000" y="247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2880" y="103320"/>
            <a:ext cx="448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rding Form for a Set of Swimming R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12840" y="2028960"/>
            <a:ext cx="6272280" cy="1920600"/>
            <a:chOff x="312840" y="2028960"/>
            <a:chExt cx="6272280" cy="1920600"/>
          </a:xfrm>
        </p:grpSpPr>
        <p:grpSp>
          <p:nvGrpSpPr>
            <p:cNvPr id="124" name=""/>
            <p:cNvGrpSpPr/>
            <p:nvPr/>
          </p:nvGrpSpPr>
          <p:grpSpPr>
            <a:xfrm>
              <a:off x="379440" y="2028960"/>
              <a:ext cx="6205680" cy="106920"/>
              <a:chOff x="379440" y="2028960"/>
              <a:chExt cx="6205680" cy="106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089720" y="2028960"/>
                <a:ext cx="29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distanc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05280" y="2028960"/>
                <a:ext cx="879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PB for distance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or 400m)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9440" y="2028960"/>
                <a:ext cx="24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rep no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03160" y="2028960"/>
                <a:ext cx="217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rok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63640" y="2028960"/>
                <a:ext cx="30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rest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780560" y="2028960"/>
                <a:ext cx="44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interval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3000" y="2028960"/>
                <a:ext cx="459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intensity (%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32960" y="2039760"/>
                <a:ext cx="42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or    R,H,M,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98760" y="202896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rest Px min:sec  o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76640" y="2028960"/>
                <a:ext cx="427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ON min:se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22200" y="2141640"/>
              <a:ext cx="6208920" cy="489960"/>
              <a:chOff x="322200" y="2141640"/>
              <a:chExt cx="6208920" cy="489960"/>
            </a:xfrm>
          </p:grpSpPr>
          <p:sp>
            <p:nvSpPr>
              <p:cNvPr id="136" name=""/>
              <p:cNvSpPr/>
              <p:nvPr/>
            </p:nvSpPr>
            <p:spPr>
              <a:xfrm>
                <a:off x="1057320" y="2141640"/>
                <a:ext cx="65232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81040" y="216072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51800" y="249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58080" y="249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7476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32920" y="249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84760" y="214164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91040" y="214164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9768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2832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4720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6464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5880240" y="2255760"/>
                <a:ext cx="31680" cy="111240"/>
                <a:chOff x="5880240" y="2255760"/>
                <a:chExt cx="31680" cy="111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880240" y="2255760"/>
                  <a:ext cx="316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80240" y="233676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6316560" y="214164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37128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92800" y="230184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70120" y="214164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2200" y="214164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9640" y="2149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7800" y="249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4080" y="249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4960" y="214164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69400" y="249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76400" y="214164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8124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1965240" y="2244600"/>
                <a:ext cx="30240" cy="122400"/>
                <a:chOff x="1965240" y="2244600"/>
                <a:chExt cx="30240" cy="1224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965240" y="224460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965240" y="233676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401920" y="214164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78160" y="230184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48920" y="249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3252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40840" y="249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41680" y="214164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9784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49400" y="2141640"/>
                <a:ext cx="432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65400" y="214956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2836800" y="2244600"/>
                <a:ext cx="31680" cy="122400"/>
                <a:chOff x="2836800" y="2244600"/>
                <a:chExt cx="31680" cy="1224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836800" y="224460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36800" y="233676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312156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90412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39240" y="249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32200" y="2141640"/>
                <a:ext cx="6508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54480" y="2149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0580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2324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48200" y="214956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9808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86320" y="214164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2988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76440" y="2141640"/>
                <a:ext cx="2271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260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95680" y="214164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1168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3584520" y="2255760"/>
                <a:ext cx="30240" cy="111240"/>
                <a:chOff x="3584520" y="2255760"/>
                <a:chExt cx="30240" cy="111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584520" y="2255760"/>
                  <a:ext cx="3024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584520" y="233676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385668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3888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54320" y="214164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9788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60960" y="214164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7840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4249800" y="2244600"/>
                <a:ext cx="31680" cy="122400"/>
                <a:chOff x="4249800" y="2244600"/>
                <a:chExt cx="31680" cy="1224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249800" y="224460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249800" y="233676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452340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16760" y="2494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18960" y="2630520"/>
              <a:ext cx="6208920" cy="489960"/>
              <a:chOff x="318960" y="2630520"/>
              <a:chExt cx="6208920" cy="489960"/>
            </a:xfrm>
          </p:grpSpPr>
          <p:sp>
            <p:nvSpPr>
              <p:cNvPr id="208" name=""/>
              <p:cNvSpPr/>
              <p:nvPr/>
            </p:nvSpPr>
            <p:spPr>
              <a:xfrm>
                <a:off x="1054080" y="2630520"/>
                <a:ext cx="65232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77800" y="264960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48560" y="298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55200" y="298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71520" y="2638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29680" y="298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81520" y="2630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88160" y="2630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94440" y="2638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2508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4396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6176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5877000" y="2744640"/>
                <a:ext cx="31680" cy="111240"/>
                <a:chOff x="5877000" y="2744640"/>
                <a:chExt cx="31680" cy="111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877000" y="2744640"/>
                  <a:ext cx="31680" cy="32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877000" y="282564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6313320" y="263052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6804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89560" y="2790720"/>
                <a:ext cx="3204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66880" y="263052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8960" y="2630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36400" y="2638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4560" y="298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0840" y="298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01720" y="2630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66160" y="298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973160" y="2630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78000" y="2638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1962000" y="2733840"/>
                <a:ext cx="30240" cy="122040"/>
                <a:chOff x="1962000" y="2733840"/>
                <a:chExt cx="30240" cy="122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962000" y="2733840"/>
                  <a:ext cx="3024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962000" y="282564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398680" y="263052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74920" y="279072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45680" y="298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2928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37600" y="298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38440" y="2630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9460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846520" y="2630520"/>
                <a:ext cx="431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62160" y="263844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2833560" y="2733840"/>
                <a:ext cx="32040" cy="122040"/>
                <a:chOff x="2833560" y="2733840"/>
                <a:chExt cx="32040" cy="1220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833560" y="2733840"/>
                  <a:ext cx="3204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33560" y="2825640"/>
                  <a:ext cx="320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311832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0088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36000" y="298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29320" y="2630520"/>
                <a:ext cx="6508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51600" y="2638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256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2036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44960" y="263844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9484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83080" y="2630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2664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73560" y="2630520"/>
                <a:ext cx="2268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2936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92440" y="2630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08440" y="2638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3581280" y="2744640"/>
                <a:ext cx="30240" cy="111240"/>
                <a:chOff x="3581280" y="2744640"/>
                <a:chExt cx="30240" cy="1112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581280" y="2744640"/>
                  <a:ext cx="30240" cy="32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581280" y="282564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385344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3600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51440" y="263052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9464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57720" y="2630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75160" y="2638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4246560" y="2733840"/>
                <a:ext cx="31680" cy="122040"/>
                <a:chOff x="4246560" y="2733840"/>
                <a:chExt cx="31680" cy="1220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246560" y="2733840"/>
                  <a:ext cx="316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246560" y="282564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452016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13880" y="2982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6080" y="3119400"/>
              <a:ext cx="6208560" cy="489960"/>
              <a:chOff x="316080" y="3119400"/>
              <a:chExt cx="6208560" cy="489960"/>
            </a:xfrm>
          </p:grpSpPr>
          <p:sp>
            <p:nvSpPr>
              <p:cNvPr id="280" name=""/>
              <p:cNvSpPr/>
              <p:nvPr/>
            </p:nvSpPr>
            <p:spPr>
              <a:xfrm>
                <a:off x="1050840" y="3119400"/>
                <a:ext cx="6526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474920" y="313848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345320" y="3471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51960" y="3471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6828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26440" y="3471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78640" y="311940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84920" y="3119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9120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2184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4108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5852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5873760" y="3233880"/>
                <a:ext cx="31680" cy="110880"/>
                <a:chOff x="5873760" y="3233880"/>
                <a:chExt cx="31680" cy="110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760" y="3233880"/>
                  <a:ext cx="316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873760" y="3314880"/>
                  <a:ext cx="316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310440" y="311940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6480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286680" y="3279600"/>
                <a:ext cx="31680" cy="32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763640" y="311940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6080" y="3119400"/>
                <a:ext cx="4330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33520" y="3127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1320" y="3471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97600" y="3471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8480" y="3119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62920" y="3471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69920" y="3119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7476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1959120" y="3222720"/>
                <a:ext cx="29880" cy="122040"/>
                <a:chOff x="1959120" y="3222720"/>
                <a:chExt cx="29880" cy="1220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959120" y="3222720"/>
                  <a:ext cx="298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959120" y="3314880"/>
                  <a:ext cx="298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395440" y="311940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71680" y="3279600"/>
                <a:ext cx="31680" cy="32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42440" y="3471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2604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34360" y="3471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35200" y="3119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9136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43280" y="3119400"/>
                <a:ext cx="431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59280" y="312732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830680" y="3222720"/>
                <a:ext cx="31680" cy="122040"/>
                <a:chOff x="2830680" y="3222720"/>
                <a:chExt cx="31680" cy="1220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830680" y="322272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830680" y="3314880"/>
                  <a:ext cx="316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311508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9764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32760" y="3471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26080" y="3119400"/>
                <a:ext cx="6508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3127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9968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1712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41720" y="312732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60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80200" y="311940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2340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70320" y="3119400"/>
                <a:ext cx="2268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2648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89200" y="3119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0520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3578400" y="3233880"/>
                <a:ext cx="29880" cy="110880"/>
                <a:chOff x="3578400" y="3233880"/>
                <a:chExt cx="29880" cy="1108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578400" y="3233880"/>
                  <a:ext cx="298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578400" y="3314880"/>
                  <a:ext cx="298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385020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63276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48200" y="3119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09140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54480" y="3119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7192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4243320" y="3222720"/>
                <a:ext cx="31680" cy="122040"/>
                <a:chOff x="4243320" y="3222720"/>
                <a:chExt cx="31680" cy="122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243320" y="322272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243320" y="3314880"/>
                  <a:ext cx="316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451692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10640" y="3471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047600" y="3608280"/>
              <a:ext cx="6526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71680" y="362736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65400" y="361620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75400" y="3608280"/>
              <a:ext cx="215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81680" y="360828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87960" y="361620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870520" y="3722760"/>
              <a:ext cx="31680" cy="110880"/>
              <a:chOff x="5870520" y="3722760"/>
              <a:chExt cx="31680" cy="110880"/>
            </a:xfrm>
          </p:grpSpPr>
          <p:sp>
            <p:nvSpPr>
              <p:cNvPr id="358" name=""/>
              <p:cNvSpPr/>
              <p:nvPr/>
            </p:nvSpPr>
            <p:spPr>
              <a:xfrm>
                <a:off x="5870520" y="372276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70520" y="3803760"/>
                <a:ext cx="31680" cy="29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307200" y="360828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83440" y="3768840"/>
              <a:ext cx="3168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0400" y="3608280"/>
              <a:ext cx="2145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2840" y="360828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0280" y="361620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5240" y="360828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67040" y="360828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71880" y="361620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955880" y="3711600"/>
              <a:ext cx="30240" cy="122040"/>
              <a:chOff x="1955880" y="3711600"/>
              <a:chExt cx="30240" cy="122040"/>
            </a:xfrm>
          </p:grpSpPr>
          <p:sp>
            <p:nvSpPr>
              <p:cNvPr id="369" name=""/>
              <p:cNvSpPr/>
              <p:nvPr/>
            </p:nvSpPr>
            <p:spPr>
              <a:xfrm>
                <a:off x="1955880" y="371160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55880" y="3803760"/>
                <a:ext cx="30240" cy="29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392200" y="3608280"/>
              <a:ext cx="2145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8440" y="3768840"/>
              <a:ext cx="3204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31960" y="360828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0040" y="3608280"/>
              <a:ext cx="431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6040" y="361620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827440" y="3711600"/>
              <a:ext cx="31680" cy="122040"/>
              <a:chOff x="2827440" y="3711600"/>
              <a:chExt cx="31680" cy="122040"/>
            </a:xfrm>
          </p:grpSpPr>
          <p:sp>
            <p:nvSpPr>
              <p:cNvPr id="377" name=""/>
              <p:cNvSpPr/>
              <p:nvPr/>
            </p:nvSpPr>
            <p:spPr>
              <a:xfrm>
                <a:off x="2827440" y="371160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27440" y="3803760"/>
                <a:ext cx="31680" cy="29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722840" y="3608280"/>
              <a:ext cx="6508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45120" y="361620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38840" y="361620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76960" y="3608280"/>
              <a:ext cx="215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67080" y="3608280"/>
              <a:ext cx="2271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86320" y="3608280"/>
              <a:ext cx="4330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1960" y="361620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575160" y="3722760"/>
              <a:ext cx="29880" cy="110880"/>
              <a:chOff x="3575160" y="3722760"/>
              <a:chExt cx="29880" cy="110880"/>
            </a:xfrm>
          </p:grpSpPr>
          <p:sp>
            <p:nvSpPr>
              <p:cNvPr id="387" name=""/>
              <p:cNvSpPr/>
              <p:nvPr/>
            </p:nvSpPr>
            <p:spPr>
              <a:xfrm>
                <a:off x="3575160" y="3722760"/>
                <a:ext cx="298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75160" y="3803760"/>
                <a:ext cx="29880" cy="29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4044960" y="360828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51240" y="360828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68680" y="361620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240080" y="3711600"/>
              <a:ext cx="32040" cy="122040"/>
              <a:chOff x="4240080" y="3711600"/>
              <a:chExt cx="32040" cy="122040"/>
            </a:xfrm>
          </p:grpSpPr>
          <p:sp>
            <p:nvSpPr>
              <p:cNvPr id="393" name=""/>
              <p:cNvSpPr/>
              <p:nvPr/>
            </p:nvSpPr>
            <p:spPr>
              <a:xfrm>
                <a:off x="4240080" y="3711600"/>
                <a:ext cx="320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40080" y="3803760"/>
                <a:ext cx="32040" cy="29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309600" y="3960720"/>
            <a:ext cx="6272280" cy="1920960"/>
            <a:chOff x="309600" y="3960720"/>
            <a:chExt cx="6272280" cy="1920960"/>
          </a:xfrm>
        </p:grpSpPr>
        <p:grpSp>
          <p:nvGrpSpPr>
            <p:cNvPr id="396" name=""/>
            <p:cNvGrpSpPr/>
            <p:nvPr/>
          </p:nvGrpSpPr>
          <p:grpSpPr>
            <a:xfrm>
              <a:off x="376200" y="3960720"/>
              <a:ext cx="6205680" cy="106920"/>
              <a:chOff x="376200" y="3960720"/>
              <a:chExt cx="6205680" cy="106920"/>
            </a:xfrm>
          </p:grpSpPr>
          <p:sp>
            <p:nvSpPr>
              <p:cNvPr id="397" name=""/>
              <p:cNvSpPr/>
              <p:nvPr/>
            </p:nvSpPr>
            <p:spPr>
              <a:xfrm>
                <a:off x="1086840" y="3960720"/>
                <a:ext cx="29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distanc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702040" y="3960720"/>
                <a:ext cx="879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PB for distance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or 400m)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6200" y="3960720"/>
                <a:ext cx="24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rep no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00280" y="3960720"/>
                <a:ext cx="217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rok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660400" y="3960720"/>
                <a:ext cx="30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rest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77320" y="3960720"/>
                <a:ext cx="44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interval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39760" y="3960720"/>
                <a:ext cx="459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intensity (%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29720" y="3971880"/>
                <a:ext cx="42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or    R,H,M,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95520" y="396072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rest Px min:sec  o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73400" y="3960720"/>
                <a:ext cx="427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ON min:se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18960" y="4073400"/>
              <a:ext cx="6208920" cy="489960"/>
              <a:chOff x="318960" y="4073400"/>
              <a:chExt cx="6208920" cy="489960"/>
            </a:xfrm>
          </p:grpSpPr>
          <p:sp>
            <p:nvSpPr>
              <p:cNvPr id="408" name=""/>
              <p:cNvSpPr/>
              <p:nvPr/>
            </p:nvSpPr>
            <p:spPr>
              <a:xfrm>
                <a:off x="1054080" y="4073400"/>
                <a:ext cx="65232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77800" y="409248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48560" y="4425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55200" y="4425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1520" y="4081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129680" y="4425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81520" y="4073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88160" y="4073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94440" y="4081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2508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396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6176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5877000" y="4187880"/>
                <a:ext cx="31680" cy="111240"/>
                <a:chOff x="5877000" y="4187880"/>
                <a:chExt cx="31680" cy="111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877000" y="4187880"/>
                  <a:ext cx="316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877000" y="426888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"/>
              <p:cNvSpPr/>
              <p:nvPr/>
            </p:nvSpPr>
            <p:spPr>
              <a:xfrm>
                <a:off x="6313320" y="407340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36804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89560" y="4233960"/>
                <a:ext cx="3204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66880" y="407340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8960" y="4073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36400" y="4081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4560" y="4425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0840" y="4425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01720" y="4073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66160" y="4425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73160" y="4073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78000" y="4081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1962000" y="4176720"/>
                <a:ext cx="30240" cy="122400"/>
                <a:chOff x="1962000" y="4176720"/>
                <a:chExt cx="30240" cy="122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962000" y="417672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962000" y="426888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2398680" y="407340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374920" y="423396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245680" y="4425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2928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37600" y="4425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38440" y="4073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69460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46520" y="4073400"/>
                <a:ext cx="431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2160" y="408132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2833560" y="4176720"/>
                <a:ext cx="32040" cy="122400"/>
                <a:chOff x="2833560" y="4176720"/>
                <a:chExt cx="32040" cy="1224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833560" y="4176720"/>
                  <a:ext cx="320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833560" y="4268880"/>
                  <a:ext cx="320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311832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0088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836000" y="4425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729320" y="4073400"/>
                <a:ext cx="6508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51600" y="4081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0256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2036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408132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9484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383080" y="4073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2664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373560" y="4073400"/>
                <a:ext cx="2268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2936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92440" y="4073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08440" y="4081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3581280" y="4187880"/>
                <a:ext cx="30240" cy="111240"/>
                <a:chOff x="3581280" y="4187880"/>
                <a:chExt cx="30240" cy="111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581280" y="4187880"/>
                  <a:ext cx="3024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581280" y="426888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385344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3600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051440" y="407340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9464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57720" y="4073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75160" y="4081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4246560" y="4176720"/>
                <a:ext cx="31680" cy="122400"/>
                <a:chOff x="4246560" y="4176720"/>
                <a:chExt cx="31680" cy="1224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246560" y="417672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246560" y="426888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452016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13880" y="4425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16080" y="4562640"/>
              <a:ext cx="6208560" cy="489960"/>
              <a:chOff x="316080" y="4562640"/>
              <a:chExt cx="6208560" cy="489960"/>
            </a:xfrm>
          </p:grpSpPr>
          <p:sp>
            <p:nvSpPr>
              <p:cNvPr id="480" name=""/>
              <p:cNvSpPr/>
              <p:nvPr/>
            </p:nvSpPr>
            <p:spPr>
              <a:xfrm>
                <a:off x="1050840" y="4562640"/>
                <a:ext cx="6526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74920" y="458136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45320" y="4915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551960" y="4915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6828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126440" y="4915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678640" y="456264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84920" y="456264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9120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2184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94108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5852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5873760" y="4676760"/>
                <a:ext cx="31680" cy="111240"/>
                <a:chOff x="5873760" y="4676760"/>
                <a:chExt cx="31680" cy="1112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873760" y="4676760"/>
                  <a:ext cx="316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873760" y="475776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6310440" y="456264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6480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286680" y="472284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63640" y="456264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6080" y="4562640"/>
                <a:ext cx="4330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3520" y="4570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91320" y="4915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97600" y="4915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8480" y="456264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62920" y="4915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69920" y="456264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17476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1959120" y="4665600"/>
                <a:ext cx="29880" cy="122400"/>
                <a:chOff x="1959120" y="4665600"/>
                <a:chExt cx="29880" cy="1224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59120" y="4665600"/>
                  <a:ext cx="298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959120" y="4757760"/>
                  <a:ext cx="298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2395440" y="456264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71680" y="472284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242440" y="4915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2604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34360" y="4915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35200" y="456264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9136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843280" y="4562640"/>
                <a:ext cx="431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59280" y="4570560"/>
                <a:ext cx="1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830680" y="4665600"/>
                <a:ext cx="31680" cy="122400"/>
                <a:chOff x="2830680" y="4665600"/>
                <a:chExt cx="31680" cy="122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830680" y="466560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830680" y="475776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311508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9764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32760" y="4915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26080" y="4562640"/>
                <a:ext cx="6508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48360" y="4570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9968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1712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941720" y="457056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9160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380200" y="456264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340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70320" y="4562640"/>
                <a:ext cx="2268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42648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589200" y="456264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80520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578400" y="4676760"/>
                <a:ext cx="29880" cy="111240"/>
                <a:chOff x="3578400" y="4676760"/>
                <a:chExt cx="29880" cy="1112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578400" y="4676760"/>
                  <a:ext cx="298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578400" y="4757760"/>
                  <a:ext cx="298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385020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63276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48200" y="456264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9140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54480" y="456264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47192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4243320" y="4665600"/>
                <a:ext cx="31680" cy="122400"/>
                <a:chOff x="4243320" y="4665600"/>
                <a:chExt cx="31680" cy="1224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243320" y="466560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43320" y="475776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451692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310640" y="49150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312840" y="5051520"/>
              <a:ext cx="6208560" cy="489960"/>
              <a:chOff x="312840" y="5051520"/>
              <a:chExt cx="6208560" cy="489960"/>
            </a:xfrm>
          </p:grpSpPr>
          <p:sp>
            <p:nvSpPr>
              <p:cNvPr id="552" name=""/>
              <p:cNvSpPr/>
              <p:nvPr/>
            </p:nvSpPr>
            <p:spPr>
              <a:xfrm>
                <a:off x="1047600" y="5051520"/>
                <a:ext cx="6526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471680" y="5070600"/>
                <a:ext cx="1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42440" y="5403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548720" y="5403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265400" y="5059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23200" y="5403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75400" y="505152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81680" y="5051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87960" y="5059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71860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93784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5528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5870520" y="5165640"/>
                <a:ext cx="31680" cy="111240"/>
                <a:chOff x="5870520" y="5165640"/>
                <a:chExt cx="31680" cy="1112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870520" y="5165640"/>
                  <a:ext cx="316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870520" y="524664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6307200" y="505152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6156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283440" y="521172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760400" y="505152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12840" y="5051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30280" y="5059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8080" y="5403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4720" y="5403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95240" y="5051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59680" y="5403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967040" y="5051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171880" y="5059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1955880" y="5154480"/>
                <a:ext cx="30240" cy="122400"/>
                <a:chOff x="1955880" y="5154480"/>
                <a:chExt cx="30240" cy="1224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955880" y="515448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955880" y="524664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2392200" y="505152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368440" y="5211720"/>
                <a:ext cx="3204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9200" y="5403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316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031120" y="5403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631960" y="5051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8812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40040" y="5051520"/>
                <a:ext cx="431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056040" y="5059440"/>
                <a:ext cx="1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2827440" y="5154480"/>
                <a:ext cx="31680" cy="122400"/>
                <a:chOff x="2827440" y="5154480"/>
                <a:chExt cx="31680" cy="1224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2827440" y="515448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827440" y="524664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311184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9440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29520" y="5403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22840" y="5051520"/>
                <a:ext cx="6508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45120" y="5059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99644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21388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38840" y="5059440"/>
                <a:ext cx="1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8836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376960" y="505152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2016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67080" y="5051520"/>
                <a:ext cx="2271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42324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586320" y="5051520"/>
                <a:ext cx="4330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01960" y="5059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3575160" y="5165640"/>
                <a:ext cx="29880" cy="111240"/>
                <a:chOff x="3575160" y="5165640"/>
                <a:chExt cx="29880" cy="111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575160" y="5165640"/>
                  <a:ext cx="298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575160" y="5246640"/>
                  <a:ext cx="298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84696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62952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044960" y="5051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8816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251240" y="5051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68680" y="5059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4240080" y="5154480"/>
                <a:ext cx="32040" cy="122400"/>
                <a:chOff x="4240080" y="5154480"/>
                <a:chExt cx="32040" cy="12240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4240080" y="5154480"/>
                  <a:ext cx="320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240080" y="5246640"/>
                  <a:ext cx="320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451368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307400" y="5403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1044720" y="5540400"/>
              <a:ext cx="6523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68440" y="555948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554832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72160" y="554040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78440" y="554040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84720" y="554832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867280" y="5654520"/>
              <a:ext cx="32040" cy="111240"/>
              <a:chOff x="5867280" y="5654520"/>
              <a:chExt cx="32040" cy="111240"/>
            </a:xfrm>
          </p:grpSpPr>
          <p:sp>
            <p:nvSpPr>
              <p:cNvPr id="630" name=""/>
              <p:cNvSpPr/>
              <p:nvPr/>
            </p:nvSpPr>
            <p:spPr>
              <a:xfrm>
                <a:off x="5867280" y="5654520"/>
                <a:ext cx="32040" cy="32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67280" y="5735520"/>
                <a:ext cx="320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6303960" y="554040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80200" y="5700600"/>
              <a:ext cx="316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57520" y="554040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9600" y="554040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7040" y="554832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2000" y="554040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63800" y="554040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68640" y="554832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952640" y="5643720"/>
              <a:ext cx="30240" cy="122040"/>
              <a:chOff x="1952640" y="5643720"/>
              <a:chExt cx="30240" cy="122040"/>
            </a:xfrm>
          </p:grpSpPr>
          <p:sp>
            <p:nvSpPr>
              <p:cNvPr id="641" name=""/>
              <p:cNvSpPr/>
              <p:nvPr/>
            </p:nvSpPr>
            <p:spPr>
              <a:xfrm>
                <a:off x="1952640" y="5643720"/>
                <a:ext cx="30240" cy="29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952640" y="573552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2389320" y="554040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65200" y="5700600"/>
              <a:ext cx="3204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29080" y="5540400"/>
              <a:ext cx="215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6800" y="5540400"/>
              <a:ext cx="432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52800" y="554832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2824200" y="5643720"/>
              <a:ext cx="31680" cy="122040"/>
              <a:chOff x="2824200" y="5643720"/>
              <a:chExt cx="31680" cy="122040"/>
            </a:xfrm>
          </p:grpSpPr>
          <p:sp>
            <p:nvSpPr>
              <p:cNvPr id="649" name=""/>
              <p:cNvSpPr/>
              <p:nvPr/>
            </p:nvSpPr>
            <p:spPr>
              <a:xfrm>
                <a:off x="2824200" y="5643720"/>
                <a:ext cx="31680" cy="29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24200" y="573552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719600" y="5540400"/>
              <a:ext cx="6508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41880" y="554832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35600" y="554832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73720" y="554040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63840" y="5540400"/>
              <a:ext cx="2271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83080" y="554040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98720" y="554832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571920" y="5654520"/>
              <a:ext cx="30240" cy="111240"/>
              <a:chOff x="3571920" y="5654520"/>
              <a:chExt cx="30240" cy="111240"/>
            </a:xfrm>
          </p:grpSpPr>
          <p:sp>
            <p:nvSpPr>
              <p:cNvPr id="659" name=""/>
              <p:cNvSpPr/>
              <p:nvPr/>
            </p:nvSpPr>
            <p:spPr>
              <a:xfrm>
                <a:off x="3571920" y="5654520"/>
                <a:ext cx="30240" cy="32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71920" y="573552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4041720" y="554040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48000" y="554040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65800" y="554832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4237200" y="5643720"/>
              <a:ext cx="31680" cy="122040"/>
              <a:chOff x="4237200" y="5643720"/>
              <a:chExt cx="31680" cy="122040"/>
            </a:xfrm>
          </p:grpSpPr>
          <p:sp>
            <p:nvSpPr>
              <p:cNvPr id="665" name=""/>
              <p:cNvSpPr/>
              <p:nvPr/>
            </p:nvSpPr>
            <p:spPr>
              <a:xfrm>
                <a:off x="4237200" y="5643720"/>
                <a:ext cx="31680" cy="29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237200" y="573552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7" name=""/>
          <p:cNvGrpSpPr/>
          <p:nvPr/>
        </p:nvGrpSpPr>
        <p:grpSpPr>
          <a:xfrm>
            <a:off x="306360" y="5892840"/>
            <a:ext cx="6272280" cy="1920960"/>
            <a:chOff x="306360" y="5892840"/>
            <a:chExt cx="6272280" cy="1920960"/>
          </a:xfrm>
        </p:grpSpPr>
        <p:grpSp>
          <p:nvGrpSpPr>
            <p:cNvPr id="668" name=""/>
            <p:cNvGrpSpPr/>
            <p:nvPr/>
          </p:nvGrpSpPr>
          <p:grpSpPr>
            <a:xfrm>
              <a:off x="372960" y="5892840"/>
              <a:ext cx="6205680" cy="106920"/>
              <a:chOff x="372960" y="5892840"/>
              <a:chExt cx="6205680" cy="106920"/>
            </a:xfrm>
          </p:grpSpPr>
          <p:sp>
            <p:nvSpPr>
              <p:cNvPr id="669" name=""/>
              <p:cNvSpPr/>
              <p:nvPr/>
            </p:nvSpPr>
            <p:spPr>
              <a:xfrm>
                <a:off x="1083600" y="5892840"/>
                <a:ext cx="29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distanc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698800" y="5892840"/>
                <a:ext cx="879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PB for distance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or 400m)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2960" y="5892840"/>
                <a:ext cx="24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rep no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97040" y="5892840"/>
                <a:ext cx="217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rok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57160" y="5892840"/>
                <a:ext cx="30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rest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774080" y="5892840"/>
                <a:ext cx="44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interval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36520" y="5892840"/>
                <a:ext cx="459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intensity (%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26480" y="5904000"/>
                <a:ext cx="42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or    R,H,M,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392640" y="589284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rest Px min:sec  o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070520" y="5892840"/>
                <a:ext cx="427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ON min:se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316080" y="6005520"/>
              <a:ext cx="6208560" cy="489960"/>
              <a:chOff x="316080" y="6005520"/>
              <a:chExt cx="6208560" cy="489960"/>
            </a:xfrm>
          </p:grpSpPr>
          <p:sp>
            <p:nvSpPr>
              <p:cNvPr id="680" name=""/>
              <p:cNvSpPr/>
              <p:nvPr/>
            </p:nvSpPr>
            <p:spPr>
              <a:xfrm>
                <a:off x="1050840" y="6005520"/>
                <a:ext cx="6526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74920" y="602460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5320" y="6357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551960" y="6357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26828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126440" y="6357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78640" y="600552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84920" y="6005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09120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2184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4108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15852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5873760" y="6119640"/>
                <a:ext cx="31680" cy="111240"/>
                <a:chOff x="5873760" y="6119640"/>
                <a:chExt cx="31680" cy="1112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873760" y="6119640"/>
                  <a:ext cx="31680" cy="32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873760" y="620064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>
                <a:off x="6310440" y="600552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36480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286680" y="6165720"/>
                <a:ext cx="31680" cy="32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763640" y="600552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16080" y="6005520"/>
                <a:ext cx="4330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33520" y="601344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91320" y="6357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97600" y="6357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8480" y="6005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62920" y="6357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969920" y="6005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7476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7" name=""/>
              <p:cNvGrpSpPr/>
              <p:nvPr/>
            </p:nvGrpSpPr>
            <p:grpSpPr>
              <a:xfrm>
                <a:off x="1959120" y="6108840"/>
                <a:ext cx="29880" cy="122040"/>
                <a:chOff x="1959120" y="6108840"/>
                <a:chExt cx="29880" cy="12204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59120" y="6108840"/>
                  <a:ext cx="298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59120" y="6200640"/>
                  <a:ext cx="298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2395440" y="600552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71680" y="6165720"/>
                <a:ext cx="31680" cy="32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242440" y="6357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42604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034360" y="6357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35200" y="6005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9136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843280" y="6005520"/>
                <a:ext cx="431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059280" y="601344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2830680" y="6108840"/>
                <a:ext cx="31680" cy="122040"/>
                <a:chOff x="2830680" y="6108840"/>
                <a:chExt cx="31680" cy="12204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830680" y="6108840"/>
                  <a:ext cx="316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830680" y="620064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>
                <a:off x="311508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9764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832760" y="6357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26080" y="6005520"/>
                <a:ext cx="6508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148360" y="601344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99968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21712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41720" y="601344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79160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380200" y="600552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2340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370320" y="6005520"/>
                <a:ext cx="2268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42648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589200" y="6005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80520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3578400" y="6119640"/>
                <a:ext cx="29880" cy="111240"/>
                <a:chOff x="3578400" y="6119640"/>
                <a:chExt cx="29880" cy="11124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3578400" y="6119640"/>
                  <a:ext cx="29880" cy="32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578400" y="6200640"/>
                  <a:ext cx="298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>
                <a:off x="385020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3276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048200" y="600552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09140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254480" y="600552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47192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4243320" y="6108840"/>
                <a:ext cx="31680" cy="122040"/>
                <a:chOff x="4243320" y="6108840"/>
                <a:chExt cx="31680" cy="12204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4243320" y="6108840"/>
                  <a:ext cx="316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243320" y="620064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"/>
              <p:cNvSpPr/>
              <p:nvPr/>
            </p:nvSpPr>
            <p:spPr>
              <a:xfrm>
                <a:off x="451692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310640" y="635796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312840" y="6494400"/>
              <a:ext cx="6208560" cy="489960"/>
              <a:chOff x="312840" y="6494400"/>
              <a:chExt cx="6208560" cy="489960"/>
            </a:xfrm>
          </p:grpSpPr>
          <p:sp>
            <p:nvSpPr>
              <p:cNvPr id="752" name=""/>
              <p:cNvSpPr/>
              <p:nvPr/>
            </p:nvSpPr>
            <p:spPr>
              <a:xfrm>
                <a:off x="1047600" y="6494400"/>
                <a:ext cx="6526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71680" y="651348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42440" y="684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48720" y="684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65400" y="6502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123200" y="684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75400" y="649440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1680" y="6494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87960" y="6502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71860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93784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5528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5870520" y="6608880"/>
                <a:ext cx="31680" cy="110880"/>
                <a:chOff x="5870520" y="6608880"/>
                <a:chExt cx="31680" cy="11088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5870520" y="6608880"/>
                  <a:ext cx="316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870520" y="6689880"/>
                  <a:ext cx="316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>
                <a:off x="6307200" y="649440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36156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283440" y="665496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60400" y="649440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12840" y="6494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30280" y="6502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88080" y="684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94720" y="684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95240" y="6494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59680" y="684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967040" y="6494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171880" y="6502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1955880" y="6597720"/>
                <a:ext cx="30240" cy="122040"/>
                <a:chOff x="1955880" y="6597720"/>
                <a:chExt cx="30240" cy="1220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955880" y="659772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955880" y="6689880"/>
                  <a:ext cx="3024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>
                <a:off x="2392200" y="6494400"/>
                <a:ext cx="2145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68440" y="6654960"/>
                <a:ext cx="3204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39200" y="684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2316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031120" y="684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631960" y="6494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68812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840040" y="6494400"/>
                <a:ext cx="431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56040" y="650232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2827440" y="6597720"/>
                <a:ext cx="31680" cy="122040"/>
                <a:chOff x="2827440" y="6597720"/>
                <a:chExt cx="31680" cy="12204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2827440" y="659772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827440" y="6689880"/>
                  <a:ext cx="316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>
                <a:off x="311184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89440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829520" y="6846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722840" y="6494400"/>
                <a:ext cx="6508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45120" y="6502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9644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21388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938840" y="650232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78836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76960" y="649440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2016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67080" y="6494400"/>
                <a:ext cx="2271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42324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86320" y="6494400"/>
                <a:ext cx="4330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801960" y="6502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3575160" y="6608880"/>
                <a:ext cx="29880" cy="110880"/>
                <a:chOff x="3575160" y="6608880"/>
                <a:chExt cx="29880" cy="11088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3575160" y="6608880"/>
                  <a:ext cx="2988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575160" y="6689880"/>
                  <a:ext cx="2988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2" name=""/>
              <p:cNvSpPr/>
              <p:nvPr/>
            </p:nvSpPr>
            <p:spPr>
              <a:xfrm>
                <a:off x="384696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62952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44960" y="649440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08816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51240" y="649440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68680" y="6502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4240080" y="6597720"/>
                <a:ext cx="32040" cy="122040"/>
                <a:chOff x="4240080" y="6597720"/>
                <a:chExt cx="32040" cy="12204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4240080" y="6597720"/>
                  <a:ext cx="320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240080" y="6689880"/>
                  <a:ext cx="32040" cy="29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"/>
              <p:cNvSpPr/>
              <p:nvPr/>
            </p:nvSpPr>
            <p:spPr>
              <a:xfrm>
                <a:off x="451368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307400" y="68468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309600" y="6983280"/>
              <a:ext cx="6208560" cy="489960"/>
              <a:chOff x="309600" y="6983280"/>
              <a:chExt cx="6208560" cy="489960"/>
            </a:xfrm>
          </p:grpSpPr>
          <p:sp>
            <p:nvSpPr>
              <p:cNvPr id="824" name=""/>
              <p:cNvSpPr/>
              <p:nvPr/>
            </p:nvSpPr>
            <p:spPr>
              <a:xfrm>
                <a:off x="1044720" y="6983280"/>
                <a:ext cx="65232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468440" y="700236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339200" y="7335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545480" y="7335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62160" y="699120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19960" y="7335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672160" y="698328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78440" y="698328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84720" y="699120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71536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93460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15204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"/>
              <p:cNvGrpSpPr/>
              <p:nvPr/>
            </p:nvGrpSpPr>
            <p:grpSpPr>
              <a:xfrm>
                <a:off x="5867280" y="7097760"/>
                <a:ext cx="32040" cy="111240"/>
                <a:chOff x="5867280" y="7097760"/>
                <a:chExt cx="32040" cy="11124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5867280" y="7097760"/>
                  <a:ext cx="3204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867280" y="7178760"/>
                  <a:ext cx="320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6303960" y="698328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35832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80200" y="714384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757520" y="698328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09600" y="698328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27040" y="699120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85200" y="7335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1480" y="7335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92000" y="698328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56440" y="7335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63800" y="698328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168640" y="699120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1952640" y="7086600"/>
                <a:ext cx="30240" cy="122400"/>
                <a:chOff x="1952640" y="7086600"/>
                <a:chExt cx="30240" cy="1224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1952640" y="708660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952640" y="717876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"/>
              <p:cNvSpPr/>
              <p:nvPr/>
            </p:nvSpPr>
            <p:spPr>
              <a:xfrm>
                <a:off x="2389320" y="6983280"/>
                <a:ext cx="2142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65200" y="7143840"/>
                <a:ext cx="3204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235960" y="7335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1992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28240" y="7335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629080" y="6983280"/>
                <a:ext cx="2156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68488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36800" y="6983280"/>
                <a:ext cx="432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052800" y="699120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"/>
              <p:cNvGrpSpPr/>
              <p:nvPr/>
            </p:nvGrpSpPr>
            <p:grpSpPr>
              <a:xfrm>
                <a:off x="2824200" y="7086600"/>
                <a:ext cx="31680" cy="122400"/>
                <a:chOff x="2824200" y="7086600"/>
                <a:chExt cx="31680" cy="12240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2824200" y="708660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824200" y="717876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6" name=""/>
              <p:cNvSpPr/>
              <p:nvPr/>
            </p:nvSpPr>
            <p:spPr>
              <a:xfrm>
                <a:off x="310896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9152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826640" y="73357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719600" y="6983280"/>
                <a:ext cx="6508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141880" y="699120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99320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21064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935600" y="699120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78512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373720" y="698328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41692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63840" y="6983280"/>
                <a:ext cx="2271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2000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83080" y="698328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798720" y="699120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3571920" y="7097760"/>
                <a:ext cx="30240" cy="111240"/>
                <a:chOff x="3571920" y="7097760"/>
                <a:chExt cx="30240" cy="11124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3571920" y="7097760"/>
                  <a:ext cx="30240" cy="31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571920" y="7178760"/>
                  <a:ext cx="3024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"/>
              <p:cNvSpPr/>
              <p:nvPr/>
            </p:nvSpPr>
            <p:spPr>
              <a:xfrm>
                <a:off x="384372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2628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41720" y="6983280"/>
                <a:ext cx="21600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8528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248000" y="6983280"/>
                <a:ext cx="43344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465800" y="699120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4237200" y="7086600"/>
                <a:ext cx="31680" cy="122400"/>
                <a:chOff x="4237200" y="7086600"/>
                <a:chExt cx="31680" cy="12240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4237200" y="708660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237200" y="7178760"/>
                  <a:ext cx="31680" cy="30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451044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304160" y="733572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1041480" y="7472520"/>
              <a:ext cx="6523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65200" y="7491240"/>
              <a:ext cx="1800" cy="3049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892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68920" y="747252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75200" y="747252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08184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864400" y="7586640"/>
              <a:ext cx="31680" cy="111240"/>
              <a:chOff x="5864400" y="7586640"/>
              <a:chExt cx="31680" cy="111240"/>
            </a:xfrm>
          </p:grpSpPr>
          <p:sp>
            <p:nvSpPr>
              <p:cNvPr id="902" name=""/>
              <p:cNvSpPr/>
              <p:nvPr/>
            </p:nvSpPr>
            <p:spPr>
              <a:xfrm>
                <a:off x="5864400" y="758664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64400" y="766764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300720" y="7472520"/>
              <a:ext cx="2145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76960" y="7632720"/>
              <a:ext cx="3168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54280" y="747252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06360" y="747252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3800" y="7480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89120" y="7472520"/>
              <a:ext cx="215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960560" y="747252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6540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1949400" y="7575480"/>
              <a:ext cx="30240" cy="122400"/>
              <a:chOff x="1949400" y="7575480"/>
              <a:chExt cx="30240" cy="122400"/>
            </a:xfrm>
          </p:grpSpPr>
          <p:sp>
            <p:nvSpPr>
              <p:cNvPr id="913" name=""/>
              <p:cNvSpPr/>
              <p:nvPr/>
            </p:nvSpPr>
            <p:spPr>
              <a:xfrm>
                <a:off x="1949400" y="757548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949400" y="766764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2386080" y="747252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62320" y="7632720"/>
              <a:ext cx="3168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625840" y="7472520"/>
              <a:ext cx="215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833560" y="7472520"/>
              <a:ext cx="432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049560" y="748044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820960" y="7575480"/>
              <a:ext cx="31680" cy="122400"/>
              <a:chOff x="2820960" y="7575480"/>
              <a:chExt cx="31680" cy="122400"/>
            </a:xfrm>
          </p:grpSpPr>
          <p:sp>
            <p:nvSpPr>
              <p:cNvPr id="921" name=""/>
              <p:cNvSpPr/>
              <p:nvPr/>
            </p:nvSpPr>
            <p:spPr>
              <a:xfrm>
                <a:off x="2820960" y="757548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820960" y="766764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4716360" y="7472520"/>
              <a:ext cx="6508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38640" y="7480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2360" y="748044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70480" y="747252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60600" y="7472520"/>
              <a:ext cx="2271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79840" y="747252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9584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3568680" y="7586640"/>
              <a:ext cx="30240" cy="111240"/>
              <a:chOff x="3568680" y="7586640"/>
              <a:chExt cx="30240" cy="111240"/>
            </a:xfrm>
          </p:grpSpPr>
          <p:sp>
            <p:nvSpPr>
              <p:cNvPr id="931" name=""/>
              <p:cNvSpPr/>
              <p:nvPr/>
            </p:nvSpPr>
            <p:spPr>
              <a:xfrm>
                <a:off x="3568680" y="7586640"/>
                <a:ext cx="3024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68680" y="766764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4038480" y="747252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45120" y="7472520"/>
              <a:ext cx="4330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6256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6" name=""/>
            <p:cNvGrpSpPr/>
            <p:nvPr/>
          </p:nvGrpSpPr>
          <p:grpSpPr>
            <a:xfrm>
              <a:off x="4233960" y="7575480"/>
              <a:ext cx="31680" cy="122400"/>
              <a:chOff x="4233960" y="7575480"/>
              <a:chExt cx="31680" cy="122400"/>
            </a:xfrm>
          </p:grpSpPr>
          <p:sp>
            <p:nvSpPr>
              <p:cNvPr id="937" name=""/>
              <p:cNvSpPr/>
              <p:nvPr/>
            </p:nvSpPr>
            <p:spPr>
              <a:xfrm>
                <a:off x="4233960" y="757548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233960" y="766764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"/>
          <p:cNvGrpSpPr/>
          <p:nvPr/>
        </p:nvGrpSpPr>
        <p:grpSpPr>
          <a:xfrm>
            <a:off x="369720" y="7824960"/>
            <a:ext cx="6206040" cy="106920"/>
            <a:chOff x="369720" y="7824960"/>
            <a:chExt cx="6206040" cy="106920"/>
          </a:xfrm>
        </p:grpSpPr>
        <p:sp>
          <p:nvSpPr>
            <p:cNvPr id="940" name=""/>
            <p:cNvSpPr/>
            <p:nvPr/>
          </p:nvSpPr>
          <p:spPr>
            <a:xfrm>
              <a:off x="1080360" y="7824960"/>
              <a:ext cx="29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695920" y="7824960"/>
              <a:ext cx="879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PB for distance 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or 400m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9720" y="7824960"/>
              <a:ext cx="24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 no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3800" y="782496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rok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53920" y="782496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st spli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70840" y="7824960"/>
              <a:ext cx="44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interval spli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733640" y="7824960"/>
              <a:ext cx="45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intensity (%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223600" y="7835760"/>
              <a:ext cx="42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r    R,H,M,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89400" y="7824960"/>
              <a:ext cx="662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st Px min:sec  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67280" y="782496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ON min:s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12840" y="7937640"/>
            <a:ext cx="6208560" cy="489960"/>
            <a:chOff x="312840" y="7937640"/>
            <a:chExt cx="6208560" cy="489960"/>
          </a:xfrm>
        </p:grpSpPr>
        <p:sp>
          <p:nvSpPr>
            <p:cNvPr id="951" name=""/>
            <p:cNvSpPr/>
            <p:nvPr/>
          </p:nvSpPr>
          <p:spPr>
            <a:xfrm>
              <a:off x="1047600" y="7937640"/>
              <a:ext cx="6526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71680" y="795672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42440" y="82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548720" y="82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65400" y="794556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23200" y="82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75400" y="7937640"/>
              <a:ext cx="215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81680" y="793764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87960" y="794556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1860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3784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5528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870520" y="8051760"/>
              <a:ext cx="31680" cy="111240"/>
              <a:chOff x="5870520" y="8051760"/>
              <a:chExt cx="31680" cy="111240"/>
            </a:xfrm>
          </p:grpSpPr>
          <p:sp>
            <p:nvSpPr>
              <p:cNvPr id="964" name=""/>
              <p:cNvSpPr/>
              <p:nvPr/>
            </p:nvSpPr>
            <p:spPr>
              <a:xfrm>
                <a:off x="5870520" y="8051760"/>
                <a:ext cx="316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70520" y="813276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6307200" y="793764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6156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83440" y="8097840"/>
              <a:ext cx="3168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60400" y="7937640"/>
              <a:ext cx="2145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12840" y="793764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30280" y="794556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8080" y="82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4720" y="82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95240" y="793764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59680" y="82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967040" y="793764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71880" y="794556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1955880" y="8040600"/>
              <a:ext cx="30240" cy="122400"/>
              <a:chOff x="1955880" y="8040600"/>
              <a:chExt cx="30240" cy="122400"/>
            </a:xfrm>
          </p:grpSpPr>
          <p:sp>
            <p:nvSpPr>
              <p:cNvPr id="979" name=""/>
              <p:cNvSpPr/>
              <p:nvPr/>
            </p:nvSpPr>
            <p:spPr>
              <a:xfrm>
                <a:off x="1955880" y="804060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955880" y="813276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2392200" y="7937640"/>
              <a:ext cx="2145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68440" y="8097840"/>
              <a:ext cx="3204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39200" y="82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2316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031120" y="82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31960" y="793764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8812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40040" y="7937640"/>
              <a:ext cx="431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056040" y="794556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2827440" y="8040600"/>
              <a:ext cx="31680" cy="122400"/>
              <a:chOff x="2827440" y="8040600"/>
              <a:chExt cx="31680" cy="122400"/>
            </a:xfrm>
          </p:grpSpPr>
          <p:sp>
            <p:nvSpPr>
              <p:cNvPr id="991" name=""/>
              <p:cNvSpPr/>
              <p:nvPr/>
            </p:nvSpPr>
            <p:spPr>
              <a:xfrm>
                <a:off x="2827440" y="804060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827440" y="813276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311184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9440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829520" y="8290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22840" y="7937640"/>
              <a:ext cx="6508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45120" y="794556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99644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1388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38840" y="794556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8836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76960" y="7937640"/>
              <a:ext cx="215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2016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67080" y="7937640"/>
              <a:ext cx="2271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2324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86320" y="7937640"/>
              <a:ext cx="4330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01960" y="794556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3575160" y="8051760"/>
              <a:ext cx="29880" cy="111240"/>
              <a:chOff x="3575160" y="8051760"/>
              <a:chExt cx="29880" cy="111240"/>
            </a:xfrm>
          </p:grpSpPr>
          <p:sp>
            <p:nvSpPr>
              <p:cNvPr id="1009" name=""/>
              <p:cNvSpPr/>
              <p:nvPr/>
            </p:nvSpPr>
            <p:spPr>
              <a:xfrm>
                <a:off x="3575160" y="8051760"/>
                <a:ext cx="2988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575160" y="8132760"/>
                <a:ext cx="298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384696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62952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44960" y="793764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8816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51240" y="793764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68680" y="794556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4240080" y="8040600"/>
              <a:ext cx="32040" cy="122400"/>
              <a:chOff x="4240080" y="8040600"/>
              <a:chExt cx="32040" cy="122400"/>
            </a:xfrm>
          </p:grpSpPr>
          <p:sp>
            <p:nvSpPr>
              <p:cNvPr id="1018" name=""/>
              <p:cNvSpPr/>
              <p:nvPr/>
            </p:nvSpPr>
            <p:spPr>
              <a:xfrm>
                <a:off x="4240080" y="8040600"/>
                <a:ext cx="320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240080" y="8132760"/>
                <a:ext cx="320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"/>
            <p:cNvSpPr/>
            <p:nvPr/>
          </p:nvSpPr>
          <p:spPr>
            <a:xfrm>
              <a:off x="451368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07400" y="8290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09600" y="8426520"/>
            <a:ext cx="6208560" cy="489960"/>
            <a:chOff x="309600" y="8426520"/>
            <a:chExt cx="6208560" cy="489960"/>
          </a:xfrm>
        </p:grpSpPr>
        <p:sp>
          <p:nvSpPr>
            <p:cNvPr id="1023" name=""/>
            <p:cNvSpPr/>
            <p:nvPr/>
          </p:nvSpPr>
          <p:spPr>
            <a:xfrm>
              <a:off x="1044720" y="8426520"/>
              <a:ext cx="65232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68440" y="844560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39200" y="8778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45480" y="8778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62160" y="8434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119960" y="8778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72160" y="842652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78440" y="842652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84720" y="8434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1536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93460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5204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5867280" y="8540640"/>
              <a:ext cx="32040" cy="111240"/>
              <a:chOff x="5867280" y="8540640"/>
              <a:chExt cx="32040" cy="111240"/>
            </a:xfrm>
          </p:grpSpPr>
          <p:sp>
            <p:nvSpPr>
              <p:cNvPr id="1036" name=""/>
              <p:cNvSpPr/>
              <p:nvPr/>
            </p:nvSpPr>
            <p:spPr>
              <a:xfrm>
                <a:off x="5867280" y="8540640"/>
                <a:ext cx="32040" cy="32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867280" y="8621640"/>
                <a:ext cx="320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6303960" y="842652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5832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80200" y="8586720"/>
              <a:ext cx="3168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57520" y="842652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09600" y="842652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27040" y="8434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85200" y="8778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1480" y="8778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92000" y="842652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56440" y="8778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63800" y="842652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68640" y="8434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1952640" y="8529480"/>
              <a:ext cx="30240" cy="122400"/>
              <a:chOff x="1952640" y="8529480"/>
              <a:chExt cx="30240" cy="122400"/>
            </a:xfrm>
          </p:grpSpPr>
          <p:sp>
            <p:nvSpPr>
              <p:cNvPr id="1051" name=""/>
              <p:cNvSpPr/>
              <p:nvPr/>
            </p:nvSpPr>
            <p:spPr>
              <a:xfrm>
                <a:off x="1952640" y="852948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52640" y="862164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389320" y="8426520"/>
              <a:ext cx="2142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65200" y="8586720"/>
              <a:ext cx="32040" cy="31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35960" y="8778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1992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28240" y="8778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29080" y="8426520"/>
              <a:ext cx="2156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8488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36800" y="8426520"/>
              <a:ext cx="432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052800" y="843444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2824200" y="8529480"/>
              <a:ext cx="31680" cy="122400"/>
              <a:chOff x="2824200" y="8529480"/>
              <a:chExt cx="31680" cy="122400"/>
            </a:xfrm>
          </p:grpSpPr>
          <p:sp>
            <p:nvSpPr>
              <p:cNvPr id="1063" name=""/>
              <p:cNvSpPr/>
              <p:nvPr/>
            </p:nvSpPr>
            <p:spPr>
              <a:xfrm>
                <a:off x="2824200" y="852948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824200" y="862164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10896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9152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826640" y="8778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719600" y="8426520"/>
              <a:ext cx="6508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41880" y="8434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9320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21064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35600" y="843444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78512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73720" y="842652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41692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63840" y="8426520"/>
              <a:ext cx="22716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42000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3080" y="842652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798720" y="8434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3571920" y="8540640"/>
              <a:ext cx="30240" cy="111240"/>
              <a:chOff x="3571920" y="8540640"/>
              <a:chExt cx="30240" cy="111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3571920" y="8540640"/>
                <a:ext cx="30240" cy="32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571920" y="8621640"/>
                <a:ext cx="3024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>
              <a:off x="384372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2628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41720" y="8426520"/>
              <a:ext cx="216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08528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48000" y="8426520"/>
              <a:ext cx="43344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465800" y="8434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4237200" y="8529480"/>
              <a:ext cx="31680" cy="122400"/>
              <a:chOff x="4237200" y="8529480"/>
              <a:chExt cx="31680" cy="122400"/>
            </a:xfrm>
          </p:grpSpPr>
          <p:sp>
            <p:nvSpPr>
              <p:cNvPr id="1090" name=""/>
              <p:cNvSpPr/>
              <p:nvPr/>
            </p:nvSpPr>
            <p:spPr>
              <a:xfrm>
                <a:off x="4237200" y="852948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237200" y="8621640"/>
                <a:ext cx="31680" cy="30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2" name=""/>
            <p:cNvSpPr/>
            <p:nvPr/>
          </p:nvSpPr>
          <p:spPr>
            <a:xfrm>
              <a:off x="451044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304160" y="87789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6:55:53Z</dcterms:created>
  <dc:creator>Department of Physiology</dc:creator>
  <dc:description/>
  <cp:keywords/>
  <dc:language>en-US</dc:language>
  <cp:lastModifiedBy>Reviewer</cp:lastModifiedBy>
  <cp:lastPrinted>1998-10-13T01:25:07Z</cp:lastPrinted>
  <dcterms:modified xsi:type="dcterms:W3CDTF">2007-11-05T18:48:27Z</dcterms:modified>
  <cp:revision>1</cp:revision>
  <dc:subject/>
  <dc:title>No Slide Title</dc:title>
</cp:coreProperties>
</file>