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-3240"/>
            <a:ext cx="6864480" cy="9150480"/>
          </a:xfrm>
          <a:prstGeom prst="rect">
            <a:avLst/>
          </a:prstGeom>
          <a:solidFill>
            <a:srgbClr val="cecece"/>
          </a:solidFill>
          <a:ln w="12600">
            <a:solidFill>
              <a:srgbClr val="d1d1d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34960" y="1479600"/>
            <a:ext cx="38019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AND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FORMANCE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TIONNAIR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302080" y="450720"/>
            <a:ext cx="439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#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718240" y="450720"/>
            <a:ext cx="72396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7040" y="7418520"/>
            <a:ext cx="178596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valuable docu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7040" y="7156440"/>
            <a:ext cx="11858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27040" y="7615080"/>
            <a:ext cx="365616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return in the reply-paid envelope as soon a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27040" y="7821720"/>
            <a:ext cx="16765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thanks for your hel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60720" y="357120"/>
            <a:ext cx="1908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40" y="5002200"/>
            <a:ext cx="682956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7040" y="3637080"/>
            <a:ext cx="3138480" cy="1281600"/>
            <a:chOff x="527040" y="3637080"/>
            <a:chExt cx="3138480" cy="1281600"/>
          </a:xfrm>
        </p:grpSpPr>
        <p:sp>
          <p:nvSpPr>
            <p:cNvPr id="49" name=""/>
            <p:cNvSpPr txBox="1"/>
            <p:nvPr/>
          </p:nvSpPr>
          <p:spPr>
            <a:xfrm>
              <a:off x="527040" y="4175280"/>
              <a:ext cx="154152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swer by ticking a box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647800" y="4483080"/>
              <a:ext cx="1017720" cy="270000"/>
              <a:chOff x="2647800" y="4483080"/>
              <a:chExt cx="1017720" cy="270000"/>
            </a:xfrm>
          </p:grpSpPr>
          <p:sp>
            <p:nvSpPr>
              <p:cNvPr id="51" name=""/>
              <p:cNvSpPr/>
              <p:nvPr/>
            </p:nvSpPr>
            <p:spPr>
              <a:xfrm>
                <a:off x="2647800" y="4483080"/>
                <a:ext cx="1017720" cy="27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657520" y="4741920"/>
                <a:ext cx="990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 txBox="1"/>
            <p:nvPr/>
          </p:nvSpPr>
          <p:spPr>
            <a:xfrm>
              <a:off x="527040" y="3637080"/>
              <a:ext cx="303840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questionnaire is about you and your trainin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311560" y="4135320"/>
              <a:ext cx="1347840" cy="196920"/>
              <a:chOff x="2311560" y="4135320"/>
              <a:chExt cx="1347840" cy="196920"/>
            </a:xfrm>
          </p:grpSpPr>
          <p:sp>
            <p:nvSpPr>
              <p:cNvPr id="55" name=""/>
              <p:cNvSpPr/>
              <p:nvPr/>
            </p:nvSpPr>
            <p:spPr>
              <a:xfrm>
                <a:off x="2695680" y="4135320"/>
                <a:ext cx="185760" cy="18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311560" y="4135320"/>
                <a:ext cx="196920" cy="196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79800" y="4135320"/>
                <a:ext cx="195120" cy="196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462480" y="4135320"/>
                <a:ext cx="196920" cy="196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762280" y="4119480"/>
              <a:ext cx="135360" cy="144720"/>
            </a:xfrm>
            <a:custGeom>
              <a:avLst/>
              <a:gdLst/>
              <a:ahLst/>
              <a:rect l="0" t="0" r="r" b="b"/>
              <a:pathLst>
                <a:path fill="none" w="376" h="402">
                  <a:moveTo>
                    <a:pt x="0" y="344"/>
                  </a:moveTo>
                  <a:lnTo>
                    <a:pt x="88" y="402"/>
                  </a:lnTo>
                  <a:lnTo>
                    <a:pt x="146" y="344"/>
                  </a:lnTo>
                  <a:lnTo>
                    <a:pt x="234" y="171"/>
                  </a:lnTo>
                  <a:lnTo>
                    <a:pt x="350" y="26"/>
                  </a:lnTo>
                  <a:lnTo>
                    <a:pt x="37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62280" y="4119480"/>
              <a:ext cx="135360" cy="135360"/>
            </a:xfrm>
            <a:custGeom>
              <a:avLst/>
              <a:gdLst/>
              <a:ahLst/>
              <a:rect l="0" t="0" r="r" b="b"/>
              <a:pathLst>
                <a:path fill="none" w="376" h="376">
                  <a:moveTo>
                    <a:pt x="0" y="345"/>
                  </a:moveTo>
                  <a:lnTo>
                    <a:pt x="30" y="376"/>
                  </a:lnTo>
                  <a:lnTo>
                    <a:pt x="57" y="376"/>
                  </a:lnTo>
                  <a:lnTo>
                    <a:pt x="88" y="376"/>
                  </a:lnTo>
                  <a:lnTo>
                    <a:pt x="115" y="376"/>
                  </a:lnTo>
                  <a:lnTo>
                    <a:pt x="177" y="288"/>
                  </a:lnTo>
                  <a:lnTo>
                    <a:pt x="177" y="261"/>
                  </a:lnTo>
                  <a:lnTo>
                    <a:pt x="203" y="230"/>
                  </a:lnTo>
                  <a:lnTo>
                    <a:pt x="261" y="146"/>
                  </a:lnTo>
                  <a:lnTo>
                    <a:pt x="293" y="88"/>
                  </a:lnTo>
                  <a:lnTo>
                    <a:pt x="319" y="57"/>
                  </a:lnTo>
                  <a:lnTo>
                    <a:pt x="350" y="26"/>
                  </a:lnTo>
                  <a:lnTo>
                    <a:pt x="37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711520" y="4503600"/>
              <a:ext cx="902160" cy="176760"/>
              <a:chOff x="2711520" y="4503600"/>
              <a:chExt cx="902160" cy="176760"/>
            </a:xfrm>
          </p:grpSpPr>
          <p:sp>
            <p:nvSpPr>
              <p:cNvPr id="62" name=""/>
              <p:cNvSpPr/>
              <p:nvPr/>
            </p:nvSpPr>
            <p:spPr>
              <a:xfrm>
                <a:off x="2773440" y="4597560"/>
                <a:ext cx="9720" cy="82800"/>
              </a:xfrm>
              <a:custGeom>
                <a:avLst/>
                <a:gdLst/>
                <a:ahLst/>
                <a:rect l="0" t="0" r="r" b="b"/>
                <a:pathLst>
                  <a:path fill="none" w="27" h="230">
                    <a:moveTo>
                      <a:pt x="0" y="0"/>
                    </a:moveTo>
                    <a:lnTo>
                      <a:pt x="0" y="199"/>
                    </a:lnTo>
                    <a:lnTo>
                      <a:pt x="27" y="23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73440" y="4597560"/>
                <a:ext cx="9720" cy="82800"/>
              </a:xfrm>
              <a:custGeom>
                <a:avLst/>
                <a:gdLst/>
                <a:ahLst/>
                <a:rect l="0" t="0" r="r" b="b"/>
                <a:pathLst>
                  <a:path fill="none" w="27" h="230">
                    <a:moveTo>
                      <a:pt x="0" y="0"/>
                    </a:moveTo>
                    <a:lnTo>
                      <a:pt x="0" y="57"/>
                    </a:lnTo>
                    <a:lnTo>
                      <a:pt x="0" y="114"/>
                    </a:lnTo>
                    <a:lnTo>
                      <a:pt x="0" y="172"/>
                    </a:lnTo>
                    <a:lnTo>
                      <a:pt x="27" y="23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773440" y="455436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73440" y="4557600"/>
                <a:ext cx="144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35360" y="4533840"/>
                <a:ext cx="11520" cy="146520"/>
              </a:xfrm>
              <a:custGeom>
                <a:avLst/>
                <a:gdLst/>
                <a:ahLst/>
                <a:rect l="0" t="0" r="r" b="b"/>
                <a:pathLst>
                  <a:path fill="none" w="32" h="407">
                    <a:moveTo>
                      <a:pt x="0" y="0"/>
                    </a:moveTo>
                    <a:lnTo>
                      <a:pt x="32" y="203"/>
                    </a:lnTo>
                    <a:lnTo>
                      <a:pt x="32" y="376"/>
                    </a:lnTo>
                    <a:lnTo>
                      <a:pt x="32" y="40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35360" y="4533840"/>
                <a:ext cx="11520" cy="146520"/>
              </a:xfrm>
              <a:custGeom>
                <a:avLst/>
                <a:gdLst/>
                <a:ahLst/>
                <a:rect l="0" t="0" r="r" b="b"/>
                <a:pathLst>
                  <a:path fill="none" w="32" h="407">
                    <a:moveTo>
                      <a:pt x="0" y="0"/>
                    </a:moveTo>
                    <a:lnTo>
                      <a:pt x="0" y="30"/>
                    </a:lnTo>
                    <a:lnTo>
                      <a:pt x="32" y="146"/>
                    </a:lnTo>
                    <a:lnTo>
                      <a:pt x="32" y="234"/>
                    </a:lnTo>
                    <a:lnTo>
                      <a:pt x="32" y="261"/>
                    </a:lnTo>
                    <a:lnTo>
                      <a:pt x="32" y="292"/>
                    </a:lnTo>
                    <a:lnTo>
                      <a:pt x="32" y="350"/>
                    </a:lnTo>
                    <a:lnTo>
                      <a:pt x="32" y="40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2846520" y="4597560"/>
                <a:ext cx="50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46520" y="4597560"/>
                <a:ext cx="62280" cy="82800"/>
              </a:xfrm>
              <a:custGeom>
                <a:avLst/>
                <a:gdLst/>
                <a:ahLst/>
                <a:rect l="0" t="0" r="r" b="b"/>
                <a:pathLst>
                  <a:path fill="none" w="173" h="230">
                    <a:moveTo>
                      <a:pt x="143" y="0"/>
                    </a:moveTo>
                    <a:lnTo>
                      <a:pt x="0" y="83"/>
                    </a:lnTo>
                    <a:lnTo>
                      <a:pt x="143" y="172"/>
                    </a:lnTo>
                    <a:lnTo>
                      <a:pt x="173" y="23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846520" y="4627440"/>
                <a:ext cx="62280" cy="52920"/>
              </a:xfrm>
              <a:custGeom>
                <a:avLst/>
                <a:gdLst/>
                <a:ahLst/>
                <a:rect l="0" t="0" r="r" b="b"/>
                <a:pathLst>
                  <a:path fill="none" w="173" h="147">
                    <a:moveTo>
                      <a:pt x="0" y="0"/>
                    </a:moveTo>
                    <a:lnTo>
                      <a:pt x="58" y="30"/>
                    </a:lnTo>
                    <a:lnTo>
                      <a:pt x="84" y="58"/>
                    </a:lnTo>
                    <a:lnTo>
                      <a:pt x="115" y="89"/>
                    </a:lnTo>
                    <a:lnTo>
                      <a:pt x="173" y="14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959200" y="4586400"/>
                <a:ext cx="93960" cy="82800"/>
              </a:xfrm>
              <a:custGeom>
                <a:avLst/>
                <a:gdLst/>
                <a:ahLst/>
                <a:rect l="0" t="0" r="r" b="b"/>
                <a:pathLst>
                  <a:path fill="none" w="261" h="230">
                    <a:moveTo>
                      <a:pt x="57" y="114"/>
                    </a:moveTo>
                    <a:lnTo>
                      <a:pt x="234" y="114"/>
                    </a:lnTo>
                    <a:lnTo>
                      <a:pt x="234" y="57"/>
                    </a:lnTo>
                    <a:lnTo>
                      <a:pt x="146" y="0"/>
                    </a:lnTo>
                    <a:lnTo>
                      <a:pt x="30" y="57"/>
                    </a:lnTo>
                    <a:lnTo>
                      <a:pt x="0" y="146"/>
                    </a:lnTo>
                    <a:lnTo>
                      <a:pt x="88" y="230"/>
                    </a:lnTo>
                    <a:lnTo>
                      <a:pt x="203" y="230"/>
                    </a:lnTo>
                    <a:lnTo>
                      <a:pt x="261" y="23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9200" y="4597560"/>
                <a:ext cx="93960" cy="71640"/>
              </a:xfrm>
              <a:custGeom>
                <a:avLst/>
                <a:gdLst/>
                <a:ahLst/>
                <a:rect l="0" t="0" r="r" b="b"/>
                <a:pathLst>
                  <a:path fill="none" w="261" h="199">
                    <a:moveTo>
                      <a:pt x="57" y="83"/>
                    </a:moveTo>
                    <a:lnTo>
                      <a:pt x="119" y="83"/>
                    </a:lnTo>
                    <a:lnTo>
                      <a:pt x="146" y="83"/>
                    </a:lnTo>
                    <a:lnTo>
                      <a:pt x="203" y="83"/>
                    </a:lnTo>
                    <a:lnTo>
                      <a:pt x="234" y="57"/>
                    </a:lnTo>
                    <a:lnTo>
                      <a:pt x="234" y="26"/>
                    </a:lnTo>
                    <a:lnTo>
                      <a:pt x="203" y="0"/>
                    </a:lnTo>
                    <a:lnTo>
                      <a:pt x="177" y="0"/>
                    </a:lnTo>
                    <a:lnTo>
                      <a:pt x="119" y="0"/>
                    </a:lnTo>
                    <a:lnTo>
                      <a:pt x="88" y="0"/>
                    </a:lnTo>
                    <a:lnTo>
                      <a:pt x="57" y="26"/>
                    </a:lnTo>
                    <a:lnTo>
                      <a:pt x="30" y="57"/>
                    </a:lnTo>
                    <a:lnTo>
                      <a:pt x="30" y="83"/>
                    </a:lnTo>
                    <a:lnTo>
                      <a:pt x="0" y="115"/>
                    </a:lnTo>
                    <a:lnTo>
                      <a:pt x="30" y="142"/>
                    </a:lnTo>
                    <a:lnTo>
                      <a:pt x="30" y="172"/>
                    </a:lnTo>
                    <a:lnTo>
                      <a:pt x="57" y="199"/>
                    </a:lnTo>
                    <a:lnTo>
                      <a:pt x="119" y="199"/>
                    </a:lnTo>
                    <a:lnTo>
                      <a:pt x="146" y="199"/>
                    </a:lnTo>
                    <a:lnTo>
                      <a:pt x="177" y="199"/>
                    </a:lnTo>
                    <a:lnTo>
                      <a:pt x="234" y="199"/>
                    </a:lnTo>
                    <a:lnTo>
                      <a:pt x="261" y="19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219480" y="4513320"/>
                <a:ext cx="41760" cy="167040"/>
              </a:xfrm>
              <a:custGeom>
                <a:avLst/>
                <a:gdLst/>
                <a:ahLst/>
                <a:rect l="0" t="0" r="r" b="b"/>
                <a:pathLst>
                  <a:path fill="none" w="116" h="464">
                    <a:moveTo>
                      <a:pt x="26" y="0"/>
                    </a:moveTo>
                    <a:lnTo>
                      <a:pt x="0" y="318"/>
                    </a:lnTo>
                    <a:lnTo>
                      <a:pt x="26" y="406"/>
                    </a:lnTo>
                    <a:lnTo>
                      <a:pt x="26" y="433"/>
                    </a:lnTo>
                    <a:lnTo>
                      <a:pt x="116" y="46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19480" y="4513320"/>
                <a:ext cx="41760" cy="167040"/>
              </a:xfrm>
              <a:custGeom>
                <a:avLst/>
                <a:gdLst/>
                <a:ahLst/>
                <a:rect l="0" t="0" r="r" b="b"/>
                <a:pathLst>
                  <a:path fill="none" w="116" h="464">
                    <a:moveTo>
                      <a:pt x="26" y="0"/>
                    </a:moveTo>
                    <a:lnTo>
                      <a:pt x="26" y="30"/>
                    </a:lnTo>
                    <a:lnTo>
                      <a:pt x="26" y="88"/>
                    </a:lnTo>
                    <a:lnTo>
                      <a:pt x="0" y="171"/>
                    </a:lnTo>
                    <a:lnTo>
                      <a:pt x="0" y="234"/>
                    </a:lnTo>
                    <a:lnTo>
                      <a:pt x="0" y="292"/>
                    </a:lnTo>
                    <a:lnTo>
                      <a:pt x="0" y="318"/>
                    </a:lnTo>
                    <a:lnTo>
                      <a:pt x="0" y="349"/>
                    </a:lnTo>
                    <a:lnTo>
                      <a:pt x="26" y="375"/>
                    </a:lnTo>
                    <a:lnTo>
                      <a:pt x="26" y="433"/>
                    </a:lnTo>
                    <a:lnTo>
                      <a:pt x="116" y="46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187800" y="4565520"/>
                <a:ext cx="6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97160" y="4565520"/>
                <a:ext cx="46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322800" y="4503600"/>
                <a:ext cx="11520" cy="176400"/>
              </a:xfrm>
              <a:custGeom>
                <a:avLst/>
                <a:gdLst/>
                <a:ahLst/>
                <a:rect l="0" t="0" r="r" b="b"/>
                <a:pathLst>
                  <a:path fill="none" w="32" h="490">
                    <a:moveTo>
                      <a:pt x="0" y="0"/>
                    </a:moveTo>
                    <a:lnTo>
                      <a:pt x="32" y="287"/>
                    </a:lnTo>
                    <a:lnTo>
                      <a:pt x="0" y="433"/>
                    </a:lnTo>
                    <a:lnTo>
                      <a:pt x="0" y="49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322800" y="4503600"/>
                <a:ext cx="11520" cy="176400"/>
              </a:xfrm>
              <a:custGeom>
                <a:avLst/>
                <a:gdLst/>
                <a:ahLst/>
                <a:rect l="0" t="0" r="r" b="b"/>
                <a:pathLst>
                  <a:path fill="none" w="32" h="490">
                    <a:moveTo>
                      <a:pt x="0" y="0"/>
                    </a:moveTo>
                    <a:lnTo>
                      <a:pt x="0" y="57"/>
                    </a:lnTo>
                    <a:lnTo>
                      <a:pt x="32" y="198"/>
                    </a:lnTo>
                    <a:lnTo>
                      <a:pt x="32" y="261"/>
                    </a:lnTo>
                    <a:lnTo>
                      <a:pt x="0" y="344"/>
                    </a:lnTo>
                    <a:lnTo>
                      <a:pt x="0" y="402"/>
                    </a:lnTo>
                    <a:lnTo>
                      <a:pt x="0" y="459"/>
                    </a:lnTo>
                    <a:lnTo>
                      <a:pt x="0" y="49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322800" y="4586400"/>
                <a:ext cx="82800" cy="82800"/>
              </a:xfrm>
              <a:custGeom>
                <a:avLst/>
                <a:gdLst/>
                <a:ahLst/>
                <a:rect l="0" t="0" r="r" b="b"/>
                <a:pathLst>
                  <a:path fill="none" w="230" h="230">
                    <a:moveTo>
                      <a:pt x="0" y="57"/>
                    </a:moveTo>
                    <a:lnTo>
                      <a:pt x="88" y="0"/>
                    </a:lnTo>
                    <a:lnTo>
                      <a:pt x="203" y="30"/>
                    </a:lnTo>
                    <a:lnTo>
                      <a:pt x="230" y="203"/>
                    </a:lnTo>
                    <a:lnTo>
                      <a:pt x="203" y="23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322800" y="4597560"/>
                <a:ext cx="82800" cy="71640"/>
              </a:xfrm>
              <a:custGeom>
                <a:avLst/>
                <a:gdLst/>
                <a:ahLst/>
                <a:rect l="0" t="0" r="r" b="b"/>
                <a:pathLst>
                  <a:path fill="none" w="230" h="199">
                    <a:moveTo>
                      <a:pt x="0" y="26"/>
                    </a:moveTo>
                    <a:lnTo>
                      <a:pt x="57" y="0"/>
                    </a:lnTo>
                    <a:lnTo>
                      <a:pt x="88" y="0"/>
                    </a:lnTo>
                    <a:lnTo>
                      <a:pt x="146" y="0"/>
                    </a:lnTo>
                    <a:lnTo>
                      <a:pt x="172" y="0"/>
                    </a:lnTo>
                    <a:lnTo>
                      <a:pt x="203" y="57"/>
                    </a:lnTo>
                    <a:lnTo>
                      <a:pt x="203" y="83"/>
                    </a:lnTo>
                    <a:lnTo>
                      <a:pt x="230" y="142"/>
                    </a:lnTo>
                    <a:lnTo>
                      <a:pt x="230" y="172"/>
                    </a:lnTo>
                    <a:lnTo>
                      <a:pt x="203" y="19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57440" y="4586400"/>
                <a:ext cx="0" cy="93600"/>
              </a:xfrm>
              <a:custGeom>
                <a:avLst/>
                <a:gdLst/>
                <a:ahLst/>
                <a:rect l="0" t="0" r="r" b="b"/>
                <a:pathLst>
                  <a:path fill="none" w="0" h="260">
                    <a:moveTo>
                      <a:pt x="0" y="0"/>
                    </a:moveTo>
                    <a:lnTo>
                      <a:pt x="0" y="171"/>
                    </a:lnTo>
                    <a:lnTo>
                      <a:pt x="0" y="26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57440" y="4586400"/>
                <a:ext cx="0" cy="93600"/>
              </a:xfrm>
              <a:custGeom>
                <a:avLst/>
                <a:gdLst/>
                <a:ahLst/>
                <a:rect l="0" t="0" r="r" b="b"/>
                <a:pathLst>
                  <a:path fill="none" w="0" h="260">
                    <a:moveTo>
                      <a:pt x="0" y="0"/>
                    </a:moveTo>
                    <a:lnTo>
                      <a:pt x="0" y="57"/>
                    </a:lnTo>
                    <a:lnTo>
                      <a:pt x="0" y="114"/>
                    </a:lnTo>
                    <a:lnTo>
                      <a:pt x="0" y="171"/>
                    </a:lnTo>
                    <a:lnTo>
                      <a:pt x="0" y="202"/>
                    </a:lnTo>
                    <a:lnTo>
                      <a:pt x="0" y="26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446640" y="4543560"/>
                <a:ext cx="22320" cy="22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498840" y="4586400"/>
                <a:ext cx="114840" cy="93960"/>
              </a:xfrm>
              <a:custGeom>
                <a:avLst/>
                <a:gdLst/>
                <a:ahLst/>
                <a:rect l="0" t="0" r="r" b="b"/>
                <a:pathLst>
                  <a:path fill="none" w="319" h="261">
                    <a:moveTo>
                      <a:pt x="230" y="30"/>
                    </a:moveTo>
                    <a:lnTo>
                      <a:pt x="172" y="0"/>
                    </a:lnTo>
                    <a:lnTo>
                      <a:pt x="30" y="30"/>
                    </a:lnTo>
                    <a:lnTo>
                      <a:pt x="30" y="88"/>
                    </a:lnTo>
                    <a:lnTo>
                      <a:pt x="172" y="114"/>
                    </a:lnTo>
                    <a:lnTo>
                      <a:pt x="262" y="146"/>
                    </a:lnTo>
                    <a:lnTo>
                      <a:pt x="319" y="203"/>
                    </a:lnTo>
                    <a:lnTo>
                      <a:pt x="230" y="261"/>
                    </a:lnTo>
                    <a:lnTo>
                      <a:pt x="57" y="261"/>
                    </a:lnTo>
                    <a:lnTo>
                      <a:pt x="0" y="20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98840" y="4586400"/>
                <a:ext cx="103680" cy="93960"/>
              </a:xfrm>
              <a:custGeom>
                <a:avLst/>
                <a:gdLst/>
                <a:ahLst/>
                <a:rect l="0" t="0" r="r" b="b"/>
                <a:pathLst>
                  <a:path fill="none" w="288" h="261">
                    <a:moveTo>
                      <a:pt x="231" y="30"/>
                    </a:moveTo>
                    <a:lnTo>
                      <a:pt x="203" y="30"/>
                    </a:lnTo>
                    <a:lnTo>
                      <a:pt x="146" y="0"/>
                    </a:lnTo>
                    <a:lnTo>
                      <a:pt x="115" y="0"/>
                    </a:lnTo>
                    <a:lnTo>
                      <a:pt x="57" y="30"/>
                    </a:lnTo>
                    <a:lnTo>
                      <a:pt x="30" y="57"/>
                    </a:lnTo>
                    <a:lnTo>
                      <a:pt x="30" y="88"/>
                    </a:lnTo>
                    <a:lnTo>
                      <a:pt x="57" y="114"/>
                    </a:lnTo>
                    <a:lnTo>
                      <a:pt x="89" y="114"/>
                    </a:lnTo>
                    <a:lnTo>
                      <a:pt x="146" y="114"/>
                    </a:lnTo>
                    <a:lnTo>
                      <a:pt x="203" y="146"/>
                    </a:lnTo>
                    <a:lnTo>
                      <a:pt x="231" y="146"/>
                    </a:lnTo>
                    <a:lnTo>
                      <a:pt x="288" y="172"/>
                    </a:lnTo>
                    <a:lnTo>
                      <a:pt x="288" y="230"/>
                    </a:lnTo>
                    <a:lnTo>
                      <a:pt x="262" y="230"/>
                    </a:lnTo>
                    <a:lnTo>
                      <a:pt x="231" y="261"/>
                    </a:lnTo>
                    <a:lnTo>
                      <a:pt x="203" y="261"/>
                    </a:lnTo>
                    <a:lnTo>
                      <a:pt x="146" y="261"/>
                    </a:lnTo>
                    <a:lnTo>
                      <a:pt x="115" y="261"/>
                    </a:lnTo>
                    <a:lnTo>
                      <a:pt x="30" y="230"/>
                    </a:lnTo>
                    <a:lnTo>
                      <a:pt x="0" y="20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711520" y="4533840"/>
                <a:ext cx="0" cy="145800"/>
              </a:xfrm>
              <a:custGeom>
                <a:avLst/>
                <a:gdLst/>
                <a:ahLst/>
                <a:rect l="0" t="0" r="r" b="b"/>
                <a:pathLst>
                  <a:path fill="none" w="0" h="405">
                    <a:moveTo>
                      <a:pt x="0" y="0"/>
                    </a:moveTo>
                    <a:lnTo>
                      <a:pt x="0" y="260"/>
                    </a:lnTo>
                    <a:lnTo>
                      <a:pt x="0" y="40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711520" y="4533840"/>
                <a:ext cx="0" cy="145800"/>
              </a:xfrm>
              <a:custGeom>
                <a:avLst/>
                <a:gdLst/>
                <a:ahLst/>
                <a:rect l="0" t="0" r="r" b="b"/>
                <a:pathLst>
                  <a:path fill="none" w="0" h="405">
                    <a:moveTo>
                      <a:pt x="0" y="0"/>
                    </a:moveTo>
                    <a:lnTo>
                      <a:pt x="0" y="57"/>
                    </a:lnTo>
                    <a:lnTo>
                      <a:pt x="0" y="176"/>
                    </a:lnTo>
                    <a:lnTo>
                      <a:pt x="0" y="291"/>
                    </a:lnTo>
                    <a:lnTo>
                      <a:pt x="0" y="374"/>
                    </a:lnTo>
                    <a:lnTo>
                      <a:pt x="0" y="40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 txBox="1"/>
            <p:nvPr/>
          </p:nvSpPr>
          <p:spPr>
            <a:xfrm>
              <a:off x="527040" y="4579920"/>
              <a:ext cx="92232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 by filling i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1481040" y="4579920"/>
              <a:ext cx="312840" cy="33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1771560" y="4579920"/>
              <a:ext cx="74448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lank lin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 txBox="1"/>
          <p:nvPr/>
        </p:nvSpPr>
        <p:spPr>
          <a:xfrm>
            <a:off x="527040" y="260280"/>
            <a:ext cx="266868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of Physical Edu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73480" y="376200"/>
            <a:ext cx="95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7040" y="614520"/>
            <a:ext cx="26416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Otago, Box 56, Dunedin, NEW ZEA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2880" y="569880"/>
            <a:ext cx="26542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27040" y="771480"/>
            <a:ext cx="111744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(64) (3) 479 73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46320" y="771480"/>
            <a:ext cx="10126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  (64) (3) 479 73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27040" y="5222880"/>
            <a:ext cx="272556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put something on every blank li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27040" y="5419800"/>
            <a:ext cx="2887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we know you haven't missed the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25520" y="6021360"/>
            <a:ext cx="6732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7040" y="5702400"/>
            <a:ext cx="31608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a dash or a zero where necessary. 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52840" y="6021360"/>
            <a:ext cx="93024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per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19320" y="5934240"/>
            <a:ext cx="487440" cy="270000"/>
            <a:chOff x="2119320" y="5934240"/>
            <a:chExt cx="487440" cy="270000"/>
          </a:xfrm>
        </p:grpSpPr>
        <p:sp>
          <p:nvSpPr>
            <p:cNvPr id="103" name=""/>
            <p:cNvSpPr/>
            <p:nvPr/>
          </p:nvSpPr>
          <p:spPr>
            <a:xfrm>
              <a:off x="2119320" y="5934240"/>
              <a:ext cx="4874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28680" y="6194520"/>
              <a:ext cx="462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265480" y="6068880"/>
            <a:ext cx="217800" cy="32040"/>
          </a:xfrm>
          <a:custGeom>
            <a:avLst/>
            <a:gdLst/>
            <a:ahLst/>
            <a:rect l="0" t="0" r="r" b="b"/>
            <a:pathLst>
              <a:path fill="none" w="605" h="89">
                <a:moveTo>
                  <a:pt x="0" y="89"/>
                </a:moveTo>
                <a:lnTo>
                  <a:pt x="83" y="30"/>
                </a:lnTo>
                <a:lnTo>
                  <a:pt x="260" y="30"/>
                </a:lnTo>
                <a:lnTo>
                  <a:pt x="459" y="30"/>
                </a:lnTo>
                <a:lnTo>
                  <a:pt x="60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5480" y="6068880"/>
            <a:ext cx="217800" cy="32040"/>
          </a:xfrm>
          <a:custGeom>
            <a:avLst/>
            <a:gdLst/>
            <a:ahLst/>
            <a:rect l="0" t="0" r="r" b="b"/>
            <a:pathLst>
              <a:path fill="none" w="605" h="89">
                <a:moveTo>
                  <a:pt x="0" y="89"/>
                </a:moveTo>
                <a:lnTo>
                  <a:pt x="57" y="58"/>
                </a:lnTo>
                <a:lnTo>
                  <a:pt x="141" y="30"/>
                </a:lnTo>
                <a:lnTo>
                  <a:pt x="171" y="30"/>
                </a:lnTo>
                <a:lnTo>
                  <a:pt x="229" y="30"/>
                </a:lnTo>
                <a:lnTo>
                  <a:pt x="318" y="30"/>
                </a:lnTo>
                <a:lnTo>
                  <a:pt x="375" y="30"/>
                </a:lnTo>
                <a:lnTo>
                  <a:pt x="433" y="30"/>
                </a:lnTo>
                <a:lnTo>
                  <a:pt x="516" y="30"/>
                </a:lnTo>
                <a:lnTo>
                  <a:pt x="60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27040" y="6416640"/>
            <a:ext cx="34495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not sure about something, please estim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27040" y="6593040"/>
            <a:ext cx="21207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't spend too much time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840" y="3352680"/>
            <a:ext cx="6829560" cy="1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40" y="1295280"/>
            <a:ext cx="6829560" cy="1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40" y="7008840"/>
            <a:ext cx="682956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2760" y="539640"/>
            <a:ext cx="82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03040" y="50760"/>
            <a:ext cx="1422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1280" y="2879640"/>
            <a:ext cx="36259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years have you been training for this spor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41280" y="2568600"/>
            <a:ext cx="24890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your main competitive spor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2513160"/>
            <a:ext cx="266544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1160" y="2744640"/>
            <a:ext cx="26384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824200"/>
            <a:ext cx="4176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48200" y="3056040"/>
            <a:ext cx="3776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24480" y="2879640"/>
            <a:ext cx="3477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2440" y="4657680"/>
            <a:ext cx="3948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highest level you are competing at in this clas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5120" y="4941720"/>
            <a:ext cx="20628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11480" y="4967280"/>
            <a:ext cx="531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13400" y="4941720"/>
            <a:ext cx="20628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68520" y="4967280"/>
            <a:ext cx="1192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ncial or st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49800" y="4941720"/>
            <a:ext cx="20628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70320" y="4967280"/>
            <a:ext cx="825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or cl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46280" y="4941720"/>
            <a:ext cx="20628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43040" y="4967280"/>
            <a:ext cx="835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280" y="4075200"/>
            <a:ext cx="3736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your present age-group and/or competition cla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41280" y="4248000"/>
            <a:ext cx="36399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example under 16, open, veteran, lightweight etc)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22800" y="4168800"/>
            <a:ext cx="2306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32160" y="4400640"/>
            <a:ext cx="22798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2440" y="5537160"/>
            <a:ext cx="51260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describe your best performances in competitions in the last 12 month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274920" y="6024600"/>
            <a:ext cx="787320" cy="449640"/>
            <a:chOff x="3274920" y="6024600"/>
            <a:chExt cx="787320" cy="449640"/>
          </a:xfrm>
        </p:grpSpPr>
        <p:sp>
          <p:nvSpPr>
            <p:cNvPr id="136" name=""/>
            <p:cNvSpPr txBox="1"/>
            <p:nvPr/>
          </p:nvSpPr>
          <p:spPr>
            <a:xfrm>
              <a:off x="3440160" y="6024600"/>
              <a:ext cx="45720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ta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3274920" y="6162840"/>
              <a:ext cx="78732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if applicabl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273480" y="6361200"/>
            <a:ext cx="822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82840" y="6603840"/>
            <a:ext cx="7956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3480" y="6719760"/>
            <a:ext cx="8222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82840" y="696276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3480" y="7078680"/>
            <a:ext cx="8222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82840" y="732312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3480" y="7439040"/>
            <a:ext cx="822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82840" y="768204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3480" y="7797960"/>
            <a:ext cx="822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82840" y="8040600"/>
            <a:ext cx="7956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73280" y="6046920"/>
            <a:ext cx="698400" cy="451080"/>
            <a:chOff x="773280" y="6046920"/>
            <a:chExt cx="698400" cy="451080"/>
          </a:xfrm>
        </p:grpSpPr>
        <p:sp>
          <p:nvSpPr>
            <p:cNvPr id="149" name=""/>
            <p:cNvSpPr txBox="1"/>
            <p:nvPr/>
          </p:nvSpPr>
          <p:spPr>
            <a:xfrm>
              <a:off x="773280" y="6046920"/>
              <a:ext cx="69840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roxim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1006560" y="6186600"/>
              <a:ext cx="23328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65280" y="6372360"/>
            <a:ext cx="91584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4640" y="6603840"/>
            <a:ext cx="8892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55800" y="6369120"/>
            <a:ext cx="6048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33360" y="6369120"/>
            <a:ext cx="6048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5280" y="6730920"/>
            <a:ext cx="915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4640" y="6962760"/>
            <a:ext cx="8892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55800" y="6727680"/>
            <a:ext cx="6048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33360" y="6727680"/>
            <a:ext cx="6048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280" y="7091280"/>
            <a:ext cx="91584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4640" y="7323120"/>
            <a:ext cx="8892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55800" y="7088040"/>
            <a:ext cx="6048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33360" y="7088040"/>
            <a:ext cx="6048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280" y="7450200"/>
            <a:ext cx="91584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4640" y="7682040"/>
            <a:ext cx="8892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55800" y="7446960"/>
            <a:ext cx="6048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33360" y="7446960"/>
            <a:ext cx="6048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280" y="7808760"/>
            <a:ext cx="91584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4640" y="8040600"/>
            <a:ext cx="8892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55800" y="7805880"/>
            <a:ext cx="6048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33360" y="7805880"/>
            <a:ext cx="6048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1280" y="3298680"/>
            <a:ext cx="19940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pecific event have you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41280" y="3471840"/>
            <a:ext cx="2265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n training for in the last sea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1280" y="3646440"/>
            <a:ext cx="27320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example discus, 100m freestyle etc)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14800" y="3554280"/>
            <a:ext cx="331488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24160" y="3786120"/>
            <a:ext cx="32860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7040" y="6361200"/>
            <a:ext cx="146052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06400" y="6603840"/>
            <a:ext cx="14446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7040" y="6719760"/>
            <a:ext cx="146052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06400" y="6962760"/>
            <a:ext cx="14446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7040" y="7078680"/>
            <a:ext cx="146052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06400" y="7323120"/>
            <a:ext cx="14446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7040" y="7439040"/>
            <a:ext cx="146052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06400" y="7682040"/>
            <a:ext cx="14446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7040" y="7797960"/>
            <a:ext cx="146052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06400" y="8040600"/>
            <a:ext cx="14446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004840" y="6035760"/>
            <a:ext cx="787320" cy="451080"/>
            <a:chOff x="2004840" y="6035760"/>
            <a:chExt cx="787320" cy="451080"/>
          </a:xfrm>
        </p:grpSpPr>
        <p:sp>
          <p:nvSpPr>
            <p:cNvPr id="187" name=""/>
            <p:cNvSpPr txBox="1"/>
            <p:nvPr/>
          </p:nvSpPr>
          <p:spPr>
            <a:xfrm>
              <a:off x="2036880" y="6035760"/>
              <a:ext cx="72864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 of ev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004840" y="6175440"/>
              <a:ext cx="78732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if applicabl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227480" y="6035760"/>
            <a:ext cx="787320" cy="451080"/>
            <a:chOff x="4227480" y="6035760"/>
            <a:chExt cx="787320" cy="451080"/>
          </a:xfrm>
        </p:grpSpPr>
        <p:sp>
          <p:nvSpPr>
            <p:cNvPr id="190" name=""/>
            <p:cNvSpPr txBox="1"/>
            <p:nvPr/>
          </p:nvSpPr>
          <p:spPr>
            <a:xfrm>
              <a:off x="4497480" y="6035760"/>
              <a:ext cx="24768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4227480" y="6175440"/>
              <a:ext cx="78732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if applicabl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211640" y="6361200"/>
            <a:ext cx="82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21000" y="6603840"/>
            <a:ext cx="7956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6719760"/>
            <a:ext cx="8240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21000" y="696276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1640" y="7078680"/>
            <a:ext cx="8240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21000" y="732312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7439040"/>
            <a:ext cx="82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21000" y="7682040"/>
            <a:ext cx="7956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7797960"/>
            <a:ext cx="824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21000" y="8040600"/>
            <a:ext cx="7956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62400" y="6361200"/>
            <a:ext cx="660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72120" y="6603840"/>
            <a:ext cx="6332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62400" y="6719760"/>
            <a:ext cx="6602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72120" y="6962760"/>
            <a:ext cx="6332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62400" y="7078680"/>
            <a:ext cx="6602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72120" y="7323120"/>
            <a:ext cx="6332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62400" y="7439040"/>
            <a:ext cx="660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72120" y="7682040"/>
            <a:ext cx="6332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62400" y="7797960"/>
            <a:ext cx="6602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72120" y="8040600"/>
            <a:ext cx="6332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091120" y="6035760"/>
            <a:ext cx="787320" cy="451080"/>
            <a:chOff x="5091120" y="6035760"/>
            <a:chExt cx="787320" cy="451080"/>
          </a:xfrm>
        </p:grpSpPr>
        <p:sp>
          <p:nvSpPr>
            <p:cNvPr id="213" name=""/>
            <p:cNvSpPr txBox="1"/>
            <p:nvPr/>
          </p:nvSpPr>
          <p:spPr>
            <a:xfrm>
              <a:off x="5337000" y="6035760"/>
              <a:ext cx="29520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5091120" y="6175440"/>
              <a:ext cx="78732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if applicabl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 txBox="1"/>
          <p:nvPr/>
        </p:nvSpPr>
        <p:spPr>
          <a:xfrm>
            <a:off x="212760" y="5386320"/>
            <a:ext cx="82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2440" y="5734080"/>
            <a:ext cx="15778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n example is show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12760" y="2416320"/>
            <a:ext cx="82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00640" y="6477120"/>
            <a:ext cx="302040" cy="11520"/>
          </a:xfrm>
          <a:custGeom>
            <a:avLst/>
            <a:gdLst/>
            <a:ahLst/>
            <a:rect l="0" t="0" r="r" b="b"/>
            <a:pathLst>
              <a:path fill="none" w="839" h="32">
                <a:moveTo>
                  <a:pt x="0" y="32"/>
                </a:moveTo>
                <a:lnTo>
                  <a:pt x="389" y="0"/>
                </a:lnTo>
                <a:lnTo>
                  <a:pt x="83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6120" y="640728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8120" y="6418440"/>
            <a:ext cx="68760" cy="151200"/>
          </a:xfrm>
          <a:custGeom>
            <a:avLst/>
            <a:gdLst/>
            <a:ahLst/>
            <a:rect l="0" t="0" r="r" b="b"/>
            <a:pathLst>
              <a:path fill="none" w="191" h="420">
                <a:moveTo>
                  <a:pt x="191" y="66"/>
                </a:moveTo>
                <a:lnTo>
                  <a:pt x="160" y="0"/>
                </a:lnTo>
                <a:lnTo>
                  <a:pt x="30" y="30"/>
                </a:lnTo>
                <a:lnTo>
                  <a:pt x="0" y="97"/>
                </a:lnTo>
                <a:lnTo>
                  <a:pt x="93" y="195"/>
                </a:lnTo>
                <a:lnTo>
                  <a:pt x="160" y="164"/>
                </a:lnTo>
                <a:lnTo>
                  <a:pt x="191" y="0"/>
                </a:lnTo>
                <a:lnTo>
                  <a:pt x="191" y="261"/>
                </a:lnTo>
                <a:lnTo>
                  <a:pt x="160" y="42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49280" y="6429240"/>
            <a:ext cx="57600" cy="140040"/>
          </a:xfrm>
          <a:custGeom>
            <a:avLst/>
            <a:gdLst/>
            <a:ahLst/>
            <a:rect l="0" t="0" r="r" b="b"/>
            <a:pathLst>
              <a:path fill="none" w="160" h="389">
                <a:moveTo>
                  <a:pt x="160" y="35"/>
                </a:moveTo>
                <a:lnTo>
                  <a:pt x="160" y="0"/>
                </a:lnTo>
                <a:lnTo>
                  <a:pt x="129" y="0"/>
                </a:lnTo>
                <a:lnTo>
                  <a:pt x="62" y="0"/>
                </a:lnTo>
                <a:lnTo>
                  <a:pt x="30" y="0"/>
                </a:lnTo>
                <a:lnTo>
                  <a:pt x="0" y="35"/>
                </a:lnTo>
                <a:lnTo>
                  <a:pt x="0" y="97"/>
                </a:lnTo>
                <a:lnTo>
                  <a:pt x="30" y="97"/>
                </a:lnTo>
                <a:lnTo>
                  <a:pt x="62" y="163"/>
                </a:lnTo>
                <a:lnTo>
                  <a:pt x="62" y="132"/>
                </a:lnTo>
                <a:lnTo>
                  <a:pt x="98" y="132"/>
                </a:lnTo>
                <a:lnTo>
                  <a:pt x="129" y="132"/>
                </a:lnTo>
                <a:lnTo>
                  <a:pt x="160" y="97"/>
                </a:lnTo>
                <a:lnTo>
                  <a:pt x="160" y="66"/>
                </a:lnTo>
                <a:lnTo>
                  <a:pt x="160" y="35"/>
                </a:lnTo>
                <a:lnTo>
                  <a:pt x="160" y="66"/>
                </a:lnTo>
                <a:lnTo>
                  <a:pt x="160" y="97"/>
                </a:lnTo>
                <a:lnTo>
                  <a:pt x="160" y="163"/>
                </a:lnTo>
                <a:lnTo>
                  <a:pt x="160" y="292"/>
                </a:lnTo>
                <a:lnTo>
                  <a:pt x="129" y="38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37080" y="6418440"/>
            <a:ext cx="103680" cy="127440"/>
          </a:xfrm>
          <a:custGeom>
            <a:avLst/>
            <a:gdLst/>
            <a:ahLst/>
            <a:rect l="0" t="0" r="r" b="b"/>
            <a:pathLst>
              <a:path fill="none" w="288" h="354">
                <a:moveTo>
                  <a:pt x="30" y="66"/>
                </a:moveTo>
                <a:lnTo>
                  <a:pt x="128" y="0"/>
                </a:lnTo>
                <a:lnTo>
                  <a:pt x="190" y="0"/>
                </a:lnTo>
                <a:lnTo>
                  <a:pt x="226" y="98"/>
                </a:lnTo>
                <a:lnTo>
                  <a:pt x="190" y="261"/>
                </a:lnTo>
                <a:lnTo>
                  <a:pt x="98" y="323"/>
                </a:lnTo>
                <a:lnTo>
                  <a:pt x="0" y="354"/>
                </a:lnTo>
                <a:lnTo>
                  <a:pt x="30" y="323"/>
                </a:lnTo>
                <a:lnTo>
                  <a:pt x="257" y="354"/>
                </a:lnTo>
                <a:lnTo>
                  <a:pt x="288" y="32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45160" y="6396120"/>
            <a:ext cx="81360" cy="162360"/>
          </a:xfrm>
          <a:custGeom>
            <a:avLst/>
            <a:gdLst/>
            <a:ahLst/>
            <a:rect l="0" t="0" r="r" b="b"/>
            <a:pathLst>
              <a:path fill="none" w="226" h="451">
                <a:moveTo>
                  <a:pt x="164" y="0"/>
                </a:moveTo>
                <a:lnTo>
                  <a:pt x="67" y="0"/>
                </a:lnTo>
                <a:lnTo>
                  <a:pt x="0" y="159"/>
                </a:lnTo>
                <a:lnTo>
                  <a:pt x="0" y="354"/>
                </a:lnTo>
                <a:lnTo>
                  <a:pt x="67" y="451"/>
                </a:lnTo>
                <a:lnTo>
                  <a:pt x="164" y="451"/>
                </a:lnTo>
                <a:lnTo>
                  <a:pt x="226" y="354"/>
                </a:lnTo>
                <a:lnTo>
                  <a:pt x="128" y="225"/>
                </a:lnTo>
                <a:lnTo>
                  <a:pt x="67" y="225"/>
                </a:lnTo>
                <a:lnTo>
                  <a:pt x="0" y="287"/>
                </a:lnTo>
                <a:lnTo>
                  <a:pt x="30" y="28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699080" y="6464160"/>
            <a:ext cx="11160" cy="12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694400" y="6459480"/>
            <a:ext cx="20520" cy="2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2440" y="8456760"/>
            <a:ext cx="37180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often does a coach advise you about your training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760" y="8305920"/>
            <a:ext cx="82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06560" y="8764560"/>
            <a:ext cx="20808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25400" y="8709120"/>
            <a:ext cx="17784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0360" y="8836200"/>
            <a:ext cx="2746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2760" y="8764560"/>
            <a:ext cx="20628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03520" y="8709120"/>
            <a:ext cx="48564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34960" y="8836200"/>
            <a:ext cx="75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 mon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46360" y="8764560"/>
            <a:ext cx="20628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730600" y="8709120"/>
            <a:ext cx="7524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or tw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29040" y="8836200"/>
            <a:ext cx="45396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n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70280" y="8764560"/>
            <a:ext cx="20628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65400" y="8709120"/>
            <a:ext cx="60948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o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181400" y="8836200"/>
            <a:ext cx="39204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e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10120" y="8764560"/>
            <a:ext cx="20808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114880" y="8709120"/>
            <a:ext cx="73332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ti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451480" y="8836200"/>
            <a:ext cx="39204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e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21040" y="6429240"/>
            <a:ext cx="81360" cy="116280"/>
          </a:xfrm>
          <a:custGeom>
            <a:avLst/>
            <a:gdLst/>
            <a:ahLst/>
            <a:rect l="0" t="0" r="r" b="b"/>
            <a:pathLst>
              <a:path fill="none" w="226" h="323">
                <a:moveTo>
                  <a:pt x="226" y="66"/>
                </a:moveTo>
                <a:lnTo>
                  <a:pt x="164" y="0"/>
                </a:lnTo>
                <a:lnTo>
                  <a:pt x="0" y="35"/>
                </a:lnTo>
                <a:lnTo>
                  <a:pt x="67" y="133"/>
                </a:lnTo>
                <a:lnTo>
                  <a:pt x="226" y="195"/>
                </a:lnTo>
                <a:lnTo>
                  <a:pt x="226" y="293"/>
                </a:lnTo>
                <a:lnTo>
                  <a:pt x="98" y="323"/>
                </a:lnTo>
                <a:lnTo>
                  <a:pt x="0" y="26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77960" y="6383160"/>
            <a:ext cx="35280" cy="162360"/>
          </a:xfrm>
          <a:custGeom>
            <a:avLst/>
            <a:gdLst/>
            <a:ahLst/>
            <a:rect l="0" t="0" r="r" b="b"/>
            <a:pathLst>
              <a:path fill="none" w="98" h="451">
                <a:moveTo>
                  <a:pt x="98" y="0"/>
                </a:moveTo>
                <a:lnTo>
                  <a:pt x="30" y="164"/>
                </a:lnTo>
                <a:lnTo>
                  <a:pt x="0" y="390"/>
                </a:lnTo>
                <a:lnTo>
                  <a:pt x="62" y="451"/>
                </a:lnTo>
                <a:lnTo>
                  <a:pt x="98" y="45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65360" y="6429240"/>
            <a:ext cx="82800" cy="12960"/>
          </a:xfrm>
          <a:custGeom>
            <a:avLst/>
            <a:gdLst/>
            <a:ahLst/>
            <a:rect l="0" t="0" r="r" b="b"/>
            <a:pathLst>
              <a:path fill="none" w="230" h="36">
                <a:moveTo>
                  <a:pt x="0" y="0"/>
                </a:moveTo>
                <a:lnTo>
                  <a:pt x="195" y="36"/>
                </a:lnTo>
                <a:lnTo>
                  <a:pt x="23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65360" y="6429240"/>
            <a:ext cx="82800" cy="12960"/>
          </a:xfrm>
          <a:custGeom>
            <a:avLst/>
            <a:gdLst/>
            <a:ahLst/>
            <a:rect l="0" t="0" r="r" b="b"/>
            <a:pathLst>
              <a:path fill="none" w="230" h="36">
                <a:moveTo>
                  <a:pt x="0" y="0"/>
                </a:moveTo>
                <a:lnTo>
                  <a:pt x="35" y="0"/>
                </a:lnTo>
                <a:lnTo>
                  <a:pt x="133" y="36"/>
                </a:lnTo>
                <a:lnTo>
                  <a:pt x="164" y="36"/>
                </a:lnTo>
                <a:lnTo>
                  <a:pt x="23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27120" y="6442200"/>
            <a:ext cx="105120" cy="103680"/>
          </a:xfrm>
          <a:custGeom>
            <a:avLst/>
            <a:gdLst/>
            <a:ahLst/>
            <a:rect l="0" t="0" r="r" b="b"/>
            <a:pathLst>
              <a:path fill="none" w="292" h="288">
                <a:moveTo>
                  <a:pt x="0" y="0"/>
                </a:moveTo>
                <a:lnTo>
                  <a:pt x="0" y="257"/>
                </a:lnTo>
                <a:lnTo>
                  <a:pt x="0" y="128"/>
                </a:lnTo>
                <a:lnTo>
                  <a:pt x="61" y="30"/>
                </a:lnTo>
                <a:lnTo>
                  <a:pt x="159" y="30"/>
                </a:lnTo>
                <a:lnTo>
                  <a:pt x="225" y="98"/>
                </a:lnTo>
                <a:lnTo>
                  <a:pt x="256" y="288"/>
                </a:lnTo>
                <a:lnTo>
                  <a:pt x="292" y="2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25800" y="6442200"/>
            <a:ext cx="105120" cy="186120"/>
          </a:xfrm>
          <a:custGeom>
            <a:avLst/>
            <a:gdLst/>
            <a:ahLst/>
            <a:rect l="0" t="0" r="r" b="b"/>
            <a:pathLst>
              <a:path fill="none" w="292" h="517">
                <a:moveTo>
                  <a:pt x="0" y="256"/>
                </a:moveTo>
                <a:lnTo>
                  <a:pt x="195" y="287"/>
                </a:lnTo>
                <a:lnTo>
                  <a:pt x="292" y="225"/>
                </a:lnTo>
                <a:lnTo>
                  <a:pt x="292" y="61"/>
                </a:lnTo>
                <a:lnTo>
                  <a:pt x="159" y="0"/>
                </a:lnTo>
                <a:lnTo>
                  <a:pt x="97" y="61"/>
                </a:lnTo>
                <a:lnTo>
                  <a:pt x="30" y="384"/>
                </a:lnTo>
                <a:lnTo>
                  <a:pt x="0" y="517"/>
                </a:lnTo>
                <a:lnTo>
                  <a:pt x="66" y="384"/>
                </a:lnTo>
                <a:lnTo>
                  <a:pt x="66" y="97"/>
                </a:lnTo>
                <a:lnTo>
                  <a:pt x="3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52520" y="6429240"/>
            <a:ext cx="81360" cy="128880"/>
          </a:xfrm>
          <a:custGeom>
            <a:avLst/>
            <a:gdLst/>
            <a:ahLst/>
            <a:rect l="0" t="0" r="r" b="b"/>
            <a:pathLst>
              <a:path fill="none" w="226" h="358">
                <a:moveTo>
                  <a:pt x="0" y="0"/>
                </a:moveTo>
                <a:lnTo>
                  <a:pt x="35" y="230"/>
                </a:lnTo>
                <a:lnTo>
                  <a:pt x="35" y="358"/>
                </a:lnTo>
                <a:lnTo>
                  <a:pt x="0" y="66"/>
                </a:lnTo>
                <a:lnTo>
                  <a:pt x="67" y="35"/>
                </a:lnTo>
                <a:lnTo>
                  <a:pt x="226" y="3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68440" y="6453360"/>
            <a:ext cx="12960" cy="92520"/>
          </a:xfrm>
          <a:custGeom>
            <a:avLst/>
            <a:gdLst/>
            <a:ahLst/>
            <a:rect l="0" t="0" r="r" b="b"/>
            <a:pathLst>
              <a:path fill="none" w="36" h="257">
                <a:moveTo>
                  <a:pt x="0" y="0"/>
                </a:moveTo>
                <a:lnTo>
                  <a:pt x="36" y="98"/>
                </a:lnTo>
                <a:lnTo>
                  <a:pt x="0" y="257"/>
                </a:lnTo>
                <a:lnTo>
                  <a:pt x="36" y="2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57280" y="6407280"/>
            <a:ext cx="22320" cy="22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1360" y="6396120"/>
            <a:ext cx="12960" cy="162360"/>
          </a:xfrm>
          <a:custGeom>
            <a:avLst/>
            <a:gdLst/>
            <a:ahLst/>
            <a:rect l="0" t="0" r="r" b="b"/>
            <a:pathLst>
              <a:path fill="none" w="36" h="451">
                <a:moveTo>
                  <a:pt x="0" y="0"/>
                </a:moveTo>
                <a:lnTo>
                  <a:pt x="36" y="128"/>
                </a:lnTo>
                <a:lnTo>
                  <a:pt x="0" y="45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4160" y="6396120"/>
            <a:ext cx="149760" cy="162360"/>
          </a:xfrm>
          <a:custGeom>
            <a:avLst/>
            <a:gdLst/>
            <a:ahLst/>
            <a:rect l="0" t="0" r="r" b="b"/>
            <a:pathLst>
              <a:path fill="none" w="416" h="451">
                <a:moveTo>
                  <a:pt x="225" y="0"/>
                </a:moveTo>
                <a:lnTo>
                  <a:pt x="128" y="30"/>
                </a:lnTo>
                <a:lnTo>
                  <a:pt x="30" y="128"/>
                </a:lnTo>
                <a:lnTo>
                  <a:pt x="0" y="287"/>
                </a:lnTo>
                <a:lnTo>
                  <a:pt x="128" y="416"/>
                </a:lnTo>
                <a:lnTo>
                  <a:pt x="256" y="451"/>
                </a:lnTo>
                <a:lnTo>
                  <a:pt x="385" y="354"/>
                </a:lnTo>
                <a:lnTo>
                  <a:pt x="416" y="256"/>
                </a:lnTo>
                <a:lnTo>
                  <a:pt x="323" y="61"/>
                </a:lnTo>
                <a:lnTo>
                  <a:pt x="225" y="0"/>
                </a:lnTo>
                <a:lnTo>
                  <a:pt x="159" y="30"/>
                </a:lnTo>
                <a:lnTo>
                  <a:pt x="92" y="61"/>
                </a:lnTo>
                <a:lnTo>
                  <a:pt x="61" y="92"/>
                </a:lnTo>
                <a:lnTo>
                  <a:pt x="30" y="159"/>
                </a:lnTo>
                <a:lnTo>
                  <a:pt x="30" y="190"/>
                </a:lnTo>
                <a:lnTo>
                  <a:pt x="30" y="256"/>
                </a:lnTo>
                <a:lnTo>
                  <a:pt x="30" y="322"/>
                </a:lnTo>
                <a:lnTo>
                  <a:pt x="61" y="354"/>
                </a:lnTo>
                <a:lnTo>
                  <a:pt x="92" y="385"/>
                </a:lnTo>
                <a:lnTo>
                  <a:pt x="159" y="451"/>
                </a:lnTo>
                <a:lnTo>
                  <a:pt x="190" y="451"/>
                </a:lnTo>
                <a:lnTo>
                  <a:pt x="225" y="451"/>
                </a:lnTo>
                <a:lnTo>
                  <a:pt x="287" y="451"/>
                </a:lnTo>
                <a:lnTo>
                  <a:pt x="323" y="416"/>
                </a:lnTo>
                <a:lnTo>
                  <a:pt x="354" y="385"/>
                </a:lnTo>
                <a:lnTo>
                  <a:pt x="385" y="354"/>
                </a:lnTo>
                <a:lnTo>
                  <a:pt x="385" y="322"/>
                </a:lnTo>
                <a:lnTo>
                  <a:pt x="385" y="287"/>
                </a:lnTo>
                <a:lnTo>
                  <a:pt x="385" y="225"/>
                </a:lnTo>
                <a:lnTo>
                  <a:pt x="385" y="190"/>
                </a:lnTo>
                <a:lnTo>
                  <a:pt x="354" y="159"/>
                </a:lnTo>
                <a:lnTo>
                  <a:pt x="354" y="128"/>
                </a:lnTo>
                <a:lnTo>
                  <a:pt x="287" y="30"/>
                </a:lnTo>
                <a:lnTo>
                  <a:pt x="22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78120" y="6407280"/>
            <a:ext cx="140040" cy="173520"/>
          </a:xfrm>
          <a:custGeom>
            <a:avLst/>
            <a:gdLst/>
            <a:ahLst/>
            <a:rect l="0" t="0" r="r" b="b"/>
            <a:pathLst>
              <a:path fill="none" w="389" h="482">
                <a:moveTo>
                  <a:pt x="225" y="0"/>
                </a:moveTo>
                <a:lnTo>
                  <a:pt x="163" y="0"/>
                </a:lnTo>
                <a:lnTo>
                  <a:pt x="0" y="159"/>
                </a:lnTo>
                <a:lnTo>
                  <a:pt x="35" y="322"/>
                </a:lnTo>
                <a:lnTo>
                  <a:pt x="97" y="451"/>
                </a:lnTo>
                <a:lnTo>
                  <a:pt x="225" y="482"/>
                </a:lnTo>
                <a:lnTo>
                  <a:pt x="358" y="385"/>
                </a:lnTo>
                <a:lnTo>
                  <a:pt x="389" y="225"/>
                </a:lnTo>
                <a:lnTo>
                  <a:pt x="322" y="61"/>
                </a:lnTo>
                <a:lnTo>
                  <a:pt x="225" y="0"/>
                </a:lnTo>
                <a:lnTo>
                  <a:pt x="195" y="0"/>
                </a:lnTo>
                <a:lnTo>
                  <a:pt x="163" y="30"/>
                </a:lnTo>
                <a:lnTo>
                  <a:pt x="97" y="61"/>
                </a:lnTo>
                <a:lnTo>
                  <a:pt x="66" y="97"/>
                </a:lnTo>
                <a:lnTo>
                  <a:pt x="35" y="128"/>
                </a:lnTo>
                <a:lnTo>
                  <a:pt x="0" y="195"/>
                </a:lnTo>
                <a:lnTo>
                  <a:pt x="0" y="225"/>
                </a:lnTo>
                <a:lnTo>
                  <a:pt x="35" y="292"/>
                </a:lnTo>
                <a:lnTo>
                  <a:pt x="66" y="353"/>
                </a:lnTo>
                <a:lnTo>
                  <a:pt x="66" y="385"/>
                </a:lnTo>
                <a:lnTo>
                  <a:pt x="97" y="420"/>
                </a:lnTo>
                <a:lnTo>
                  <a:pt x="132" y="451"/>
                </a:lnTo>
                <a:lnTo>
                  <a:pt x="163" y="451"/>
                </a:lnTo>
                <a:lnTo>
                  <a:pt x="195" y="451"/>
                </a:lnTo>
                <a:lnTo>
                  <a:pt x="261" y="451"/>
                </a:lnTo>
                <a:lnTo>
                  <a:pt x="292" y="420"/>
                </a:lnTo>
                <a:lnTo>
                  <a:pt x="322" y="420"/>
                </a:lnTo>
                <a:lnTo>
                  <a:pt x="389" y="353"/>
                </a:lnTo>
                <a:lnTo>
                  <a:pt x="389" y="322"/>
                </a:lnTo>
                <a:lnTo>
                  <a:pt x="389" y="292"/>
                </a:lnTo>
                <a:lnTo>
                  <a:pt x="389" y="195"/>
                </a:lnTo>
                <a:lnTo>
                  <a:pt x="358" y="128"/>
                </a:lnTo>
                <a:lnTo>
                  <a:pt x="358" y="97"/>
                </a:lnTo>
                <a:lnTo>
                  <a:pt x="292" y="30"/>
                </a:lnTo>
                <a:lnTo>
                  <a:pt x="22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8800" y="6464160"/>
            <a:ext cx="105120" cy="116280"/>
          </a:xfrm>
          <a:custGeom>
            <a:avLst/>
            <a:gdLst/>
            <a:ahLst/>
            <a:rect l="0" t="0" r="r" b="b"/>
            <a:pathLst>
              <a:path fill="none" w="292" h="323">
                <a:moveTo>
                  <a:pt x="0" y="0"/>
                </a:moveTo>
                <a:lnTo>
                  <a:pt x="0" y="293"/>
                </a:lnTo>
                <a:lnTo>
                  <a:pt x="0" y="225"/>
                </a:lnTo>
                <a:lnTo>
                  <a:pt x="0" y="133"/>
                </a:lnTo>
                <a:lnTo>
                  <a:pt x="97" y="35"/>
                </a:lnTo>
                <a:lnTo>
                  <a:pt x="127" y="293"/>
                </a:lnTo>
                <a:lnTo>
                  <a:pt x="127" y="133"/>
                </a:lnTo>
                <a:lnTo>
                  <a:pt x="225" y="35"/>
                </a:lnTo>
                <a:lnTo>
                  <a:pt x="292" y="66"/>
                </a:lnTo>
                <a:lnTo>
                  <a:pt x="292" y="32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78400" y="6407280"/>
            <a:ext cx="11520" cy="151200"/>
          </a:xfrm>
          <a:custGeom>
            <a:avLst/>
            <a:gdLst/>
            <a:ahLst/>
            <a:rect l="0" t="0" r="r" b="b"/>
            <a:pathLst>
              <a:path fill="none" w="32" h="420">
                <a:moveTo>
                  <a:pt x="32" y="0"/>
                </a:moveTo>
                <a:lnTo>
                  <a:pt x="32" y="97"/>
                </a:lnTo>
                <a:lnTo>
                  <a:pt x="0" y="42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74840" y="1119240"/>
            <a:ext cx="20016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911240" y="1141560"/>
            <a:ext cx="3207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44840" y="1119240"/>
            <a:ext cx="20016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941560" y="1141560"/>
            <a:ext cx="449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52440" y="1560600"/>
            <a:ext cx="13795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your heigh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52440" y="1141560"/>
            <a:ext cx="1187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your sex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52440" y="690480"/>
            <a:ext cx="11970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your ag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322360" y="690480"/>
            <a:ext cx="3477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6880" y="633240"/>
            <a:ext cx="4748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76240" y="888840"/>
            <a:ext cx="447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471760" y="1560600"/>
            <a:ext cx="555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   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40040" y="1490760"/>
            <a:ext cx="476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49400" y="1746360"/>
            <a:ext cx="4478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747960" y="1560600"/>
            <a:ext cx="2476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92480" y="1490760"/>
            <a:ext cx="4748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1840" y="1746360"/>
            <a:ext cx="4478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15000" y="1560600"/>
            <a:ext cx="422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h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57720" y="1490760"/>
            <a:ext cx="476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1746360"/>
            <a:ext cx="4478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52440" y="2011320"/>
            <a:ext cx="1806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your usual weigh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867040" y="1998720"/>
            <a:ext cx="5176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   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11560" y="1932120"/>
            <a:ext cx="4748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20920" y="2185920"/>
            <a:ext cx="447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119480" y="1998720"/>
            <a:ext cx="349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2200" y="1932120"/>
            <a:ext cx="476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71920" y="2185920"/>
            <a:ext cx="4474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184720" y="1998720"/>
            <a:ext cx="476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29240" y="1932120"/>
            <a:ext cx="4748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38600" y="2185920"/>
            <a:ext cx="447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96920" y="6416640"/>
            <a:ext cx="93960" cy="128880"/>
          </a:xfrm>
          <a:custGeom>
            <a:avLst/>
            <a:gdLst/>
            <a:ahLst/>
            <a:rect l="0" t="0" r="r" b="b"/>
            <a:pathLst>
              <a:path fill="none" w="261" h="358">
                <a:moveTo>
                  <a:pt x="35" y="66"/>
                </a:moveTo>
                <a:lnTo>
                  <a:pt x="97" y="0"/>
                </a:lnTo>
                <a:lnTo>
                  <a:pt x="164" y="0"/>
                </a:lnTo>
                <a:lnTo>
                  <a:pt x="195" y="97"/>
                </a:lnTo>
                <a:lnTo>
                  <a:pt x="164" y="261"/>
                </a:lnTo>
                <a:lnTo>
                  <a:pt x="66" y="322"/>
                </a:lnTo>
                <a:lnTo>
                  <a:pt x="0" y="358"/>
                </a:lnTo>
                <a:lnTo>
                  <a:pt x="0" y="292"/>
                </a:lnTo>
                <a:lnTo>
                  <a:pt x="225" y="358"/>
                </a:lnTo>
                <a:lnTo>
                  <a:pt x="261" y="32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0000" y="6424560"/>
            <a:ext cx="68760" cy="151200"/>
          </a:xfrm>
          <a:custGeom>
            <a:avLst/>
            <a:gdLst/>
            <a:ahLst/>
            <a:rect l="0" t="0" r="r" b="b"/>
            <a:pathLst>
              <a:path fill="none" w="191" h="420">
                <a:moveTo>
                  <a:pt x="191" y="66"/>
                </a:moveTo>
                <a:lnTo>
                  <a:pt x="160" y="0"/>
                </a:lnTo>
                <a:lnTo>
                  <a:pt x="30" y="30"/>
                </a:lnTo>
                <a:lnTo>
                  <a:pt x="0" y="97"/>
                </a:lnTo>
                <a:lnTo>
                  <a:pt x="93" y="195"/>
                </a:lnTo>
                <a:lnTo>
                  <a:pt x="160" y="164"/>
                </a:lnTo>
                <a:lnTo>
                  <a:pt x="191" y="0"/>
                </a:lnTo>
                <a:lnTo>
                  <a:pt x="191" y="261"/>
                </a:lnTo>
                <a:lnTo>
                  <a:pt x="160" y="42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6435720"/>
            <a:ext cx="57600" cy="140040"/>
          </a:xfrm>
          <a:custGeom>
            <a:avLst/>
            <a:gdLst/>
            <a:ahLst/>
            <a:rect l="0" t="0" r="r" b="b"/>
            <a:pathLst>
              <a:path fill="none" w="160" h="389">
                <a:moveTo>
                  <a:pt x="160" y="35"/>
                </a:moveTo>
                <a:lnTo>
                  <a:pt x="160" y="0"/>
                </a:lnTo>
                <a:lnTo>
                  <a:pt x="129" y="0"/>
                </a:lnTo>
                <a:lnTo>
                  <a:pt x="62" y="0"/>
                </a:lnTo>
                <a:lnTo>
                  <a:pt x="30" y="0"/>
                </a:lnTo>
                <a:lnTo>
                  <a:pt x="0" y="35"/>
                </a:lnTo>
                <a:lnTo>
                  <a:pt x="0" y="97"/>
                </a:lnTo>
                <a:lnTo>
                  <a:pt x="30" y="97"/>
                </a:lnTo>
                <a:lnTo>
                  <a:pt x="62" y="163"/>
                </a:lnTo>
                <a:lnTo>
                  <a:pt x="62" y="132"/>
                </a:lnTo>
                <a:lnTo>
                  <a:pt x="98" y="132"/>
                </a:lnTo>
                <a:lnTo>
                  <a:pt x="129" y="132"/>
                </a:lnTo>
                <a:lnTo>
                  <a:pt x="160" y="97"/>
                </a:lnTo>
                <a:lnTo>
                  <a:pt x="160" y="66"/>
                </a:lnTo>
                <a:lnTo>
                  <a:pt x="160" y="35"/>
                </a:lnTo>
                <a:lnTo>
                  <a:pt x="160" y="66"/>
                </a:lnTo>
                <a:lnTo>
                  <a:pt x="160" y="97"/>
                </a:lnTo>
                <a:lnTo>
                  <a:pt x="160" y="163"/>
                </a:lnTo>
                <a:lnTo>
                  <a:pt x="160" y="292"/>
                </a:lnTo>
                <a:lnTo>
                  <a:pt x="129" y="38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0" y="10018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0" y="1407960"/>
            <a:ext cx="6875640" cy="1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40" y="183996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0" y="321156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0" y="39862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0" y="457056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360" y="450720"/>
            <a:ext cx="6957720" cy="18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36360" y="2309760"/>
            <a:ext cx="6932520" cy="18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5294160"/>
            <a:ext cx="6932520" cy="18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36360" y="8223120"/>
            <a:ext cx="6932520" cy="18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96760" y="64134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9400" y="64008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18960" y="2943360"/>
            <a:ext cx="4040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list ALL your training problems in the last 6 month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60560" y="3902040"/>
            <a:ext cx="2241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 for lost or reduced trai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268880" y="3760920"/>
            <a:ext cx="4129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219560" y="3924360"/>
            <a:ext cx="5126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295960" y="3760920"/>
            <a:ext cx="7794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430960" y="3924360"/>
            <a:ext cx="5126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18960" y="907920"/>
            <a:ext cx="48182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s a list of problems that make athletes stop or reduce their train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12720" y="1190520"/>
            <a:ext cx="206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5480" y="1190520"/>
            <a:ext cx="7383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NES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66720" y="1193760"/>
            <a:ext cx="357984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lds, flu, viruses, asthma, stomach upsets, infec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1880" y="1190520"/>
            <a:ext cx="19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12720" y="1419120"/>
            <a:ext cx="206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25480" y="1419120"/>
            <a:ext cx="16970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INJUR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30440" y="1432080"/>
            <a:ext cx="238284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rains, fractures, pain in muscle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19600" y="1419120"/>
            <a:ext cx="19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12720" y="1647720"/>
            <a:ext cx="206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5480" y="1647720"/>
            <a:ext cx="13208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TRAI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247840" y="1666800"/>
            <a:ext cx="39466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ou couldn't reach your usual training and performance targe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47840" y="1830240"/>
            <a:ext cx="418464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ay also have felt very tired, worried or lacking in confide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247840" y="1994040"/>
            <a:ext cx="2293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had sore muscles and bad mood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90400" y="4152960"/>
            <a:ext cx="5705640" cy="263520"/>
            <a:chOff x="590400" y="4152960"/>
            <a:chExt cx="5705640" cy="263520"/>
          </a:xfrm>
        </p:grpSpPr>
        <p:grpSp>
          <p:nvGrpSpPr>
            <p:cNvPr id="322" name=""/>
            <p:cNvGrpSpPr/>
            <p:nvPr/>
          </p:nvGrpSpPr>
          <p:grpSpPr>
            <a:xfrm>
              <a:off x="590400" y="4152960"/>
              <a:ext cx="3243240" cy="260280"/>
              <a:chOff x="590400" y="4152960"/>
              <a:chExt cx="3243240" cy="260280"/>
            </a:xfrm>
          </p:grpSpPr>
          <p:sp>
            <p:nvSpPr>
              <p:cNvPr id="323" name=""/>
              <p:cNvSpPr/>
              <p:nvPr/>
            </p:nvSpPr>
            <p:spPr>
              <a:xfrm>
                <a:off x="590400" y="4152960"/>
                <a:ext cx="324324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2200" y="4402080"/>
                <a:ext cx="3230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4246560" y="4152960"/>
              <a:ext cx="857160" cy="263520"/>
              <a:chOff x="4246560" y="4152960"/>
              <a:chExt cx="857160" cy="2635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4246560" y="4152960"/>
                <a:ext cx="495360" cy="249120"/>
                <a:chOff x="4246560" y="4152960"/>
                <a:chExt cx="495360" cy="24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246560" y="4152960"/>
                  <a:ext cx="495360" cy="249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248000" y="4392720"/>
                  <a:ext cx="482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 txBox="1"/>
              <p:nvPr/>
            </p:nvSpPr>
            <p:spPr>
              <a:xfrm>
                <a:off x="4800600" y="421812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437080" y="4152960"/>
              <a:ext cx="858960" cy="263520"/>
              <a:chOff x="5437080" y="4152960"/>
              <a:chExt cx="858960" cy="26352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5437080" y="4152960"/>
                <a:ext cx="495360" cy="249120"/>
                <a:chOff x="5437080" y="4152960"/>
                <a:chExt cx="495360" cy="24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437080" y="4152960"/>
                  <a:ext cx="495360" cy="249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438880" y="4392720"/>
                  <a:ext cx="4824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 txBox="1"/>
              <p:nvPr/>
            </p:nvSpPr>
            <p:spPr>
              <a:xfrm>
                <a:off x="5992920" y="421812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590400" y="4533840"/>
            <a:ext cx="5705640" cy="263520"/>
            <a:chOff x="590400" y="4533840"/>
            <a:chExt cx="5705640" cy="263520"/>
          </a:xfrm>
        </p:grpSpPr>
        <p:grpSp>
          <p:nvGrpSpPr>
            <p:cNvPr id="336" name=""/>
            <p:cNvGrpSpPr/>
            <p:nvPr/>
          </p:nvGrpSpPr>
          <p:grpSpPr>
            <a:xfrm>
              <a:off x="590400" y="4533840"/>
              <a:ext cx="3243240" cy="260280"/>
              <a:chOff x="590400" y="4533840"/>
              <a:chExt cx="3243240" cy="260280"/>
            </a:xfrm>
          </p:grpSpPr>
          <p:sp>
            <p:nvSpPr>
              <p:cNvPr id="337" name=""/>
              <p:cNvSpPr/>
              <p:nvPr/>
            </p:nvSpPr>
            <p:spPr>
              <a:xfrm>
                <a:off x="590400" y="4533840"/>
                <a:ext cx="324324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92200" y="4784760"/>
                <a:ext cx="3230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246560" y="4533840"/>
              <a:ext cx="857160" cy="263520"/>
              <a:chOff x="4246560" y="4533840"/>
              <a:chExt cx="857160" cy="26352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4246560" y="4533840"/>
                <a:ext cx="495360" cy="260280"/>
                <a:chOff x="4246560" y="4533840"/>
                <a:chExt cx="495360" cy="2602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246560" y="4533840"/>
                  <a:ext cx="495360" cy="26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248000" y="4784760"/>
                  <a:ext cx="482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"/>
              <p:cNvSpPr txBox="1"/>
              <p:nvPr/>
            </p:nvSpPr>
            <p:spPr>
              <a:xfrm>
                <a:off x="4800600" y="459900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437080" y="4533840"/>
              <a:ext cx="858960" cy="263520"/>
              <a:chOff x="5437080" y="4533840"/>
              <a:chExt cx="858960" cy="26352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5437080" y="4533840"/>
                <a:ext cx="495360" cy="260280"/>
                <a:chOff x="5437080" y="4533840"/>
                <a:chExt cx="495360" cy="2602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437080" y="4533840"/>
                  <a:ext cx="495360" cy="26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438880" y="4784760"/>
                  <a:ext cx="4824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"/>
              <p:cNvSpPr txBox="1"/>
              <p:nvPr/>
            </p:nvSpPr>
            <p:spPr>
              <a:xfrm>
                <a:off x="5992920" y="459900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590400" y="4915080"/>
            <a:ext cx="5705640" cy="274320"/>
            <a:chOff x="590400" y="4915080"/>
            <a:chExt cx="5705640" cy="274320"/>
          </a:xfrm>
        </p:grpSpPr>
        <p:grpSp>
          <p:nvGrpSpPr>
            <p:cNvPr id="350" name=""/>
            <p:cNvGrpSpPr/>
            <p:nvPr/>
          </p:nvGrpSpPr>
          <p:grpSpPr>
            <a:xfrm>
              <a:off x="590400" y="4915080"/>
              <a:ext cx="3243240" cy="262080"/>
              <a:chOff x="590400" y="4915080"/>
              <a:chExt cx="3243240" cy="262080"/>
            </a:xfrm>
          </p:grpSpPr>
          <p:sp>
            <p:nvSpPr>
              <p:cNvPr id="351" name=""/>
              <p:cNvSpPr/>
              <p:nvPr/>
            </p:nvSpPr>
            <p:spPr>
              <a:xfrm>
                <a:off x="590400" y="4915080"/>
                <a:ext cx="3243240" cy="2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2200" y="5165640"/>
                <a:ext cx="3230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246560" y="4915080"/>
              <a:ext cx="857160" cy="274320"/>
              <a:chOff x="4246560" y="4915080"/>
              <a:chExt cx="857160" cy="27432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4246560" y="4915080"/>
                <a:ext cx="495360" cy="262080"/>
                <a:chOff x="4246560" y="4915080"/>
                <a:chExt cx="495360" cy="2620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246560" y="4915080"/>
                  <a:ext cx="495360" cy="26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48000" y="5165640"/>
                  <a:ext cx="4827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 txBox="1"/>
              <p:nvPr/>
            </p:nvSpPr>
            <p:spPr>
              <a:xfrm>
                <a:off x="4800600" y="499104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437080" y="4915080"/>
              <a:ext cx="858960" cy="274320"/>
              <a:chOff x="5437080" y="4915080"/>
              <a:chExt cx="858960" cy="27432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5437080" y="4915080"/>
                <a:ext cx="495360" cy="262080"/>
                <a:chOff x="5437080" y="4915080"/>
                <a:chExt cx="495360" cy="2620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5437080" y="4915080"/>
                  <a:ext cx="495360" cy="26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438880" y="5165640"/>
                  <a:ext cx="4824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"/>
              <p:cNvSpPr txBox="1"/>
              <p:nvPr/>
            </p:nvSpPr>
            <p:spPr>
              <a:xfrm>
                <a:off x="5992920" y="499104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590400" y="5295960"/>
            <a:ext cx="5705640" cy="274680"/>
            <a:chOff x="590400" y="5295960"/>
            <a:chExt cx="5705640" cy="274680"/>
          </a:xfrm>
        </p:grpSpPr>
        <p:grpSp>
          <p:nvGrpSpPr>
            <p:cNvPr id="364" name=""/>
            <p:cNvGrpSpPr/>
            <p:nvPr/>
          </p:nvGrpSpPr>
          <p:grpSpPr>
            <a:xfrm>
              <a:off x="590400" y="5307120"/>
              <a:ext cx="3243240" cy="250920"/>
              <a:chOff x="590400" y="5307120"/>
              <a:chExt cx="3243240" cy="250920"/>
            </a:xfrm>
          </p:grpSpPr>
          <p:sp>
            <p:nvSpPr>
              <p:cNvPr id="365" name=""/>
              <p:cNvSpPr/>
              <p:nvPr/>
            </p:nvSpPr>
            <p:spPr>
              <a:xfrm>
                <a:off x="590400" y="5307120"/>
                <a:ext cx="3243240" cy="25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2200" y="5546880"/>
                <a:ext cx="3230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4246560" y="5295960"/>
              <a:ext cx="857160" cy="274680"/>
              <a:chOff x="4246560" y="5295960"/>
              <a:chExt cx="857160" cy="2746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4246560" y="5295960"/>
                <a:ext cx="495360" cy="262080"/>
                <a:chOff x="4246560" y="5295960"/>
                <a:chExt cx="495360" cy="2620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246560" y="5295960"/>
                  <a:ext cx="495360" cy="26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248000" y="5546880"/>
                  <a:ext cx="482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 txBox="1"/>
              <p:nvPr/>
            </p:nvSpPr>
            <p:spPr>
              <a:xfrm>
                <a:off x="4800600" y="537228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5437080" y="5295960"/>
              <a:ext cx="858960" cy="274680"/>
              <a:chOff x="5437080" y="5295960"/>
              <a:chExt cx="858960" cy="27468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437080" y="5295960"/>
                <a:ext cx="495360" cy="262080"/>
                <a:chOff x="5437080" y="5295960"/>
                <a:chExt cx="495360" cy="2620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437080" y="5295960"/>
                  <a:ext cx="495360" cy="26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438880" y="5546880"/>
                  <a:ext cx="4824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 txBox="1"/>
              <p:nvPr/>
            </p:nvSpPr>
            <p:spPr>
              <a:xfrm>
                <a:off x="5992920" y="537228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590400" y="5688000"/>
            <a:ext cx="5705640" cy="263520"/>
            <a:chOff x="590400" y="5688000"/>
            <a:chExt cx="5705640" cy="263520"/>
          </a:xfrm>
        </p:grpSpPr>
        <p:grpSp>
          <p:nvGrpSpPr>
            <p:cNvPr id="378" name=""/>
            <p:cNvGrpSpPr/>
            <p:nvPr/>
          </p:nvGrpSpPr>
          <p:grpSpPr>
            <a:xfrm>
              <a:off x="590400" y="5688000"/>
              <a:ext cx="3243240" cy="262080"/>
              <a:chOff x="590400" y="5688000"/>
              <a:chExt cx="3243240" cy="262080"/>
            </a:xfrm>
          </p:grpSpPr>
          <p:sp>
            <p:nvSpPr>
              <p:cNvPr id="379" name=""/>
              <p:cNvSpPr/>
              <p:nvPr/>
            </p:nvSpPr>
            <p:spPr>
              <a:xfrm>
                <a:off x="590400" y="5688000"/>
                <a:ext cx="3243240" cy="2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2200" y="5938920"/>
                <a:ext cx="3230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246560" y="5688000"/>
              <a:ext cx="857160" cy="263520"/>
              <a:chOff x="4246560" y="5688000"/>
              <a:chExt cx="857160" cy="2635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4246560" y="5688000"/>
                <a:ext cx="495360" cy="250920"/>
                <a:chOff x="4246560" y="5688000"/>
                <a:chExt cx="495360" cy="2509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246560" y="5688000"/>
                  <a:ext cx="495360" cy="25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248000" y="5927760"/>
                  <a:ext cx="482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 txBox="1"/>
              <p:nvPr/>
            </p:nvSpPr>
            <p:spPr>
              <a:xfrm>
                <a:off x="4800600" y="575316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437080" y="5688000"/>
              <a:ext cx="858960" cy="263520"/>
              <a:chOff x="5437080" y="5688000"/>
              <a:chExt cx="858960" cy="2635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5437080" y="5688000"/>
                <a:ext cx="495360" cy="250920"/>
                <a:chOff x="5437080" y="5688000"/>
                <a:chExt cx="495360" cy="250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5437080" y="5688000"/>
                  <a:ext cx="495360" cy="25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438880" y="5927760"/>
                  <a:ext cx="4824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 txBox="1"/>
              <p:nvPr/>
            </p:nvSpPr>
            <p:spPr>
              <a:xfrm>
                <a:off x="5992920" y="575316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590400" y="6068880"/>
            <a:ext cx="5705640" cy="265320"/>
            <a:chOff x="590400" y="6068880"/>
            <a:chExt cx="5705640" cy="265320"/>
          </a:xfrm>
        </p:grpSpPr>
        <p:grpSp>
          <p:nvGrpSpPr>
            <p:cNvPr id="392" name=""/>
            <p:cNvGrpSpPr/>
            <p:nvPr/>
          </p:nvGrpSpPr>
          <p:grpSpPr>
            <a:xfrm>
              <a:off x="590400" y="6068880"/>
              <a:ext cx="3243240" cy="262080"/>
              <a:chOff x="590400" y="6068880"/>
              <a:chExt cx="3243240" cy="262080"/>
            </a:xfrm>
          </p:grpSpPr>
          <p:sp>
            <p:nvSpPr>
              <p:cNvPr id="393" name=""/>
              <p:cNvSpPr/>
              <p:nvPr/>
            </p:nvSpPr>
            <p:spPr>
              <a:xfrm>
                <a:off x="590400" y="6068880"/>
                <a:ext cx="3243240" cy="2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92200" y="6319800"/>
                <a:ext cx="3230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46560" y="6068880"/>
              <a:ext cx="857160" cy="265320"/>
              <a:chOff x="4246560" y="6068880"/>
              <a:chExt cx="857160" cy="26532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4246560" y="6068880"/>
                <a:ext cx="495360" cy="262080"/>
                <a:chOff x="4246560" y="6068880"/>
                <a:chExt cx="495360" cy="2620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246560" y="6068880"/>
                  <a:ext cx="495360" cy="26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248000" y="6319800"/>
                  <a:ext cx="4827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 txBox="1"/>
              <p:nvPr/>
            </p:nvSpPr>
            <p:spPr>
              <a:xfrm>
                <a:off x="4800600" y="613584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5437080" y="6068880"/>
              <a:ext cx="858960" cy="265320"/>
              <a:chOff x="5437080" y="6068880"/>
              <a:chExt cx="858960" cy="26532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5437080" y="6068880"/>
                <a:ext cx="495360" cy="262080"/>
                <a:chOff x="5437080" y="6068880"/>
                <a:chExt cx="495360" cy="2620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5437080" y="6068880"/>
                  <a:ext cx="495360" cy="26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438880" y="6319800"/>
                  <a:ext cx="4824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"/>
              <p:cNvSpPr txBox="1"/>
              <p:nvPr/>
            </p:nvSpPr>
            <p:spPr>
              <a:xfrm>
                <a:off x="5992920" y="613584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590400" y="6450120"/>
            <a:ext cx="5705640" cy="276120"/>
            <a:chOff x="590400" y="6450120"/>
            <a:chExt cx="5705640" cy="276120"/>
          </a:xfrm>
        </p:grpSpPr>
        <p:grpSp>
          <p:nvGrpSpPr>
            <p:cNvPr id="406" name=""/>
            <p:cNvGrpSpPr/>
            <p:nvPr/>
          </p:nvGrpSpPr>
          <p:grpSpPr>
            <a:xfrm>
              <a:off x="590400" y="6461280"/>
              <a:ext cx="3243240" cy="250920"/>
              <a:chOff x="590400" y="6461280"/>
              <a:chExt cx="3243240" cy="250920"/>
            </a:xfrm>
          </p:grpSpPr>
          <p:sp>
            <p:nvSpPr>
              <p:cNvPr id="407" name=""/>
              <p:cNvSpPr/>
              <p:nvPr/>
            </p:nvSpPr>
            <p:spPr>
              <a:xfrm>
                <a:off x="590400" y="6461280"/>
                <a:ext cx="3243240" cy="25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2200" y="6700680"/>
                <a:ext cx="3230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246560" y="6450120"/>
              <a:ext cx="857160" cy="276120"/>
              <a:chOff x="4246560" y="6450120"/>
              <a:chExt cx="857160" cy="27612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4246560" y="6450120"/>
                <a:ext cx="495360" cy="262080"/>
                <a:chOff x="4246560" y="6450120"/>
                <a:chExt cx="495360" cy="2620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4246560" y="6450120"/>
                  <a:ext cx="495360" cy="26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248000" y="6700680"/>
                  <a:ext cx="4827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 txBox="1"/>
              <p:nvPr/>
            </p:nvSpPr>
            <p:spPr>
              <a:xfrm>
                <a:off x="4800600" y="652788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5437080" y="6450120"/>
              <a:ext cx="858960" cy="276120"/>
              <a:chOff x="5437080" y="6450120"/>
              <a:chExt cx="858960" cy="27612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5437080" y="6450120"/>
                <a:ext cx="495360" cy="262080"/>
                <a:chOff x="5437080" y="6450120"/>
                <a:chExt cx="495360" cy="262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5437080" y="6450120"/>
                  <a:ext cx="495360" cy="262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438880" y="6700680"/>
                  <a:ext cx="4824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 txBox="1"/>
              <p:nvPr/>
            </p:nvSpPr>
            <p:spPr>
              <a:xfrm>
                <a:off x="5992920" y="6527880"/>
                <a:ext cx="3031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y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744480" y="4173480"/>
            <a:ext cx="2029320" cy="197280"/>
            <a:chOff x="744480" y="4173480"/>
            <a:chExt cx="2029320" cy="197280"/>
          </a:xfrm>
        </p:grpSpPr>
        <p:sp>
          <p:nvSpPr>
            <p:cNvPr id="420" name=""/>
            <p:cNvSpPr/>
            <p:nvPr/>
          </p:nvSpPr>
          <p:spPr>
            <a:xfrm>
              <a:off x="744480" y="4218120"/>
              <a:ext cx="141480" cy="130680"/>
            </a:xfrm>
            <a:custGeom>
              <a:avLst/>
              <a:gdLst/>
              <a:ahLst/>
              <a:rect l="0" t="0" r="r" b="b"/>
              <a:pathLst>
                <a:path fill="none" w="393" h="363">
                  <a:moveTo>
                    <a:pt x="327" y="88"/>
                  </a:moveTo>
                  <a:lnTo>
                    <a:pt x="132" y="0"/>
                  </a:lnTo>
                  <a:lnTo>
                    <a:pt x="30" y="61"/>
                  </a:lnTo>
                  <a:lnTo>
                    <a:pt x="296" y="150"/>
                  </a:lnTo>
                  <a:lnTo>
                    <a:pt x="393" y="243"/>
                  </a:lnTo>
                  <a:lnTo>
                    <a:pt x="261" y="363"/>
                  </a:lnTo>
                  <a:lnTo>
                    <a:pt x="0" y="275"/>
                  </a:lnTo>
                  <a:lnTo>
                    <a:pt x="0" y="2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4480" y="4228920"/>
              <a:ext cx="130680" cy="108360"/>
            </a:xfrm>
            <a:custGeom>
              <a:avLst/>
              <a:gdLst/>
              <a:ahLst/>
              <a:rect l="0" t="0" r="r" b="b"/>
              <a:pathLst>
                <a:path fill="none" w="363" h="301">
                  <a:moveTo>
                    <a:pt x="328" y="57"/>
                  </a:moveTo>
                  <a:lnTo>
                    <a:pt x="261" y="30"/>
                  </a:lnTo>
                  <a:lnTo>
                    <a:pt x="199" y="0"/>
                  </a:lnTo>
                  <a:lnTo>
                    <a:pt x="164" y="0"/>
                  </a:lnTo>
                  <a:lnTo>
                    <a:pt x="133" y="0"/>
                  </a:lnTo>
                  <a:lnTo>
                    <a:pt x="98" y="0"/>
                  </a:lnTo>
                  <a:lnTo>
                    <a:pt x="66" y="30"/>
                  </a:lnTo>
                  <a:lnTo>
                    <a:pt x="133" y="57"/>
                  </a:lnTo>
                  <a:lnTo>
                    <a:pt x="164" y="57"/>
                  </a:lnTo>
                  <a:lnTo>
                    <a:pt x="199" y="89"/>
                  </a:lnTo>
                  <a:lnTo>
                    <a:pt x="230" y="89"/>
                  </a:lnTo>
                  <a:lnTo>
                    <a:pt x="261" y="120"/>
                  </a:lnTo>
                  <a:lnTo>
                    <a:pt x="328" y="150"/>
                  </a:lnTo>
                  <a:lnTo>
                    <a:pt x="363" y="181"/>
                  </a:lnTo>
                  <a:lnTo>
                    <a:pt x="363" y="212"/>
                  </a:lnTo>
                  <a:lnTo>
                    <a:pt x="363" y="244"/>
                  </a:lnTo>
                  <a:lnTo>
                    <a:pt x="328" y="270"/>
                  </a:lnTo>
                  <a:lnTo>
                    <a:pt x="297" y="301"/>
                  </a:lnTo>
                  <a:lnTo>
                    <a:pt x="230" y="301"/>
                  </a:lnTo>
                  <a:lnTo>
                    <a:pt x="164" y="301"/>
                  </a:lnTo>
                  <a:lnTo>
                    <a:pt x="133" y="301"/>
                  </a:lnTo>
                  <a:lnTo>
                    <a:pt x="98" y="301"/>
                  </a:lnTo>
                  <a:lnTo>
                    <a:pt x="66" y="270"/>
                  </a:lnTo>
                  <a:lnTo>
                    <a:pt x="30" y="244"/>
                  </a:lnTo>
                  <a:lnTo>
                    <a:pt x="0" y="2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44640" y="4249800"/>
              <a:ext cx="119520" cy="87840"/>
            </a:xfrm>
            <a:custGeom>
              <a:avLst/>
              <a:gdLst/>
              <a:ahLst/>
              <a:rect l="0" t="0" r="r" b="b"/>
              <a:pathLst>
                <a:path fill="none" w="332" h="244">
                  <a:moveTo>
                    <a:pt x="199" y="0"/>
                  </a:moveTo>
                  <a:lnTo>
                    <a:pt x="0" y="30"/>
                  </a:lnTo>
                  <a:lnTo>
                    <a:pt x="0" y="155"/>
                  </a:lnTo>
                  <a:lnTo>
                    <a:pt x="164" y="244"/>
                  </a:lnTo>
                  <a:lnTo>
                    <a:pt x="332" y="155"/>
                  </a:lnTo>
                  <a:lnTo>
                    <a:pt x="297" y="0"/>
                  </a:lnTo>
                  <a:lnTo>
                    <a:pt x="13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44640" y="4249800"/>
              <a:ext cx="106560" cy="76680"/>
            </a:xfrm>
            <a:custGeom>
              <a:avLst/>
              <a:gdLst/>
              <a:ahLst/>
              <a:rect l="0" t="0" r="r" b="b"/>
              <a:pathLst>
                <a:path fill="none" w="296" h="213">
                  <a:moveTo>
                    <a:pt x="199" y="0"/>
                  </a:moveTo>
                  <a:lnTo>
                    <a:pt x="164" y="0"/>
                  </a:lnTo>
                  <a:lnTo>
                    <a:pt x="66" y="30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0" y="124"/>
                  </a:lnTo>
                  <a:lnTo>
                    <a:pt x="35" y="155"/>
                  </a:lnTo>
                  <a:lnTo>
                    <a:pt x="101" y="213"/>
                  </a:lnTo>
                  <a:lnTo>
                    <a:pt x="132" y="213"/>
                  </a:lnTo>
                  <a:lnTo>
                    <a:pt x="199" y="213"/>
                  </a:lnTo>
                  <a:lnTo>
                    <a:pt x="230" y="187"/>
                  </a:lnTo>
                  <a:lnTo>
                    <a:pt x="296" y="155"/>
                  </a:lnTo>
                  <a:lnTo>
                    <a:pt x="296" y="93"/>
                  </a:lnTo>
                  <a:lnTo>
                    <a:pt x="296" y="62"/>
                  </a:lnTo>
                  <a:lnTo>
                    <a:pt x="265" y="30"/>
                  </a:lnTo>
                  <a:lnTo>
                    <a:pt x="230" y="0"/>
                  </a:lnTo>
                  <a:lnTo>
                    <a:pt x="164" y="0"/>
                  </a:lnTo>
                  <a:lnTo>
                    <a:pt x="13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09520" y="4240080"/>
              <a:ext cx="119520" cy="108360"/>
            </a:xfrm>
            <a:custGeom>
              <a:avLst/>
              <a:gdLst/>
              <a:ahLst/>
              <a:rect l="0" t="0" r="r" b="b"/>
              <a:pathLst>
                <a:path fill="none" w="332" h="301">
                  <a:moveTo>
                    <a:pt x="0" y="0"/>
                  </a:moveTo>
                  <a:lnTo>
                    <a:pt x="35" y="181"/>
                  </a:lnTo>
                  <a:lnTo>
                    <a:pt x="35" y="240"/>
                  </a:lnTo>
                  <a:lnTo>
                    <a:pt x="66" y="301"/>
                  </a:lnTo>
                  <a:lnTo>
                    <a:pt x="0" y="89"/>
                  </a:lnTo>
                  <a:lnTo>
                    <a:pt x="199" y="26"/>
                  </a:lnTo>
                  <a:lnTo>
                    <a:pt x="332" y="5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09520" y="4240080"/>
              <a:ext cx="119520" cy="97200"/>
            </a:xfrm>
            <a:custGeom>
              <a:avLst/>
              <a:gdLst/>
              <a:ahLst/>
              <a:rect l="0" t="0" r="r" b="b"/>
              <a:pathLst>
                <a:path fill="none" w="332" h="270">
                  <a:moveTo>
                    <a:pt x="0" y="0"/>
                  </a:moveTo>
                  <a:lnTo>
                    <a:pt x="0" y="26"/>
                  </a:lnTo>
                  <a:lnTo>
                    <a:pt x="35" y="120"/>
                  </a:lnTo>
                  <a:lnTo>
                    <a:pt x="35" y="181"/>
                  </a:lnTo>
                  <a:lnTo>
                    <a:pt x="35" y="213"/>
                  </a:lnTo>
                  <a:lnTo>
                    <a:pt x="35" y="240"/>
                  </a:lnTo>
                  <a:lnTo>
                    <a:pt x="66" y="270"/>
                  </a:lnTo>
                  <a:lnTo>
                    <a:pt x="35" y="270"/>
                  </a:lnTo>
                  <a:lnTo>
                    <a:pt x="66" y="270"/>
                  </a:lnTo>
                  <a:lnTo>
                    <a:pt x="35" y="213"/>
                  </a:lnTo>
                  <a:lnTo>
                    <a:pt x="35" y="181"/>
                  </a:lnTo>
                  <a:lnTo>
                    <a:pt x="35" y="120"/>
                  </a:lnTo>
                  <a:lnTo>
                    <a:pt x="35" y="89"/>
                  </a:lnTo>
                  <a:lnTo>
                    <a:pt x="102" y="57"/>
                  </a:lnTo>
                  <a:lnTo>
                    <a:pt x="133" y="57"/>
                  </a:lnTo>
                  <a:lnTo>
                    <a:pt x="266" y="57"/>
                  </a:lnTo>
                  <a:lnTo>
                    <a:pt x="332" y="5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74760" y="4240080"/>
              <a:ext cx="141480" cy="108360"/>
            </a:xfrm>
            <a:custGeom>
              <a:avLst/>
              <a:gdLst/>
              <a:ahLst/>
              <a:rect l="0" t="0" r="r" b="b"/>
              <a:pathLst>
                <a:path fill="none" w="393" h="301">
                  <a:moveTo>
                    <a:pt x="35" y="120"/>
                  </a:moveTo>
                  <a:lnTo>
                    <a:pt x="331" y="89"/>
                  </a:lnTo>
                  <a:lnTo>
                    <a:pt x="296" y="0"/>
                  </a:lnTo>
                  <a:lnTo>
                    <a:pt x="101" y="26"/>
                  </a:lnTo>
                  <a:lnTo>
                    <a:pt x="0" y="150"/>
                  </a:lnTo>
                  <a:lnTo>
                    <a:pt x="66" y="270"/>
                  </a:lnTo>
                  <a:lnTo>
                    <a:pt x="265" y="301"/>
                  </a:lnTo>
                  <a:lnTo>
                    <a:pt x="393" y="2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87360" y="4240080"/>
              <a:ext cx="128880" cy="108360"/>
            </a:xfrm>
            <a:custGeom>
              <a:avLst/>
              <a:gdLst/>
              <a:ahLst/>
              <a:rect l="0" t="0" r="r" b="b"/>
              <a:pathLst>
                <a:path fill="none" w="358" h="301">
                  <a:moveTo>
                    <a:pt x="0" y="120"/>
                  </a:moveTo>
                  <a:lnTo>
                    <a:pt x="30" y="120"/>
                  </a:lnTo>
                  <a:lnTo>
                    <a:pt x="97" y="120"/>
                  </a:lnTo>
                  <a:lnTo>
                    <a:pt x="163" y="89"/>
                  </a:lnTo>
                  <a:lnTo>
                    <a:pt x="195" y="89"/>
                  </a:lnTo>
                  <a:lnTo>
                    <a:pt x="230" y="89"/>
                  </a:lnTo>
                  <a:lnTo>
                    <a:pt x="296" y="57"/>
                  </a:lnTo>
                  <a:lnTo>
                    <a:pt x="261" y="89"/>
                  </a:lnTo>
                  <a:lnTo>
                    <a:pt x="261" y="57"/>
                  </a:lnTo>
                  <a:lnTo>
                    <a:pt x="261" y="26"/>
                  </a:lnTo>
                  <a:lnTo>
                    <a:pt x="195" y="0"/>
                  </a:lnTo>
                  <a:lnTo>
                    <a:pt x="163" y="0"/>
                  </a:lnTo>
                  <a:lnTo>
                    <a:pt x="97" y="26"/>
                  </a:lnTo>
                  <a:lnTo>
                    <a:pt x="30" y="57"/>
                  </a:lnTo>
                  <a:lnTo>
                    <a:pt x="0" y="89"/>
                  </a:lnTo>
                  <a:lnTo>
                    <a:pt x="0" y="120"/>
                  </a:lnTo>
                  <a:lnTo>
                    <a:pt x="0" y="181"/>
                  </a:lnTo>
                  <a:lnTo>
                    <a:pt x="0" y="212"/>
                  </a:lnTo>
                  <a:lnTo>
                    <a:pt x="30" y="240"/>
                  </a:lnTo>
                  <a:lnTo>
                    <a:pt x="97" y="301"/>
                  </a:lnTo>
                  <a:lnTo>
                    <a:pt x="127" y="301"/>
                  </a:lnTo>
                  <a:lnTo>
                    <a:pt x="163" y="301"/>
                  </a:lnTo>
                  <a:lnTo>
                    <a:pt x="195" y="301"/>
                  </a:lnTo>
                  <a:lnTo>
                    <a:pt x="261" y="270"/>
                  </a:lnTo>
                  <a:lnTo>
                    <a:pt x="327" y="240"/>
                  </a:lnTo>
                  <a:lnTo>
                    <a:pt x="358" y="2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04880" y="4228920"/>
              <a:ext cx="130680" cy="119520"/>
            </a:xfrm>
            <a:custGeom>
              <a:avLst/>
              <a:gdLst/>
              <a:ahLst/>
              <a:rect l="0" t="0" r="r" b="b"/>
              <a:pathLst>
                <a:path fill="none" w="363" h="332">
                  <a:moveTo>
                    <a:pt x="363" y="57"/>
                  </a:moveTo>
                  <a:lnTo>
                    <a:pt x="66" y="0"/>
                  </a:lnTo>
                  <a:lnTo>
                    <a:pt x="35" y="120"/>
                  </a:lnTo>
                  <a:lnTo>
                    <a:pt x="199" y="181"/>
                  </a:lnTo>
                  <a:lnTo>
                    <a:pt x="363" y="243"/>
                  </a:lnTo>
                  <a:lnTo>
                    <a:pt x="199" y="332"/>
                  </a:lnTo>
                  <a:lnTo>
                    <a:pt x="35" y="301"/>
                  </a:lnTo>
                  <a:lnTo>
                    <a:pt x="0" y="2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04880" y="4240080"/>
              <a:ext cx="130680" cy="108360"/>
            </a:xfrm>
            <a:custGeom>
              <a:avLst/>
              <a:gdLst/>
              <a:ahLst/>
              <a:rect l="0" t="0" r="r" b="b"/>
              <a:pathLst>
                <a:path fill="none" w="363" h="301">
                  <a:moveTo>
                    <a:pt x="363" y="26"/>
                  </a:moveTo>
                  <a:lnTo>
                    <a:pt x="297" y="26"/>
                  </a:lnTo>
                  <a:lnTo>
                    <a:pt x="164" y="0"/>
                  </a:lnTo>
                  <a:lnTo>
                    <a:pt x="102" y="0"/>
                  </a:lnTo>
                  <a:lnTo>
                    <a:pt x="35" y="26"/>
                  </a:lnTo>
                  <a:lnTo>
                    <a:pt x="35" y="57"/>
                  </a:lnTo>
                  <a:lnTo>
                    <a:pt x="66" y="120"/>
                  </a:lnTo>
                  <a:lnTo>
                    <a:pt x="102" y="120"/>
                  </a:lnTo>
                  <a:lnTo>
                    <a:pt x="164" y="150"/>
                  </a:lnTo>
                  <a:lnTo>
                    <a:pt x="230" y="181"/>
                  </a:lnTo>
                  <a:lnTo>
                    <a:pt x="265" y="181"/>
                  </a:lnTo>
                  <a:lnTo>
                    <a:pt x="332" y="212"/>
                  </a:lnTo>
                  <a:lnTo>
                    <a:pt x="332" y="240"/>
                  </a:lnTo>
                  <a:lnTo>
                    <a:pt x="297" y="270"/>
                  </a:lnTo>
                  <a:lnTo>
                    <a:pt x="230" y="301"/>
                  </a:lnTo>
                  <a:lnTo>
                    <a:pt x="164" y="301"/>
                  </a:lnTo>
                  <a:lnTo>
                    <a:pt x="133" y="301"/>
                  </a:lnTo>
                  <a:lnTo>
                    <a:pt x="102" y="301"/>
                  </a:lnTo>
                  <a:lnTo>
                    <a:pt x="35" y="240"/>
                  </a:lnTo>
                  <a:lnTo>
                    <a:pt x="0" y="21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70120" y="4184640"/>
              <a:ext cx="106560" cy="186120"/>
            </a:xfrm>
            <a:custGeom>
              <a:avLst/>
              <a:gdLst/>
              <a:ahLst/>
              <a:rect l="0" t="0" r="r" b="b"/>
              <a:pathLst>
                <a:path fill="none" w="296" h="517">
                  <a:moveTo>
                    <a:pt x="0" y="0"/>
                  </a:moveTo>
                  <a:lnTo>
                    <a:pt x="0" y="456"/>
                  </a:lnTo>
                  <a:lnTo>
                    <a:pt x="0" y="487"/>
                  </a:lnTo>
                  <a:lnTo>
                    <a:pt x="0" y="336"/>
                  </a:lnTo>
                  <a:lnTo>
                    <a:pt x="66" y="243"/>
                  </a:lnTo>
                  <a:lnTo>
                    <a:pt x="265" y="243"/>
                  </a:lnTo>
                  <a:lnTo>
                    <a:pt x="296" y="394"/>
                  </a:lnTo>
                  <a:lnTo>
                    <a:pt x="296" y="517"/>
                  </a:lnTo>
                  <a:lnTo>
                    <a:pt x="296" y="48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70120" y="4184640"/>
              <a:ext cx="106560" cy="174960"/>
            </a:xfrm>
            <a:custGeom>
              <a:avLst/>
              <a:gdLst/>
              <a:ahLst/>
              <a:rect l="0" t="0" r="r" b="b"/>
              <a:pathLst>
                <a:path fill="none" w="296" h="486">
                  <a:moveTo>
                    <a:pt x="0" y="0"/>
                  </a:moveTo>
                  <a:lnTo>
                    <a:pt x="0" y="61"/>
                  </a:lnTo>
                  <a:lnTo>
                    <a:pt x="0" y="154"/>
                  </a:lnTo>
                  <a:lnTo>
                    <a:pt x="0" y="242"/>
                  </a:lnTo>
                  <a:lnTo>
                    <a:pt x="0" y="336"/>
                  </a:lnTo>
                  <a:lnTo>
                    <a:pt x="0" y="393"/>
                  </a:lnTo>
                  <a:lnTo>
                    <a:pt x="0" y="424"/>
                  </a:lnTo>
                  <a:lnTo>
                    <a:pt x="0" y="455"/>
                  </a:lnTo>
                  <a:lnTo>
                    <a:pt x="0" y="486"/>
                  </a:lnTo>
                  <a:lnTo>
                    <a:pt x="0" y="424"/>
                  </a:lnTo>
                  <a:lnTo>
                    <a:pt x="0" y="393"/>
                  </a:lnTo>
                  <a:lnTo>
                    <a:pt x="35" y="305"/>
                  </a:lnTo>
                  <a:lnTo>
                    <a:pt x="35" y="274"/>
                  </a:lnTo>
                  <a:lnTo>
                    <a:pt x="132" y="242"/>
                  </a:lnTo>
                  <a:lnTo>
                    <a:pt x="164" y="242"/>
                  </a:lnTo>
                  <a:lnTo>
                    <a:pt x="199" y="242"/>
                  </a:lnTo>
                  <a:lnTo>
                    <a:pt x="230" y="274"/>
                  </a:lnTo>
                  <a:lnTo>
                    <a:pt x="265" y="305"/>
                  </a:lnTo>
                  <a:lnTo>
                    <a:pt x="265" y="336"/>
                  </a:lnTo>
                  <a:lnTo>
                    <a:pt x="296" y="367"/>
                  </a:lnTo>
                  <a:lnTo>
                    <a:pt x="296" y="424"/>
                  </a:lnTo>
                  <a:lnTo>
                    <a:pt x="296" y="455"/>
                  </a:lnTo>
                  <a:lnTo>
                    <a:pt x="296" y="4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24200" y="4249800"/>
              <a:ext cx="106560" cy="109800"/>
            </a:xfrm>
            <a:custGeom>
              <a:avLst/>
              <a:gdLst/>
              <a:ahLst/>
              <a:rect l="0" t="0" r="r" b="b"/>
              <a:pathLst>
                <a:path fill="none" w="296" h="305">
                  <a:moveTo>
                    <a:pt x="164" y="30"/>
                  </a:moveTo>
                  <a:lnTo>
                    <a:pt x="30" y="30"/>
                  </a:lnTo>
                  <a:lnTo>
                    <a:pt x="0" y="186"/>
                  </a:lnTo>
                  <a:lnTo>
                    <a:pt x="132" y="305"/>
                  </a:lnTo>
                  <a:lnTo>
                    <a:pt x="296" y="243"/>
                  </a:lnTo>
                  <a:lnTo>
                    <a:pt x="261" y="61"/>
                  </a:lnTo>
                  <a:lnTo>
                    <a:pt x="16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24200" y="4249800"/>
              <a:ext cx="106560" cy="98640"/>
            </a:xfrm>
            <a:custGeom>
              <a:avLst/>
              <a:gdLst/>
              <a:ahLst/>
              <a:rect l="0" t="0" r="r" b="b"/>
              <a:pathLst>
                <a:path fill="none" w="296" h="274">
                  <a:moveTo>
                    <a:pt x="164" y="30"/>
                  </a:moveTo>
                  <a:lnTo>
                    <a:pt x="132" y="30"/>
                  </a:lnTo>
                  <a:lnTo>
                    <a:pt x="97" y="30"/>
                  </a:lnTo>
                  <a:lnTo>
                    <a:pt x="66" y="61"/>
                  </a:lnTo>
                  <a:lnTo>
                    <a:pt x="0" y="123"/>
                  </a:lnTo>
                  <a:lnTo>
                    <a:pt x="0" y="155"/>
                  </a:lnTo>
                  <a:lnTo>
                    <a:pt x="30" y="212"/>
                  </a:lnTo>
                  <a:lnTo>
                    <a:pt x="66" y="243"/>
                  </a:lnTo>
                  <a:lnTo>
                    <a:pt x="97" y="274"/>
                  </a:lnTo>
                  <a:lnTo>
                    <a:pt x="132" y="274"/>
                  </a:lnTo>
                  <a:lnTo>
                    <a:pt x="230" y="274"/>
                  </a:lnTo>
                  <a:lnTo>
                    <a:pt x="261" y="274"/>
                  </a:lnTo>
                  <a:lnTo>
                    <a:pt x="296" y="212"/>
                  </a:lnTo>
                  <a:lnTo>
                    <a:pt x="296" y="155"/>
                  </a:lnTo>
                  <a:lnTo>
                    <a:pt x="296" y="123"/>
                  </a:lnTo>
                  <a:lnTo>
                    <a:pt x="230" y="30"/>
                  </a:lnTo>
                  <a:lnTo>
                    <a:pt x="16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76480" y="4249800"/>
              <a:ext cx="119520" cy="98640"/>
            </a:xfrm>
            <a:custGeom>
              <a:avLst/>
              <a:gdLst/>
              <a:ahLst/>
              <a:rect l="0" t="0" r="r" b="b"/>
              <a:pathLst>
                <a:path fill="none" w="332" h="274">
                  <a:moveTo>
                    <a:pt x="0" y="30"/>
                  </a:moveTo>
                  <a:lnTo>
                    <a:pt x="35" y="274"/>
                  </a:lnTo>
                  <a:lnTo>
                    <a:pt x="230" y="274"/>
                  </a:lnTo>
                  <a:lnTo>
                    <a:pt x="332" y="155"/>
                  </a:lnTo>
                  <a:lnTo>
                    <a:pt x="332" y="0"/>
                  </a:lnTo>
                  <a:lnTo>
                    <a:pt x="332" y="2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76480" y="4260960"/>
              <a:ext cx="119520" cy="87840"/>
            </a:xfrm>
            <a:custGeom>
              <a:avLst/>
              <a:gdLst/>
              <a:ahLst/>
              <a:rect l="0" t="0" r="r" b="b"/>
              <a:pathLst>
                <a:path fill="none" w="332" h="244">
                  <a:moveTo>
                    <a:pt x="0" y="0"/>
                  </a:moveTo>
                  <a:lnTo>
                    <a:pt x="0" y="62"/>
                  </a:lnTo>
                  <a:lnTo>
                    <a:pt x="35" y="155"/>
                  </a:lnTo>
                  <a:lnTo>
                    <a:pt x="66" y="213"/>
                  </a:lnTo>
                  <a:lnTo>
                    <a:pt x="102" y="244"/>
                  </a:lnTo>
                  <a:lnTo>
                    <a:pt x="133" y="244"/>
                  </a:lnTo>
                  <a:lnTo>
                    <a:pt x="199" y="244"/>
                  </a:lnTo>
                  <a:lnTo>
                    <a:pt x="266" y="213"/>
                  </a:lnTo>
                  <a:lnTo>
                    <a:pt x="266" y="181"/>
                  </a:lnTo>
                  <a:lnTo>
                    <a:pt x="297" y="155"/>
                  </a:lnTo>
                  <a:lnTo>
                    <a:pt x="332" y="93"/>
                  </a:lnTo>
                  <a:lnTo>
                    <a:pt x="332" y="30"/>
                  </a:lnTo>
                  <a:lnTo>
                    <a:pt x="332" y="62"/>
                  </a:lnTo>
                  <a:lnTo>
                    <a:pt x="332" y="93"/>
                  </a:lnTo>
                  <a:lnTo>
                    <a:pt x="332" y="155"/>
                  </a:lnTo>
                  <a:lnTo>
                    <a:pt x="332" y="213"/>
                  </a:lnTo>
                  <a:lnTo>
                    <a:pt x="332" y="24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4320" y="4184640"/>
              <a:ext cx="0" cy="163440"/>
            </a:xfrm>
            <a:custGeom>
              <a:avLst/>
              <a:gdLst/>
              <a:ahLst/>
              <a:rect l="0" t="0" r="r" b="b"/>
              <a:pathLst>
                <a:path fill="none" w="0" h="454">
                  <a:moveTo>
                    <a:pt x="0" y="0"/>
                  </a:moveTo>
                  <a:lnTo>
                    <a:pt x="0" y="304"/>
                  </a:lnTo>
                  <a:lnTo>
                    <a:pt x="0" y="4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54320" y="4184640"/>
              <a:ext cx="0" cy="163440"/>
            </a:xfrm>
            <a:custGeom>
              <a:avLst/>
              <a:gdLst/>
              <a:ahLst/>
              <a:rect l="0" t="0" r="r" b="b"/>
              <a:pathLst>
                <a:path fill="none" w="0" h="454">
                  <a:moveTo>
                    <a:pt x="0" y="0"/>
                  </a:moveTo>
                  <a:lnTo>
                    <a:pt x="0" y="92"/>
                  </a:lnTo>
                  <a:lnTo>
                    <a:pt x="0" y="211"/>
                  </a:lnTo>
                  <a:lnTo>
                    <a:pt x="0" y="335"/>
                  </a:lnTo>
                  <a:lnTo>
                    <a:pt x="0" y="423"/>
                  </a:lnTo>
                  <a:lnTo>
                    <a:pt x="0" y="4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01840" y="4173480"/>
              <a:ext cx="152640" cy="186120"/>
            </a:xfrm>
            <a:custGeom>
              <a:avLst/>
              <a:gdLst/>
              <a:ahLst/>
              <a:rect l="0" t="0" r="r" b="b"/>
              <a:pathLst>
                <a:path fill="none" w="424" h="517">
                  <a:moveTo>
                    <a:pt x="358" y="274"/>
                  </a:moveTo>
                  <a:lnTo>
                    <a:pt x="97" y="243"/>
                  </a:lnTo>
                  <a:lnTo>
                    <a:pt x="0" y="398"/>
                  </a:lnTo>
                  <a:lnTo>
                    <a:pt x="194" y="517"/>
                  </a:lnTo>
                  <a:lnTo>
                    <a:pt x="358" y="456"/>
                  </a:lnTo>
                  <a:lnTo>
                    <a:pt x="358" y="305"/>
                  </a:lnTo>
                  <a:lnTo>
                    <a:pt x="358" y="0"/>
                  </a:lnTo>
                  <a:lnTo>
                    <a:pt x="327" y="61"/>
                  </a:lnTo>
                  <a:lnTo>
                    <a:pt x="327" y="367"/>
                  </a:lnTo>
                  <a:lnTo>
                    <a:pt x="424" y="48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13000" y="4184640"/>
              <a:ext cx="141480" cy="163800"/>
            </a:xfrm>
            <a:custGeom>
              <a:avLst/>
              <a:gdLst/>
              <a:ahLst/>
              <a:rect l="0" t="0" r="r" b="b"/>
              <a:pathLst>
                <a:path fill="none" w="393" h="455">
                  <a:moveTo>
                    <a:pt x="327" y="243"/>
                  </a:moveTo>
                  <a:lnTo>
                    <a:pt x="261" y="243"/>
                  </a:lnTo>
                  <a:lnTo>
                    <a:pt x="163" y="243"/>
                  </a:lnTo>
                  <a:lnTo>
                    <a:pt x="97" y="243"/>
                  </a:lnTo>
                  <a:lnTo>
                    <a:pt x="66" y="274"/>
                  </a:lnTo>
                  <a:lnTo>
                    <a:pt x="30" y="305"/>
                  </a:lnTo>
                  <a:lnTo>
                    <a:pt x="0" y="336"/>
                  </a:lnTo>
                  <a:lnTo>
                    <a:pt x="0" y="367"/>
                  </a:lnTo>
                  <a:lnTo>
                    <a:pt x="30" y="393"/>
                  </a:lnTo>
                  <a:lnTo>
                    <a:pt x="66" y="424"/>
                  </a:lnTo>
                  <a:lnTo>
                    <a:pt x="97" y="455"/>
                  </a:lnTo>
                  <a:lnTo>
                    <a:pt x="132" y="455"/>
                  </a:lnTo>
                  <a:lnTo>
                    <a:pt x="163" y="455"/>
                  </a:lnTo>
                  <a:lnTo>
                    <a:pt x="230" y="455"/>
                  </a:lnTo>
                  <a:lnTo>
                    <a:pt x="296" y="424"/>
                  </a:lnTo>
                  <a:lnTo>
                    <a:pt x="327" y="393"/>
                  </a:lnTo>
                  <a:lnTo>
                    <a:pt x="327" y="367"/>
                  </a:lnTo>
                  <a:lnTo>
                    <a:pt x="327" y="336"/>
                  </a:lnTo>
                  <a:lnTo>
                    <a:pt x="327" y="274"/>
                  </a:lnTo>
                  <a:lnTo>
                    <a:pt x="327" y="211"/>
                  </a:lnTo>
                  <a:lnTo>
                    <a:pt x="327" y="154"/>
                  </a:lnTo>
                  <a:lnTo>
                    <a:pt x="327" y="123"/>
                  </a:lnTo>
                  <a:lnTo>
                    <a:pt x="327" y="92"/>
                  </a:lnTo>
                  <a:lnTo>
                    <a:pt x="327" y="30"/>
                  </a:lnTo>
                  <a:lnTo>
                    <a:pt x="327" y="0"/>
                  </a:lnTo>
                  <a:lnTo>
                    <a:pt x="296" y="61"/>
                  </a:lnTo>
                  <a:lnTo>
                    <a:pt x="296" y="92"/>
                  </a:lnTo>
                  <a:lnTo>
                    <a:pt x="296" y="154"/>
                  </a:lnTo>
                  <a:lnTo>
                    <a:pt x="296" y="180"/>
                  </a:lnTo>
                  <a:lnTo>
                    <a:pt x="296" y="211"/>
                  </a:lnTo>
                  <a:lnTo>
                    <a:pt x="296" y="274"/>
                  </a:lnTo>
                  <a:lnTo>
                    <a:pt x="327" y="336"/>
                  </a:lnTo>
                  <a:lnTo>
                    <a:pt x="362" y="424"/>
                  </a:lnTo>
                  <a:lnTo>
                    <a:pt x="393" y="4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89040" y="4249800"/>
              <a:ext cx="130680" cy="98640"/>
            </a:xfrm>
            <a:custGeom>
              <a:avLst/>
              <a:gdLst/>
              <a:ahLst/>
              <a:rect l="0" t="0" r="r" b="b"/>
              <a:pathLst>
                <a:path fill="none" w="363" h="274">
                  <a:moveTo>
                    <a:pt x="66" y="123"/>
                  </a:moveTo>
                  <a:lnTo>
                    <a:pt x="332" y="123"/>
                  </a:lnTo>
                  <a:lnTo>
                    <a:pt x="230" y="0"/>
                  </a:lnTo>
                  <a:lnTo>
                    <a:pt x="35" y="61"/>
                  </a:lnTo>
                  <a:lnTo>
                    <a:pt x="0" y="212"/>
                  </a:lnTo>
                  <a:lnTo>
                    <a:pt x="230" y="274"/>
                  </a:lnTo>
                  <a:lnTo>
                    <a:pt x="363" y="243"/>
                  </a:lnTo>
                  <a:lnTo>
                    <a:pt x="332" y="1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02000" y="4260960"/>
              <a:ext cx="117720" cy="87840"/>
            </a:xfrm>
            <a:custGeom>
              <a:avLst/>
              <a:gdLst/>
              <a:ahLst/>
              <a:rect l="0" t="0" r="r" b="b"/>
              <a:pathLst>
                <a:path fill="none" w="327" h="244">
                  <a:moveTo>
                    <a:pt x="30" y="93"/>
                  </a:moveTo>
                  <a:lnTo>
                    <a:pt x="66" y="93"/>
                  </a:lnTo>
                  <a:lnTo>
                    <a:pt x="97" y="93"/>
                  </a:lnTo>
                  <a:lnTo>
                    <a:pt x="164" y="93"/>
                  </a:lnTo>
                  <a:lnTo>
                    <a:pt x="195" y="93"/>
                  </a:lnTo>
                  <a:lnTo>
                    <a:pt x="261" y="62"/>
                  </a:lnTo>
                  <a:lnTo>
                    <a:pt x="261" y="30"/>
                  </a:lnTo>
                  <a:lnTo>
                    <a:pt x="230" y="0"/>
                  </a:lnTo>
                  <a:lnTo>
                    <a:pt x="195" y="0"/>
                  </a:lnTo>
                  <a:lnTo>
                    <a:pt x="97" y="0"/>
                  </a:lnTo>
                  <a:lnTo>
                    <a:pt x="30" y="30"/>
                  </a:lnTo>
                  <a:lnTo>
                    <a:pt x="0" y="62"/>
                  </a:lnTo>
                  <a:lnTo>
                    <a:pt x="0" y="93"/>
                  </a:lnTo>
                  <a:lnTo>
                    <a:pt x="0" y="155"/>
                  </a:lnTo>
                  <a:lnTo>
                    <a:pt x="30" y="181"/>
                  </a:lnTo>
                  <a:lnTo>
                    <a:pt x="66" y="213"/>
                  </a:lnTo>
                  <a:lnTo>
                    <a:pt x="97" y="213"/>
                  </a:lnTo>
                  <a:lnTo>
                    <a:pt x="164" y="244"/>
                  </a:lnTo>
                  <a:lnTo>
                    <a:pt x="230" y="244"/>
                  </a:lnTo>
                  <a:lnTo>
                    <a:pt x="261" y="244"/>
                  </a:lnTo>
                  <a:lnTo>
                    <a:pt x="327" y="213"/>
                  </a:lnTo>
                  <a:lnTo>
                    <a:pt x="296" y="213"/>
                  </a:lnTo>
                  <a:lnTo>
                    <a:pt x="296" y="1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54280" y="4260960"/>
              <a:ext cx="119520" cy="98640"/>
            </a:xfrm>
            <a:custGeom>
              <a:avLst/>
              <a:gdLst/>
              <a:ahLst/>
              <a:rect l="0" t="0" r="r" b="b"/>
              <a:pathLst>
                <a:path fill="none" w="332" h="274">
                  <a:moveTo>
                    <a:pt x="0" y="0"/>
                  </a:moveTo>
                  <a:lnTo>
                    <a:pt x="35" y="155"/>
                  </a:lnTo>
                  <a:lnTo>
                    <a:pt x="35" y="212"/>
                  </a:lnTo>
                  <a:lnTo>
                    <a:pt x="35" y="274"/>
                  </a:lnTo>
                  <a:lnTo>
                    <a:pt x="35" y="30"/>
                  </a:lnTo>
                  <a:lnTo>
                    <a:pt x="102" y="30"/>
                  </a:lnTo>
                  <a:lnTo>
                    <a:pt x="332" y="0"/>
                  </a:lnTo>
                  <a:lnTo>
                    <a:pt x="297" y="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54280" y="4260960"/>
              <a:ext cx="106560" cy="87840"/>
            </a:xfrm>
            <a:custGeom>
              <a:avLst/>
              <a:gdLst/>
              <a:ahLst/>
              <a:rect l="0" t="0" r="r" b="b"/>
              <a:pathLst>
                <a:path fill="none" w="296" h="244">
                  <a:moveTo>
                    <a:pt x="0" y="0"/>
                  </a:moveTo>
                  <a:lnTo>
                    <a:pt x="0" y="30"/>
                  </a:lnTo>
                  <a:lnTo>
                    <a:pt x="35" y="124"/>
                  </a:lnTo>
                  <a:lnTo>
                    <a:pt x="35" y="155"/>
                  </a:lnTo>
                  <a:lnTo>
                    <a:pt x="35" y="181"/>
                  </a:lnTo>
                  <a:lnTo>
                    <a:pt x="35" y="213"/>
                  </a:lnTo>
                  <a:lnTo>
                    <a:pt x="35" y="244"/>
                  </a:lnTo>
                  <a:lnTo>
                    <a:pt x="35" y="213"/>
                  </a:lnTo>
                  <a:lnTo>
                    <a:pt x="35" y="181"/>
                  </a:lnTo>
                  <a:lnTo>
                    <a:pt x="35" y="155"/>
                  </a:lnTo>
                  <a:lnTo>
                    <a:pt x="35" y="124"/>
                  </a:lnTo>
                  <a:lnTo>
                    <a:pt x="35" y="93"/>
                  </a:lnTo>
                  <a:lnTo>
                    <a:pt x="35" y="62"/>
                  </a:lnTo>
                  <a:lnTo>
                    <a:pt x="66" y="30"/>
                  </a:lnTo>
                  <a:lnTo>
                    <a:pt x="101" y="30"/>
                  </a:lnTo>
                  <a:lnTo>
                    <a:pt x="168" y="30"/>
                  </a:lnTo>
                  <a:lnTo>
                    <a:pt x="199" y="30"/>
                  </a:lnTo>
                  <a:lnTo>
                    <a:pt x="230" y="30"/>
                  </a:lnTo>
                  <a:lnTo>
                    <a:pt x="265" y="30"/>
                  </a:lnTo>
                  <a:lnTo>
                    <a:pt x="296" y="30"/>
                  </a:lnTo>
                  <a:lnTo>
                    <a:pt x="296" y="0"/>
                  </a:lnTo>
                  <a:lnTo>
                    <a:pt x="296" y="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4387680" y="4164120"/>
            <a:ext cx="165600" cy="184680"/>
          </a:xfrm>
          <a:custGeom>
            <a:avLst/>
            <a:gdLst/>
            <a:ahLst/>
            <a:rect l="0" t="0" r="r" b="b"/>
            <a:pathLst>
              <a:path fill="none" w="460" h="513">
                <a:moveTo>
                  <a:pt x="101" y="119"/>
                </a:moveTo>
                <a:lnTo>
                  <a:pt x="164" y="26"/>
                </a:lnTo>
                <a:lnTo>
                  <a:pt x="296" y="0"/>
                </a:lnTo>
                <a:lnTo>
                  <a:pt x="394" y="150"/>
                </a:lnTo>
                <a:lnTo>
                  <a:pt x="265" y="269"/>
                </a:lnTo>
                <a:lnTo>
                  <a:pt x="133" y="269"/>
                </a:lnTo>
                <a:lnTo>
                  <a:pt x="363" y="239"/>
                </a:lnTo>
                <a:lnTo>
                  <a:pt x="460" y="451"/>
                </a:lnTo>
                <a:lnTo>
                  <a:pt x="296" y="513"/>
                </a:lnTo>
                <a:lnTo>
                  <a:pt x="101" y="482"/>
                </a:lnTo>
                <a:lnTo>
                  <a:pt x="0" y="42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387680" y="4173480"/>
            <a:ext cx="154440" cy="174960"/>
          </a:xfrm>
          <a:custGeom>
            <a:avLst/>
            <a:gdLst/>
            <a:ahLst/>
            <a:rect l="0" t="0" r="r" b="b"/>
            <a:pathLst>
              <a:path fill="none" w="429" h="486">
                <a:moveTo>
                  <a:pt x="101" y="92"/>
                </a:moveTo>
                <a:lnTo>
                  <a:pt x="133" y="61"/>
                </a:lnTo>
                <a:lnTo>
                  <a:pt x="164" y="30"/>
                </a:lnTo>
                <a:lnTo>
                  <a:pt x="199" y="0"/>
                </a:lnTo>
                <a:lnTo>
                  <a:pt x="230" y="0"/>
                </a:lnTo>
                <a:lnTo>
                  <a:pt x="265" y="0"/>
                </a:lnTo>
                <a:lnTo>
                  <a:pt x="296" y="0"/>
                </a:lnTo>
                <a:lnTo>
                  <a:pt x="332" y="61"/>
                </a:lnTo>
                <a:lnTo>
                  <a:pt x="363" y="92"/>
                </a:lnTo>
                <a:lnTo>
                  <a:pt x="363" y="123"/>
                </a:lnTo>
                <a:lnTo>
                  <a:pt x="363" y="154"/>
                </a:lnTo>
                <a:lnTo>
                  <a:pt x="332" y="185"/>
                </a:lnTo>
                <a:lnTo>
                  <a:pt x="296" y="211"/>
                </a:lnTo>
                <a:lnTo>
                  <a:pt x="230" y="242"/>
                </a:lnTo>
                <a:lnTo>
                  <a:pt x="199" y="242"/>
                </a:lnTo>
                <a:lnTo>
                  <a:pt x="164" y="242"/>
                </a:lnTo>
                <a:lnTo>
                  <a:pt x="230" y="211"/>
                </a:lnTo>
                <a:lnTo>
                  <a:pt x="265" y="211"/>
                </a:lnTo>
                <a:lnTo>
                  <a:pt x="296" y="211"/>
                </a:lnTo>
                <a:lnTo>
                  <a:pt x="332" y="211"/>
                </a:lnTo>
                <a:lnTo>
                  <a:pt x="363" y="242"/>
                </a:lnTo>
                <a:lnTo>
                  <a:pt x="394" y="274"/>
                </a:lnTo>
                <a:lnTo>
                  <a:pt x="429" y="305"/>
                </a:lnTo>
                <a:lnTo>
                  <a:pt x="429" y="336"/>
                </a:lnTo>
                <a:lnTo>
                  <a:pt x="429" y="397"/>
                </a:lnTo>
                <a:lnTo>
                  <a:pt x="363" y="455"/>
                </a:lnTo>
                <a:lnTo>
                  <a:pt x="332" y="486"/>
                </a:lnTo>
                <a:lnTo>
                  <a:pt x="265" y="486"/>
                </a:lnTo>
                <a:lnTo>
                  <a:pt x="199" y="486"/>
                </a:lnTo>
                <a:lnTo>
                  <a:pt x="164" y="486"/>
                </a:lnTo>
                <a:lnTo>
                  <a:pt x="66" y="424"/>
                </a:lnTo>
                <a:lnTo>
                  <a:pt x="0" y="39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602320" y="4173480"/>
            <a:ext cx="154440" cy="174960"/>
          </a:xfrm>
          <a:custGeom>
            <a:avLst/>
            <a:gdLst/>
            <a:ahLst/>
            <a:rect l="0" t="0" r="r" b="b"/>
            <a:pathLst>
              <a:path fill="none" w="429" h="486">
                <a:moveTo>
                  <a:pt x="363" y="30"/>
                </a:moveTo>
                <a:lnTo>
                  <a:pt x="133" y="0"/>
                </a:lnTo>
                <a:lnTo>
                  <a:pt x="0" y="30"/>
                </a:lnTo>
                <a:lnTo>
                  <a:pt x="0" y="92"/>
                </a:lnTo>
                <a:lnTo>
                  <a:pt x="0" y="211"/>
                </a:lnTo>
                <a:lnTo>
                  <a:pt x="199" y="154"/>
                </a:lnTo>
                <a:lnTo>
                  <a:pt x="363" y="185"/>
                </a:lnTo>
                <a:lnTo>
                  <a:pt x="429" y="305"/>
                </a:lnTo>
                <a:lnTo>
                  <a:pt x="363" y="455"/>
                </a:lnTo>
                <a:lnTo>
                  <a:pt x="168" y="486"/>
                </a:lnTo>
                <a:lnTo>
                  <a:pt x="0" y="455"/>
                </a:lnTo>
                <a:lnTo>
                  <a:pt x="0" y="36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02320" y="4173480"/>
            <a:ext cx="154440" cy="174960"/>
          </a:xfrm>
          <a:custGeom>
            <a:avLst/>
            <a:gdLst/>
            <a:ahLst/>
            <a:rect l="0" t="0" r="r" b="b"/>
            <a:pathLst>
              <a:path fill="none" w="429" h="486">
                <a:moveTo>
                  <a:pt x="363" y="30"/>
                </a:moveTo>
                <a:lnTo>
                  <a:pt x="332" y="30"/>
                </a:lnTo>
                <a:lnTo>
                  <a:pt x="199" y="0"/>
                </a:lnTo>
                <a:lnTo>
                  <a:pt x="133" y="0"/>
                </a:lnTo>
                <a:lnTo>
                  <a:pt x="101" y="0"/>
                </a:lnTo>
                <a:lnTo>
                  <a:pt x="66" y="0"/>
                </a:lnTo>
                <a:lnTo>
                  <a:pt x="35" y="30"/>
                </a:lnTo>
                <a:lnTo>
                  <a:pt x="0" y="61"/>
                </a:lnTo>
                <a:lnTo>
                  <a:pt x="0" y="92"/>
                </a:lnTo>
                <a:lnTo>
                  <a:pt x="0" y="123"/>
                </a:lnTo>
                <a:lnTo>
                  <a:pt x="0" y="154"/>
                </a:lnTo>
                <a:lnTo>
                  <a:pt x="0" y="185"/>
                </a:lnTo>
                <a:lnTo>
                  <a:pt x="35" y="185"/>
                </a:lnTo>
                <a:lnTo>
                  <a:pt x="101" y="185"/>
                </a:lnTo>
                <a:lnTo>
                  <a:pt x="133" y="185"/>
                </a:lnTo>
                <a:lnTo>
                  <a:pt x="230" y="185"/>
                </a:lnTo>
                <a:lnTo>
                  <a:pt x="265" y="185"/>
                </a:lnTo>
                <a:lnTo>
                  <a:pt x="332" y="185"/>
                </a:lnTo>
                <a:lnTo>
                  <a:pt x="398" y="211"/>
                </a:lnTo>
                <a:lnTo>
                  <a:pt x="398" y="242"/>
                </a:lnTo>
                <a:lnTo>
                  <a:pt x="429" y="274"/>
                </a:lnTo>
                <a:lnTo>
                  <a:pt x="429" y="336"/>
                </a:lnTo>
                <a:lnTo>
                  <a:pt x="398" y="397"/>
                </a:lnTo>
                <a:lnTo>
                  <a:pt x="398" y="424"/>
                </a:lnTo>
                <a:lnTo>
                  <a:pt x="296" y="486"/>
                </a:lnTo>
                <a:lnTo>
                  <a:pt x="265" y="486"/>
                </a:lnTo>
                <a:lnTo>
                  <a:pt x="230" y="486"/>
                </a:lnTo>
                <a:lnTo>
                  <a:pt x="133" y="486"/>
                </a:lnTo>
                <a:lnTo>
                  <a:pt x="101" y="486"/>
                </a:lnTo>
                <a:lnTo>
                  <a:pt x="35" y="455"/>
                </a:lnTo>
                <a:lnTo>
                  <a:pt x="0" y="424"/>
                </a:lnTo>
                <a:lnTo>
                  <a:pt x="0" y="397"/>
                </a:lnTo>
                <a:lnTo>
                  <a:pt x="0" y="36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60280" y="736560"/>
            <a:ext cx="82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81160" y="177840"/>
            <a:ext cx="521028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PROB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last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800600" y="6827760"/>
            <a:ext cx="149868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urn o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433600" y="2232000"/>
            <a:ext cx="271296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idents, family, travel or work problem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470320" y="2413080"/>
            <a:ext cx="339876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weather, exams, worry, apathy, loss of interest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2219400"/>
            <a:ext cx="1801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OTHER PROBLEM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18960" y="3193920"/>
            <a:ext cx="41544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e number of days of LOST training (no training at all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18960" y="3379680"/>
            <a:ext cx="53006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/or the number of days of REDUCED training (lighter training than normal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18960" y="3565440"/>
            <a:ext cx="15778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n example is show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17640" y="609480"/>
            <a:ext cx="6958080" cy="18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41200" y="355680"/>
            <a:ext cx="44640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 importa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91960" y="1077840"/>
            <a:ext cx="35020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thletes prepare for an important competition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91960" y="1278000"/>
            <a:ext cx="38876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training usually consists of the following four phas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057400" y="1582560"/>
            <a:ext cx="23860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-up (or base or conditio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2057400" y="1828800"/>
            <a:ext cx="2935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mpetition (or speciality or peak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057400" y="2075040"/>
            <a:ext cx="37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057400" y="2320920"/>
            <a:ext cx="24670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ompetition (or out-of-seas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91960" y="2719440"/>
            <a:ext cx="33051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e duration of each phase in your program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91960" y="2919240"/>
            <a:ext cx="3025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ing no injury, illness or other problem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91960" y="3206880"/>
            <a:ext cx="449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3960" y="3394080"/>
            <a:ext cx="5721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use more than four phases, please combine them into these four as best you ca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3960" y="3581280"/>
            <a:ext cx="45435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use less than four phases, cross out those not in your progra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3960" y="3781440"/>
            <a:ext cx="38368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r training consists of several cycles of these phases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3960" y="3967200"/>
            <a:ext cx="2755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the question for only one cycl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7316640"/>
            <a:ext cx="57513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aining questions are about your training in each 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7577280"/>
            <a:ext cx="43610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lored insert to help you answer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976480" y="4379760"/>
            <a:ext cx="604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-up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481120" y="4708440"/>
            <a:ext cx="11001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mpeti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5080" y="5024520"/>
            <a:ext cx="37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r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416320" y="535320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ompeti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670200" y="4319640"/>
            <a:ext cx="444600" cy="257040"/>
            <a:chOff x="3670200" y="4319640"/>
            <a:chExt cx="444600" cy="257040"/>
          </a:xfrm>
        </p:grpSpPr>
        <p:sp>
          <p:nvSpPr>
            <p:cNvPr id="479" name=""/>
            <p:cNvSpPr/>
            <p:nvPr/>
          </p:nvSpPr>
          <p:spPr>
            <a:xfrm>
              <a:off x="3670200" y="4319640"/>
              <a:ext cx="4446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72000" y="4565520"/>
              <a:ext cx="4302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 txBox="1"/>
          <p:nvPr/>
        </p:nvSpPr>
        <p:spPr>
          <a:xfrm>
            <a:off x="4203720" y="4392720"/>
            <a:ext cx="4129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670200" y="4648320"/>
            <a:ext cx="444600" cy="246240"/>
            <a:chOff x="3670200" y="4648320"/>
            <a:chExt cx="444600" cy="246240"/>
          </a:xfrm>
        </p:grpSpPr>
        <p:sp>
          <p:nvSpPr>
            <p:cNvPr id="483" name=""/>
            <p:cNvSpPr/>
            <p:nvPr/>
          </p:nvSpPr>
          <p:spPr>
            <a:xfrm>
              <a:off x="3670200" y="4648320"/>
              <a:ext cx="444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72000" y="4883040"/>
              <a:ext cx="4302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 txBox="1"/>
          <p:nvPr/>
        </p:nvSpPr>
        <p:spPr>
          <a:xfrm>
            <a:off x="4203720" y="4708440"/>
            <a:ext cx="4129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70200" y="4964040"/>
            <a:ext cx="44460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672000" y="5211720"/>
            <a:ext cx="4302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191120" y="5037120"/>
            <a:ext cx="692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670200" y="5292720"/>
            <a:ext cx="444600" cy="246240"/>
            <a:chOff x="3670200" y="5292720"/>
            <a:chExt cx="444600" cy="246240"/>
          </a:xfrm>
        </p:grpSpPr>
        <p:sp>
          <p:nvSpPr>
            <p:cNvPr id="490" name=""/>
            <p:cNvSpPr/>
            <p:nvPr/>
          </p:nvSpPr>
          <p:spPr>
            <a:xfrm>
              <a:off x="3670200" y="5292720"/>
              <a:ext cx="444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72000" y="5527800"/>
              <a:ext cx="4302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 txBox="1"/>
          <p:nvPr/>
        </p:nvSpPr>
        <p:spPr>
          <a:xfrm>
            <a:off x="4203720" y="5353200"/>
            <a:ext cx="4129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66760" y="885960"/>
            <a:ext cx="82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959360" y="4962600"/>
            <a:ext cx="444600" cy="258840"/>
            <a:chOff x="4959360" y="4962600"/>
            <a:chExt cx="444600" cy="258840"/>
          </a:xfrm>
        </p:grpSpPr>
        <p:sp>
          <p:nvSpPr>
            <p:cNvPr id="495" name=""/>
            <p:cNvSpPr/>
            <p:nvPr/>
          </p:nvSpPr>
          <p:spPr>
            <a:xfrm>
              <a:off x="4959360" y="4962600"/>
              <a:ext cx="4446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60800" y="5210280"/>
              <a:ext cx="4302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 txBox="1"/>
          <p:nvPr/>
        </p:nvSpPr>
        <p:spPr>
          <a:xfrm>
            <a:off x="5479920" y="5037120"/>
            <a:ext cx="303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17520" y="6056280"/>
            <a:ext cx="619776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0880" y="5799240"/>
            <a:ext cx="53020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describe any part of your training not included in these four phas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0" y="808200"/>
            <a:ext cx="6958080" cy="14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640" bIns="-62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-27000" y="7162920"/>
            <a:ext cx="6958080" cy="14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640" bIns="-62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19240" y="79200"/>
            <a:ext cx="16588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30320" y="638280"/>
            <a:ext cx="82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20680" y="820800"/>
            <a:ext cx="60609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your training for a typical week of the build-up phase with NO training problem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01600" y="996840"/>
            <a:ext cx="2365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he colored insert for exampl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01600" y="1332000"/>
            <a:ext cx="25765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time spent in training each we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430440" y="132228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895480" y="1306440"/>
            <a:ext cx="455760" cy="210960"/>
            <a:chOff x="2895480" y="1306440"/>
            <a:chExt cx="455760" cy="210960"/>
          </a:xfrm>
        </p:grpSpPr>
        <p:sp>
          <p:nvSpPr>
            <p:cNvPr id="509" name=""/>
            <p:cNvSpPr/>
            <p:nvPr/>
          </p:nvSpPr>
          <p:spPr>
            <a:xfrm>
              <a:off x="2895480" y="1306440"/>
              <a:ext cx="45576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1506600"/>
              <a:ext cx="442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 txBox="1"/>
          <p:nvPr/>
        </p:nvSpPr>
        <p:spPr>
          <a:xfrm>
            <a:off x="4681440" y="132228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149720" y="1297080"/>
            <a:ext cx="465120" cy="220680"/>
            <a:chOff x="4149720" y="1297080"/>
            <a:chExt cx="465120" cy="220680"/>
          </a:xfrm>
        </p:grpSpPr>
        <p:sp>
          <p:nvSpPr>
            <p:cNvPr id="513" name=""/>
            <p:cNvSpPr/>
            <p:nvPr/>
          </p:nvSpPr>
          <p:spPr>
            <a:xfrm>
              <a:off x="4159080" y="1297080"/>
              <a:ext cx="45576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49720" y="150660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4680" y="571680"/>
            <a:ext cx="6900840" cy="14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640" bIns="-62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179960" y="221940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633840" y="2174760"/>
            <a:ext cx="453960" cy="211320"/>
            <a:chOff x="3633840" y="2174760"/>
            <a:chExt cx="453960" cy="211320"/>
          </a:xfrm>
        </p:grpSpPr>
        <p:sp>
          <p:nvSpPr>
            <p:cNvPr id="518" name=""/>
            <p:cNvSpPr/>
            <p:nvPr/>
          </p:nvSpPr>
          <p:spPr>
            <a:xfrm>
              <a:off x="3633840" y="21747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35280" y="23842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 txBox="1"/>
          <p:nvPr/>
        </p:nvSpPr>
        <p:spPr>
          <a:xfrm>
            <a:off x="5430960" y="221940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897440" y="2185920"/>
            <a:ext cx="453960" cy="209520"/>
            <a:chOff x="4897440" y="2185920"/>
            <a:chExt cx="453960" cy="209520"/>
          </a:xfrm>
        </p:grpSpPr>
        <p:sp>
          <p:nvSpPr>
            <p:cNvPr id="522" name=""/>
            <p:cNvSpPr/>
            <p:nvPr/>
          </p:nvSpPr>
          <p:spPr>
            <a:xfrm>
              <a:off x="4897440" y="21859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98880" y="23842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 txBox="1"/>
          <p:nvPr/>
        </p:nvSpPr>
        <p:spPr>
          <a:xfrm>
            <a:off x="2249640" y="2219400"/>
            <a:ext cx="1306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or fast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179960" y="248112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633840" y="2459160"/>
            <a:ext cx="453960" cy="209520"/>
            <a:chOff x="3633840" y="2459160"/>
            <a:chExt cx="453960" cy="209520"/>
          </a:xfrm>
        </p:grpSpPr>
        <p:sp>
          <p:nvSpPr>
            <p:cNvPr id="527" name=""/>
            <p:cNvSpPr/>
            <p:nvPr/>
          </p:nvSpPr>
          <p:spPr>
            <a:xfrm>
              <a:off x="3633840" y="24591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5280" y="26575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 txBox="1"/>
          <p:nvPr/>
        </p:nvSpPr>
        <p:spPr>
          <a:xfrm>
            <a:off x="5430960" y="248112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897440" y="2459160"/>
            <a:ext cx="453960" cy="219240"/>
            <a:chOff x="4897440" y="2459160"/>
            <a:chExt cx="453960" cy="219240"/>
          </a:xfrm>
        </p:grpSpPr>
        <p:sp>
          <p:nvSpPr>
            <p:cNvPr id="531" name=""/>
            <p:cNvSpPr/>
            <p:nvPr/>
          </p:nvSpPr>
          <p:spPr>
            <a:xfrm>
              <a:off x="4897440" y="245916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98880" y="266868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 txBox="1"/>
          <p:nvPr/>
        </p:nvSpPr>
        <p:spPr>
          <a:xfrm>
            <a:off x="201600" y="1703520"/>
            <a:ext cx="620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urance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stop exercise and intervals, each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inutes or m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444760" y="176688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01600" y="2008080"/>
            <a:ext cx="21049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otal time each week at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01600" y="2754360"/>
            <a:ext cx="29433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endurance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546440" y="3044880"/>
            <a:ext cx="2103480" cy="282600"/>
            <a:chOff x="4546440" y="3044880"/>
            <a:chExt cx="2103480" cy="282600"/>
          </a:xfrm>
        </p:grpSpPr>
        <p:sp>
          <p:nvSpPr>
            <p:cNvPr id="538" name=""/>
            <p:cNvSpPr/>
            <p:nvPr/>
          </p:nvSpPr>
          <p:spPr>
            <a:xfrm>
              <a:off x="454644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48240" y="331776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14200" y="3044880"/>
            <a:ext cx="2103480" cy="282600"/>
            <a:chOff x="214200" y="3044880"/>
            <a:chExt cx="2103480" cy="282600"/>
          </a:xfrm>
        </p:grpSpPr>
        <p:sp>
          <p:nvSpPr>
            <p:cNvPr id="541" name=""/>
            <p:cNvSpPr/>
            <p:nvPr/>
          </p:nvSpPr>
          <p:spPr>
            <a:xfrm>
              <a:off x="21420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6000" y="331776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374920" y="3044880"/>
            <a:ext cx="2103480" cy="282600"/>
            <a:chOff x="2374920" y="3044880"/>
            <a:chExt cx="2103480" cy="282600"/>
          </a:xfrm>
        </p:grpSpPr>
        <p:sp>
          <p:nvSpPr>
            <p:cNvPr id="544" name=""/>
            <p:cNvSpPr/>
            <p:nvPr/>
          </p:nvSpPr>
          <p:spPr>
            <a:xfrm>
              <a:off x="237492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76360" y="3317760"/>
              <a:ext cx="2090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 txBox="1"/>
          <p:nvPr/>
        </p:nvSpPr>
        <p:spPr>
          <a:xfrm>
            <a:off x="1773360" y="2481120"/>
            <a:ext cx="1782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and easy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40" y="166212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179960" y="398448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633840" y="3940200"/>
            <a:ext cx="453960" cy="210960"/>
            <a:chOff x="3633840" y="3940200"/>
            <a:chExt cx="453960" cy="210960"/>
          </a:xfrm>
        </p:grpSpPr>
        <p:sp>
          <p:nvSpPr>
            <p:cNvPr id="550" name=""/>
            <p:cNvSpPr/>
            <p:nvPr/>
          </p:nvSpPr>
          <p:spPr>
            <a:xfrm>
              <a:off x="3633840" y="39402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35280" y="41497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 txBox="1"/>
          <p:nvPr/>
        </p:nvSpPr>
        <p:spPr>
          <a:xfrm>
            <a:off x="5430960" y="398448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897440" y="3951360"/>
            <a:ext cx="453960" cy="209520"/>
            <a:chOff x="4897440" y="3951360"/>
            <a:chExt cx="453960" cy="209520"/>
          </a:xfrm>
        </p:grpSpPr>
        <p:sp>
          <p:nvSpPr>
            <p:cNvPr id="554" name=""/>
            <p:cNvSpPr/>
            <p:nvPr/>
          </p:nvSpPr>
          <p:spPr>
            <a:xfrm>
              <a:off x="4897440" y="39513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8880" y="41497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 txBox="1"/>
          <p:nvPr/>
        </p:nvSpPr>
        <p:spPr>
          <a:xfrm>
            <a:off x="1185840" y="3984480"/>
            <a:ext cx="23702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or fast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179960" y="424656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3633840" y="4224240"/>
            <a:ext cx="453960" cy="209520"/>
            <a:chOff x="3633840" y="4224240"/>
            <a:chExt cx="453960" cy="209520"/>
          </a:xfrm>
        </p:grpSpPr>
        <p:sp>
          <p:nvSpPr>
            <p:cNvPr id="559" name=""/>
            <p:cNvSpPr/>
            <p:nvPr/>
          </p:nvSpPr>
          <p:spPr>
            <a:xfrm>
              <a:off x="3633840" y="42242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35280" y="442260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 txBox="1"/>
          <p:nvPr/>
        </p:nvSpPr>
        <p:spPr>
          <a:xfrm>
            <a:off x="5430960" y="424656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897440" y="4224240"/>
            <a:ext cx="453960" cy="219240"/>
            <a:chOff x="4897440" y="4224240"/>
            <a:chExt cx="453960" cy="219240"/>
          </a:xfrm>
        </p:grpSpPr>
        <p:sp>
          <p:nvSpPr>
            <p:cNvPr id="563" name=""/>
            <p:cNvSpPr/>
            <p:nvPr/>
          </p:nvSpPr>
          <p:spPr>
            <a:xfrm>
              <a:off x="4897440" y="422424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98880" y="443376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 txBox="1"/>
          <p:nvPr/>
        </p:nvSpPr>
        <p:spPr>
          <a:xfrm>
            <a:off x="201600" y="3456000"/>
            <a:ext cx="4883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ach interval or rep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han 3 minu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444760" y="351936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201600" y="3760920"/>
            <a:ext cx="23605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otal time each week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01600" y="4519440"/>
            <a:ext cx="27687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interval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46440" y="4809960"/>
            <a:ext cx="2103480" cy="282600"/>
            <a:chOff x="4546440" y="4809960"/>
            <a:chExt cx="2103480" cy="282600"/>
          </a:xfrm>
        </p:grpSpPr>
        <p:sp>
          <p:nvSpPr>
            <p:cNvPr id="570" name=""/>
            <p:cNvSpPr/>
            <p:nvPr/>
          </p:nvSpPr>
          <p:spPr>
            <a:xfrm>
              <a:off x="454644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48240" y="50832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14200" y="4809960"/>
            <a:ext cx="2103480" cy="282600"/>
            <a:chOff x="214200" y="4809960"/>
            <a:chExt cx="2103480" cy="282600"/>
          </a:xfrm>
        </p:grpSpPr>
        <p:sp>
          <p:nvSpPr>
            <p:cNvPr id="573" name=""/>
            <p:cNvSpPr/>
            <p:nvPr/>
          </p:nvSpPr>
          <p:spPr>
            <a:xfrm>
              <a:off x="21420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6000" y="50832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374920" y="4809960"/>
            <a:ext cx="2103480" cy="282600"/>
            <a:chOff x="2374920" y="4809960"/>
            <a:chExt cx="2103480" cy="282600"/>
          </a:xfrm>
        </p:grpSpPr>
        <p:sp>
          <p:nvSpPr>
            <p:cNvPr id="576" name=""/>
            <p:cNvSpPr/>
            <p:nvPr/>
          </p:nvSpPr>
          <p:spPr>
            <a:xfrm>
              <a:off x="237492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76360" y="50832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 txBox="1"/>
          <p:nvPr/>
        </p:nvSpPr>
        <p:spPr>
          <a:xfrm>
            <a:off x="709560" y="4246560"/>
            <a:ext cx="28465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and easy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40" y="3414600"/>
            <a:ext cx="6875640" cy="1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179960" y="576252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633840" y="5718240"/>
            <a:ext cx="453960" cy="210960"/>
            <a:chOff x="3633840" y="5718240"/>
            <a:chExt cx="453960" cy="210960"/>
          </a:xfrm>
        </p:grpSpPr>
        <p:sp>
          <p:nvSpPr>
            <p:cNvPr id="582" name=""/>
            <p:cNvSpPr/>
            <p:nvPr/>
          </p:nvSpPr>
          <p:spPr>
            <a:xfrm>
              <a:off x="3633840" y="57182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35280" y="592776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 txBox="1"/>
          <p:nvPr/>
        </p:nvSpPr>
        <p:spPr>
          <a:xfrm>
            <a:off x="5430960" y="576252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897440" y="5729400"/>
            <a:ext cx="453960" cy="209520"/>
            <a:chOff x="4897440" y="5729400"/>
            <a:chExt cx="453960" cy="209520"/>
          </a:xfrm>
        </p:grpSpPr>
        <p:sp>
          <p:nvSpPr>
            <p:cNvPr id="586" name=""/>
            <p:cNvSpPr/>
            <p:nvPr/>
          </p:nvSpPr>
          <p:spPr>
            <a:xfrm>
              <a:off x="4897440" y="57294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98880" y="592776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341280" y="5762520"/>
            <a:ext cx="3214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or exhausting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179960" y="602460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633840" y="6002280"/>
            <a:ext cx="453960" cy="209520"/>
            <a:chOff x="3633840" y="6002280"/>
            <a:chExt cx="453960" cy="209520"/>
          </a:xfrm>
        </p:grpSpPr>
        <p:sp>
          <p:nvSpPr>
            <p:cNvPr id="591" name=""/>
            <p:cNvSpPr/>
            <p:nvPr/>
          </p:nvSpPr>
          <p:spPr>
            <a:xfrm>
              <a:off x="3633840" y="600228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35280" y="620064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5430960" y="602460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897440" y="6002280"/>
            <a:ext cx="453960" cy="219240"/>
            <a:chOff x="4897440" y="6002280"/>
            <a:chExt cx="453960" cy="219240"/>
          </a:xfrm>
        </p:grpSpPr>
        <p:sp>
          <p:nvSpPr>
            <p:cNvPr id="595" name=""/>
            <p:cNvSpPr/>
            <p:nvPr/>
          </p:nvSpPr>
          <p:spPr>
            <a:xfrm>
              <a:off x="4897440" y="600228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98880" y="621180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 txBox="1"/>
          <p:nvPr/>
        </p:nvSpPr>
        <p:spPr>
          <a:xfrm>
            <a:off x="201600" y="5221440"/>
            <a:ext cx="3963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so called resistance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2444760" y="528480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201600" y="5526000"/>
            <a:ext cx="1971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otal time each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01600" y="6297480"/>
            <a:ext cx="2797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strength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546440" y="6588000"/>
            <a:ext cx="2103480" cy="282600"/>
            <a:chOff x="4546440" y="6588000"/>
            <a:chExt cx="2103480" cy="282600"/>
          </a:xfrm>
        </p:grpSpPr>
        <p:sp>
          <p:nvSpPr>
            <p:cNvPr id="602" name=""/>
            <p:cNvSpPr/>
            <p:nvPr/>
          </p:nvSpPr>
          <p:spPr>
            <a:xfrm>
              <a:off x="454644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48240" y="686124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14200" y="6588000"/>
            <a:ext cx="2103480" cy="282600"/>
            <a:chOff x="214200" y="6588000"/>
            <a:chExt cx="2103480" cy="282600"/>
          </a:xfrm>
        </p:grpSpPr>
        <p:sp>
          <p:nvSpPr>
            <p:cNvPr id="605" name=""/>
            <p:cNvSpPr/>
            <p:nvPr/>
          </p:nvSpPr>
          <p:spPr>
            <a:xfrm>
              <a:off x="21420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6000" y="686124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374920" y="6588000"/>
            <a:ext cx="2103480" cy="282600"/>
            <a:chOff x="2374920" y="6588000"/>
            <a:chExt cx="2103480" cy="282600"/>
          </a:xfrm>
        </p:grpSpPr>
        <p:sp>
          <p:nvSpPr>
            <p:cNvPr id="608" name=""/>
            <p:cNvSpPr/>
            <p:nvPr/>
          </p:nvSpPr>
          <p:spPr>
            <a:xfrm>
              <a:off x="237492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376360" y="686124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 txBox="1"/>
          <p:nvPr/>
        </p:nvSpPr>
        <p:spPr>
          <a:xfrm>
            <a:off x="341280" y="6024600"/>
            <a:ext cx="3214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and easy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40" y="518004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179960" y="748980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633840" y="7445520"/>
            <a:ext cx="453960" cy="210960"/>
            <a:chOff x="3633840" y="7445520"/>
            <a:chExt cx="453960" cy="210960"/>
          </a:xfrm>
        </p:grpSpPr>
        <p:sp>
          <p:nvSpPr>
            <p:cNvPr id="614" name=""/>
            <p:cNvSpPr/>
            <p:nvPr/>
          </p:nvSpPr>
          <p:spPr>
            <a:xfrm>
              <a:off x="3633840" y="74455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35280" y="765504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 txBox="1"/>
          <p:nvPr/>
        </p:nvSpPr>
        <p:spPr>
          <a:xfrm>
            <a:off x="5430960" y="748980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4897440" y="7456320"/>
            <a:ext cx="453960" cy="209520"/>
            <a:chOff x="4897440" y="7456320"/>
            <a:chExt cx="453960" cy="209520"/>
          </a:xfrm>
        </p:grpSpPr>
        <p:sp>
          <p:nvSpPr>
            <p:cNvPr id="618" name=""/>
            <p:cNvSpPr/>
            <p:nvPr/>
          </p:nvSpPr>
          <p:spPr>
            <a:xfrm>
              <a:off x="4897440" y="74563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98880" y="765504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 txBox="1"/>
          <p:nvPr/>
        </p:nvSpPr>
        <p:spPr>
          <a:xfrm>
            <a:off x="201600" y="6999120"/>
            <a:ext cx="4044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ll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so called technique or form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444760" y="706284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65160" y="7459560"/>
            <a:ext cx="2581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time each week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01600" y="7772400"/>
            <a:ext cx="3397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skill or technique 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46440" y="8050320"/>
            <a:ext cx="2103480" cy="282600"/>
            <a:chOff x="4546440" y="8050320"/>
            <a:chExt cx="2103480" cy="282600"/>
          </a:xfrm>
        </p:grpSpPr>
        <p:sp>
          <p:nvSpPr>
            <p:cNvPr id="625" name=""/>
            <p:cNvSpPr/>
            <p:nvPr/>
          </p:nvSpPr>
          <p:spPr>
            <a:xfrm>
              <a:off x="454644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48240" y="832320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4200" y="8050320"/>
            <a:ext cx="2103480" cy="282600"/>
            <a:chOff x="214200" y="8050320"/>
            <a:chExt cx="2103480" cy="282600"/>
          </a:xfrm>
        </p:grpSpPr>
        <p:sp>
          <p:nvSpPr>
            <p:cNvPr id="628" name=""/>
            <p:cNvSpPr/>
            <p:nvPr/>
          </p:nvSpPr>
          <p:spPr>
            <a:xfrm>
              <a:off x="21420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6000" y="832320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374920" y="8050320"/>
            <a:ext cx="2103480" cy="282600"/>
            <a:chOff x="2374920" y="8050320"/>
            <a:chExt cx="2103480" cy="282600"/>
          </a:xfrm>
        </p:grpSpPr>
        <p:sp>
          <p:nvSpPr>
            <p:cNvPr id="631" name=""/>
            <p:cNvSpPr/>
            <p:nvPr/>
          </p:nvSpPr>
          <p:spPr>
            <a:xfrm>
              <a:off x="237492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76360" y="8323200"/>
              <a:ext cx="2090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1440" y="69580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80" y="840744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075280" y="8534520"/>
            <a:ext cx="149868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urn o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219240" y="66600"/>
            <a:ext cx="17780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30320" y="638280"/>
            <a:ext cx="82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220680" y="820800"/>
            <a:ext cx="61340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your training for a typical week of the pre-comp phase with NO training problem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201600" y="996840"/>
            <a:ext cx="2365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he colored insert for exampl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01600" y="1332000"/>
            <a:ext cx="25765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time spent in training each we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430440" y="132228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2895480" y="1306440"/>
            <a:ext cx="455760" cy="210960"/>
            <a:chOff x="2895480" y="1306440"/>
            <a:chExt cx="455760" cy="210960"/>
          </a:xfrm>
        </p:grpSpPr>
        <p:sp>
          <p:nvSpPr>
            <p:cNvPr id="643" name=""/>
            <p:cNvSpPr/>
            <p:nvPr/>
          </p:nvSpPr>
          <p:spPr>
            <a:xfrm>
              <a:off x="2895480" y="1306440"/>
              <a:ext cx="45576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97280" y="1506600"/>
              <a:ext cx="442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 txBox="1"/>
          <p:nvPr/>
        </p:nvSpPr>
        <p:spPr>
          <a:xfrm>
            <a:off x="4681440" y="132228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149720" y="1297080"/>
            <a:ext cx="465120" cy="220680"/>
            <a:chOff x="4149720" y="1297080"/>
            <a:chExt cx="465120" cy="220680"/>
          </a:xfrm>
        </p:grpSpPr>
        <p:sp>
          <p:nvSpPr>
            <p:cNvPr id="647" name=""/>
            <p:cNvSpPr/>
            <p:nvPr/>
          </p:nvSpPr>
          <p:spPr>
            <a:xfrm>
              <a:off x="4159080" y="1297080"/>
              <a:ext cx="45576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49720" y="150660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680" y="571680"/>
            <a:ext cx="6900840" cy="14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640" bIns="-62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179960" y="221940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633840" y="2174760"/>
            <a:ext cx="453960" cy="211320"/>
            <a:chOff x="3633840" y="2174760"/>
            <a:chExt cx="453960" cy="211320"/>
          </a:xfrm>
        </p:grpSpPr>
        <p:sp>
          <p:nvSpPr>
            <p:cNvPr id="652" name=""/>
            <p:cNvSpPr/>
            <p:nvPr/>
          </p:nvSpPr>
          <p:spPr>
            <a:xfrm>
              <a:off x="3633840" y="21747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35280" y="23842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 txBox="1"/>
          <p:nvPr/>
        </p:nvSpPr>
        <p:spPr>
          <a:xfrm>
            <a:off x="5430960" y="221940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4897440" y="2185920"/>
            <a:ext cx="453960" cy="209520"/>
            <a:chOff x="4897440" y="2185920"/>
            <a:chExt cx="453960" cy="209520"/>
          </a:xfrm>
        </p:grpSpPr>
        <p:sp>
          <p:nvSpPr>
            <p:cNvPr id="656" name=""/>
            <p:cNvSpPr/>
            <p:nvPr/>
          </p:nvSpPr>
          <p:spPr>
            <a:xfrm>
              <a:off x="4897440" y="21859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98880" y="23842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"/>
          <p:cNvSpPr txBox="1"/>
          <p:nvPr/>
        </p:nvSpPr>
        <p:spPr>
          <a:xfrm>
            <a:off x="2249640" y="2219400"/>
            <a:ext cx="1306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or fast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179960" y="248112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633840" y="2459160"/>
            <a:ext cx="453960" cy="209520"/>
            <a:chOff x="3633840" y="2459160"/>
            <a:chExt cx="453960" cy="209520"/>
          </a:xfrm>
        </p:grpSpPr>
        <p:sp>
          <p:nvSpPr>
            <p:cNvPr id="661" name=""/>
            <p:cNvSpPr/>
            <p:nvPr/>
          </p:nvSpPr>
          <p:spPr>
            <a:xfrm>
              <a:off x="3633840" y="24591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35280" y="26575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 txBox="1"/>
          <p:nvPr/>
        </p:nvSpPr>
        <p:spPr>
          <a:xfrm>
            <a:off x="5430960" y="248112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897440" y="2459160"/>
            <a:ext cx="453960" cy="219240"/>
            <a:chOff x="4897440" y="2459160"/>
            <a:chExt cx="453960" cy="219240"/>
          </a:xfrm>
        </p:grpSpPr>
        <p:sp>
          <p:nvSpPr>
            <p:cNvPr id="665" name=""/>
            <p:cNvSpPr/>
            <p:nvPr/>
          </p:nvSpPr>
          <p:spPr>
            <a:xfrm>
              <a:off x="4897440" y="245916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98880" y="266868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 txBox="1"/>
          <p:nvPr/>
        </p:nvSpPr>
        <p:spPr>
          <a:xfrm>
            <a:off x="201600" y="1703520"/>
            <a:ext cx="620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urance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stop exercise and intervals, each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inutes or m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2444760" y="176688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01600" y="2008080"/>
            <a:ext cx="21049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otal time each week at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01600" y="2754360"/>
            <a:ext cx="29433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endurance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4546440" y="3044880"/>
            <a:ext cx="2103480" cy="282600"/>
            <a:chOff x="4546440" y="3044880"/>
            <a:chExt cx="2103480" cy="282600"/>
          </a:xfrm>
        </p:grpSpPr>
        <p:sp>
          <p:nvSpPr>
            <p:cNvPr id="672" name=""/>
            <p:cNvSpPr/>
            <p:nvPr/>
          </p:nvSpPr>
          <p:spPr>
            <a:xfrm>
              <a:off x="454644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48240" y="331776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214200" y="3044880"/>
            <a:ext cx="2103480" cy="282600"/>
            <a:chOff x="214200" y="3044880"/>
            <a:chExt cx="2103480" cy="282600"/>
          </a:xfrm>
        </p:grpSpPr>
        <p:sp>
          <p:nvSpPr>
            <p:cNvPr id="675" name=""/>
            <p:cNvSpPr/>
            <p:nvPr/>
          </p:nvSpPr>
          <p:spPr>
            <a:xfrm>
              <a:off x="21420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6000" y="331776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374920" y="3044880"/>
            <a:ext cx="2103480" cy="282600"/>
            <a:chOff x="2374920" y="3044880"/>
            <a:chExt cx="2103480" cy="282600"/>
          </a:xfrm>
        </p:grpSpPr>
        <p:sp>
          <p:nvSpPr>
            <p:cNvPr id="678" name=""/>
            <p:cNvSpPr/>
            <p:nvPr/>
          </p:nvSpPr>
          <p:spPr>
            <a:xfrm>
              <a:off x="2374920" y="30448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76360" y="3317760"/>
              <a:ext cx="2090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 txBox="1"/>
          <p:nvPr/>
        </p:nvSpPr>
        <p:spPr>
          <a:xfrm>
            <a:off x="1773360" y="2481120"/>
            <a:ext cx="1782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and easy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40" y="166212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179960" y="398448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633840" y="3940200"/>
            <a:ext cx="453960" cy="210960"/>
            <a:chOff x="3633840" y="3940200"/>
            <a:chExt cx="453960" cy="210960"/>
          </a:xfrm>
        </p:grpSpPr>
        <p:sp>
          <p:nvSpPr>
            <p:cNvPr id="684" name=""/>
            <p:cNvSpPr/>
            <p:nvPr/>
          </p:nvSpPr>
          <p:spPr>
            <a:xfrm>
              <a:off x="3633840" y="39402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35280" y="41497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 txBox="1"/>
          <p:nvPr/>
        </p:nvSpPr>
        <p:spPr>
          <a:xfrm>
            <a:off x="5430960" y="398448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897440" y="3951360"/>
            <a:ext cx="453960" cy="209520"/>
            <a:chOff x="4897440" y="3951360"/>
            <a:chExt cx="453960" cy="209520"/>
          </a:xfrm>
        </p:grpSpPr>
        <p:sp>
          <p:nvSpPr>
            <p:cNvPr id="688" name=""/>
            <p:cNvSpPr/>
            <p:nvPr/>
          </p:nvSpPr>
          <p:spPr>
            <a:xfrm>
              <a:off x="4897440" y="39513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880" y="41497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 txBox="1"/>
          <p:nvPr/>
        </p:nvSpPr>
        <p:spPr>
          <a:xfrm>
            <a:off x="1185840" y="3984480"/>
            <a:ext cx="23702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or fast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179960" y="424656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633840" y="4224240"/>
            <a:ext cx="453960" cy="209520"/>
            <a:chOff x="3633840" y="4224240"/>
            <a:chExt cx="453960" cy="209520"/>
          </a:xfrm>
        </p:grpSpPr>
        <p:sp>
          <p:nvSpPr>
            <p:cNvPr id="693" name=""/>
            <p:cNvSpPr/>
            <p:nvPr/>
          </p:nvSpPr>
          <p:spPr>
            <a:xfrm>
              <a:off x="3633840" y="42242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35280" y="442260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 txBox="1"/>
          <p:nvPr/>
        </p:nvSpPr>
        <p:spPr>
          <a:xfrm>
            <a:off x="5430960" y="424656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4897440" y="4224240"/>
            <a:ext cx="453960" cy="219240"/>
            <a:chOff x="4897440" y="4224240"/>
            <a:chExt cx="453960" cy="219240"/>
          </a:xfrm>
        </p:grpSpPr>
        <p:sp>
          <p:nvSpPr>
            <p:cNvPr id="697" name=""/>
            <p:cNvSpPr/>
            <p:nvPr/>
          </p:nvSpPr>
          <p:spPr>
            <a:xfrm>
              <a:off x="4897440" y="422424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98880" y="443376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 txBox="1"/>
          <p:nvPr/>
        </p:nvSpPr>
        <p:spPr>
          <a:xfrm>
            <a:off x="201600" y="3456000"/>
            <a:ext cx="4883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ach interval or rep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han 3 minu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2444760" y="351936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01600" y="3760920"/>
            <a:ext cx="23605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otal time each week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01600" y="4519440"/>
            <a:ext cx="27687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interval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546440" y="4809960"/>
            <a:ext cx="2103480" cy="282600"/>
            <a:chOff x="4546440" y="4809960"/>
            <a:chExt cx="2103480" cy="282600"/>
          </a:xfrm>
        </p:grpSpPr>
        <p:sp>
          <p:nvSpPr>
            <p:cNvPr id="704" name=""/>
            <p:cNvSpPr/>
            <p:nvPr/>
          </p:nvSpPr>
          <p:spPr>
            <a:xfrm>
              <a:off x="454644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48240" y="50832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14200" y="4809960"/>
            <a:ext cx="2103480" cy="282600"/>
            <a:chOff x="214200" y="4809960"/>
            <a:chExt cx="2103480" cy="282600"/>
          </a:xfrm>
        </p:grpSpPr>
        <p:sp>
          <p:nvSpPr>
            <p:cNvPr id="707" name=""/>
            <p:cNvSpPr/>
            <p:nvPr/>
          </p:nvSpPr>
          <p:spPr>
            <a:xfrm>
              <a:off x="21420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6000" y="50832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2374920" y="4809960"/>
            <a:ext cx="2103480" cy="282600"/>
            <a:chOff x="2374920" y="4809960"/>
            <a:chExt cx="2103480" cy="282600"/>
          </a:xfrm>
        </p:grpSpPr>
        <p:sp>
          <p:nvSpPr>
            <p:cNvPr id="710" name=""/>
            <p:cNvSpPr/>
            <p:nvPr/>
          </p:nvSpPr>
          <p:spPr>
            <a:xfrm>
              <a:off x="2374920" y="48099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76360" y="50832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 txBox="1"/>
          <p:nvPr/>
        </p:nvSpPr>
        <p:spPr>
          <a:xfrm>
            <a:off x="709560" y="4246560"/>
            <a:ext cx="28465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and easy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40" y="3414600"/>
            <a:ext cx="6875640" cy="1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179960" y="576252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633840" y="5718240"/>
            <a:ext cx="453960" cy="210960"/>
            <a:chOff x="3633840" y="5718240"/>
            <a:chExt cx="453960" cy="210960"/>
          </a:xfrm>
        </p:grpSpPr>
        <p:sp>
          <p:nvSpPr>
            <p:cNvPr id="716" name=""/>
            <p:cNvSpPr/>
            <p:nvPr/>
          </p:nvSpPr>
          <p:spPr>
            <a:xfrm>
              <a:off x="3633840" y="57182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635280" y="592776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 txBox="1"/>
          <p:nvPr/>
        </p:nvSpPr>
        <p:spPr>
          <a:xfrm>
            <a:off x="5430960" y="576252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897440" y="5729400"/>
            <a:ext cx="453960" cy="209520"/>
            <a:chOff x="4897440" y="5729400"/>
            <a:chExt cx="453960" cy="209520"/>
          </a:xfrm>
        </p:grpSpPr>
        <p:sp>
          <p:nvSpPr>
            <p:cNvPr id="720" name=""/>
            <p:cNvSpPr/>
            <p:nvPr/>
          </p:nvSpPr>
          <p:spPr>
            <a:xfrm>
              <a:off x="4897440" y="57294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98880" y="592776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"/>
          <p:cNvSpPr txBox="1"/>
          <p:nvPr/>
        </p:nvSpPr>
        <p:spPr>
          <a:xfrm>
            <a:off x="341280" y="5762520"/>
            <a:ext cx="3214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or exhausting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179960" y="602460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3633840" y="6002280"/>
            <a:ext cx="453960" cy="209520"/>
            <a:chOff x="3633840" y="6002280"/>
            <a:chExt cx="453960" cy="209520"/>
          </a:xfrm>
        </p:grpSpPr>
        <p:sp>
          <p:nvSpPr>
            <p:cNvPr id="725" name=""/>
            <p:cNvSpPr/>
            <p:nvPr/>
          </p:nvSpPr>
          <p:spPr>
            <a:xfrm>
              <a:off x="3633840" y="600228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35280" y="620064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 txBox="1"/>
          <p:nvPr/>
        </p:nvSpPr>
        <p:spPr>
          <a:xfrm>
            <a:off x="5430960" y="602460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897440" y="6002280"/>
            <a:ext cx="453960" cy="219240"/>
            <a:chOff x="4897440" y="6002280"/>
            <a:chExt cx="453960" cy="219240"/>
          </a:xfrm>
        </p:grpSpPr>
        <p:sp>
          <p:nvSpPr>
            <p:cNvPr id="729" name=""/>
            <p:cNvSpPr/>
            <p:nvPr/>
          </p:nvSpPr>
          <p:spPr>
            <a:xfrm>
              <a:off x="4897440" y="600228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98880" y="621180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"/>
          <p:cNvSpPr txBox="1"/>
          <p:nvPr/>
        </p:nvSpPr>
        <p:spPr>
          <a:xfrm>
            <a:off x="201600" y="5221440"/>
            <a:ext cx="3963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so called resistance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2444760" y="528480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01600" y="5526000"/>
            <a:ext cx="1971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otal time each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600" y="6297480"/>
            <a:ext cx="2797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strength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546440" y="6588000"/>
            <a:ext cx="2103480" cy="282600"/>
            <a:chOff x="4546440" y="6588000"/>
            <a:chExt cx="2103480" cy="282600"/>
          </a:xfrm>
        </p:grpSpPr>
        <p:sp>
          <p:nvSpPr>
            <p:cNvPr id="736" name=""/>
            <p:cNvSpPr/>
            <p:nvPr/>
          </p:nvSpPr>
          <p:spPr>
            <a:xfrm>
              <a:off x="454644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48240" y="686124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14200" y="6588000"/>
            <a:ext cx="2103480" cy="282600"/>
            <a:chOff x="214200" y="6588000"/>
            <a:chExt cx="2103480" cy="282600"/>
          </a:xfrm>
        </p:grpSpPr>
        <p:sp>
          <p:nvSpPr>
            <p:cNvPr id="739" name=""/>
            <p:cNvSpPr/>
            <p:nvPr/>
          </p:nvSpPr>
          <p:spPr>
            <a:xfrm>
              <a:off x="21420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6000" y="686124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2374920" y="6588000"/>
            <a:ext cx="2103480" cy="282600"/>
            <a:chOff x="2374920" y="6588000"/>
            <a:chExt cx="2103480" cy="282600"/>
          </a:xfrm>
        </p:grpSpPr>
        <p:sp>
          <p:nvSpPr>
            <p:cNvPr id="742" name=""/>
            <p:cNvSpPr/>
            <p:nvPr/>
          </p:nvSpPr>
          <p:spPr>
            <a:xfrm>
              <a:off x="2374920" y="65880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76360" y="686124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 txBox="1"/>
          <p:nvPr/>
        </p:nvSpPr>
        <p:spPr>
          <a:xfrm>
            <a:off x="341280" y="6024600"/>
            <a:ext cx="3214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and easy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40" y="518004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4179960" y="748980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633840" y="7445520"/>
            <a:ext cx="453960" cy="210960"/>
            <a:chOff x="3633840" y="7445520"/>
            <a:chExt cx="453960" cy="210960"/>
          </a:xfrm>
        </p:grpSpPr>
        <p:sp>
          <p:nvSpPr>
            <p:cNvPr id="748" name=""/>
            <p:cNvSpPr/>
            <p:nvPr/>
          </p:nvSpPr>
          <p:spPr>
            <a:xfrm>
              <a:off x="3633840" y="74455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35280" y="765504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 txBox="1"/>
          <p:nvPr/>
        </p:nvSpPr>
        <p:spPr>
          <a:xfrm>
            <a:off x="5430960" y="748980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897440" y="7456320"/>
            <a:ext cx="453960" cy="209520"/>
            <a:chOff x="4897440" y="7456320"/>
            <a:chExt cx="453960" cy="209520"/>
          </a:xfrm>
        </p:grpSpPr>
        <p:sp>
          <p:nvSpPr>
            <p:cNvPr id="752" name=""/>
            <p:cNvSpPr/>
            <p:nvPr/>
          </p:nvSpPr>
          <p:spPr>
            <a:xfrm>
              <a:off x="4897440" y="74563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98880" y="765504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 txBox="1"/>
          <p:nvPr/>
        </p:nvSpPr>
        <p:spPr>
          <a:xfrm>
            <a:off x="201600" y="6999120"/>
            <a:ext cx="4044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ll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so called technique or form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444760" y="706284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965160" y="7459560"/>
            <a:ext cx="2581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time each week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01600" y="7772400"/>
            <a:ext cx="3397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skill or technique 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546440" y="8050320"/>
            <a:ext cx="2103480" cy="282600"/>
            <a:chOff x="4546440" y="8050320"/>
            <a:chExt cx="2103480" cy="282600"/>
          </a:xfrm>
        </p:grpSpPr>
        <p:sp>
          <p:nvSpPr>
            <p:cNvPr id="759" name=""/>
            <p:cNvSpPr/>
            <p:nvPr/>
          </p:nvSpPr>
          <p:spPr>
            <a:xfrm>
              <a:off x="454644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48240" y="832320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14200" y="8050320"/>
            <a:ext cx="2103480" cy="282600"/>
            <a:chOff x="214200" y="8050320"/>
            <a:chExt cx="2103480" cy="282600"/>
          </a:xfrm>
        </p:grpSpPr>
        <p:sp>
          <p:nvSpPr>
            <p:cNvPr id="762" name=""/>
            <p:cNvSpPr/>
            <p:nvPr/>
          </p:nvSpPr>
          <p:spPr>
            <a:xfrm>
              <a:off x="21420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6000" y="8323200"/>
              <a:ext cx="2090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2374920" y="8050320"/>
            <a:ext cx="2103480" cy="282600"/>
            <a:chOff x="2374920" y="8050320"/>
            <a:chExt cx="2103480" cy="282600"/>
          </a:xfrm>
        </p:grpSpPr>
        <p:sp>
          <p:nvSpPr>
            <p:cNvPr id="765" name=""/>
            <p:cNvSpPr/>
            <p:nvPr/>
          </p:nvSpPr>
          <p:spPr>
            <a:xfrm>
              <a:off x="2374920" y="805032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76360" y="8323200"/>
              <a:ext cx="2090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1440" y="69580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680" y="840744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5075280" y="8534520"/>
            <a:ext cx="149868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urn o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5380200"/>
            <a:ext cx="6858000" cy="31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5683320"/>
            <a:ext cx="6858000" cy="314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6289560"/>
            <a:ext cx="6858000" cy="312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5986440"/>
            <a:ext cx="6858000" cy="3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6602400"/>
            <a:ext cx="6858000" cy="31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235080" y="82440"/>
            <a:ext cx="11253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70000" y="812880"/>
            <a:ext cx="43099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how you reduce training prior to an important competi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70000" y="995400"/>
            <a:ext cx="39387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that you have NO illness, injury or other problem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270000" y="1417680"/>
            <a:ext cx="24573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days before an importa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70000" y="1579680"/>
            <a:ext cx="22240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 do you start to taper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629160" y="1579680"/>
            <a:ext cx="303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70000" y="1873080"/>
            <a:ext cx="32878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days before an important competi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270000" y="2035080"/>
            <a:ext cx="25671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your last training session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822840" y="1967040"/>
            <a:ext cx="411120" cy="237960"/>
            <a:chOff x="3822840" y="1967040"/>
            <a:chExt cx="411120" cy="237960"/>
          </a:xfrm>
        </p:grpSpPr>
        <p:sp>
          <p:nvSpPr>
            <p:cNvPr id="784" name=""/>
            <p:cNvSpPr/>
            <p:nvPr/>
          </p:nvSpPr>
          <p:spPr>
            <a:xfrm>
              <a:off x="3822840" y="1967040"/>
              <a:ext cx="411120" cy="23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24280" y="2195640"/>
              <a:ext cx="3967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"/>
          <p:cNvSpPr txBox="1"/>
          <p:nvPr/>
        </p:nvSpPr>
        <p:spPr>
          <a:xfrm>
            <a:off x="4332240" y="2035080"/>
            <a:ext cx="303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155520" y="660240"/>
            <a:ext cx="82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270000" y="2565360"/>
            <a:ext cx="13431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taper?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71560" y="2890800"/>
            <a:ext cx="3511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hange my train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ll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oughout the tap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087800" y="5057640"/>
            <a:ext cx="5284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008600" y="5186520"/>
            <a:ext cx="6858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761000" y="5186520"/>
            <a:ext cx="5238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462640" y="5186520"/>
            <a:ext cx="43164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6081840" y="5186520"/>
            <a:ext cx="498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513240" y="5435640"/>
            <a:ext cx="6778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ur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19760" y="542916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586480" y="542916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243480" y="542916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192400" y="5738760"/>
            <a:ext cx="1998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 (NOT counting res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251240" y="573264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919760" y="573264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86480" y="573264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243480" y="573264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04640" y="6041880"/>
            <a:ext cx="3786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s between each interval or rep during interval trai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251240" y="603576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919760" y="603576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86480" y="603576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243480" y="603576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659040" y="6345360"/>
            <a:ext cx="531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251240" y="633888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919760" y="633888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586480" y="633888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243480" y="633888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70000" y="4849920"/>
            <a:ext cx="37926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taper, how do you change th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PEN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33440" y="501156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270000" y="5021280"/>
            <a:ext cx="2265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ach of these types of training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5075280" y="8736120"/>
            <a:ext cx="149868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urn o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7696080"/>
            <a:ext cx="6858000" cy="31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7999560"/>
            <a:ext cx="6858000" cy="314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302680"/>
            <a:ext cx="6858000" cy="31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494160" y="7753320"/>
            <a:ext cx="6778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ur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251240" y="774540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919760" y="774540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86480" y="774540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243480" y="774540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3625920" y="8056440"/>
            <a:ext cx="546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51240" y="804852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19760" y="804852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586480" y="804852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43480" y="804852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639960" y="8359920"/>
            <a:ext cx="531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251240" y="835200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19760" y="835200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86480" y="835200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243480" y="835200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270000" y="7143840"/>
            <a:ext cx="3686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taper, how do you change th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T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70000" y="7315200"/>
            <a:ext cx="32781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ce or effort) of each of these types of training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251240" y="542916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10040" y="289548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039680" y="3176640"/>
            <a:ext cx="3343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hange my training most at th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tap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910040" y="317016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38120" y="3787920"/>
            <a:ext cx="21398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trategy (please describe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80880" y="4048200"/>
            <a:ext cx="6195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465800" y="289548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465800" y="317016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460760" y="2671920"/>
            <a:ext cx="2206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932360" y="2671920"/>
            <a:ext cx="1652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906720" y="6659640"/>
            <a:ext cx="2840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251240" y="665172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919760" y="6651720"/>
            <a:ext cx="20808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86480" y="665172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243480" y="665172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5611680" y="5062680"/>
            <a:ext cx="152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091040" y="7372440"/>
            <a:ext cx="5284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011480" y="7500960"/>
            <a:ext cx="6858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764240" y="7500960"/>
            <a:ext cx="5238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465880" y="7500960"/>
            <a:ext cx="43164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6084720" y="7500960"/>
            <a:ext cx="498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5614920" y="7377120"/>
            <a:ext cx="152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40" y="584280"/>
            <a:ext cx="6900840" cy="14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640" bIns="-62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1160" y="1289160"/>
            <a:ext cx="687528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440" y="24130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-7920" y="4754520"/>
            <a:ext cx="6875280" cy="1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-17640" y="705168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133800" y="1517760"/>
            <a:ext cx="411120" cy="237960"/>
            <a:chOff x="3133800" y="1517760"/>
            <a:chExt cx="411120" cy="237960"/>
          </a:xfrm>
        </p:grpSpPr>
        <p:sp>
          <p:nvSpPr>
            <p:cNvPr id="866" name=""/>
            <p:cNvSpPr/>
            <p:nvPr/>
          </p:nvSpPr>
          <p:spPr>
            <a:xfrm>
              <a:off x="3133800" y="1517760"/>
              <a:ext cx="411120" cy="23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135240" y="1746360"/>
              <a:ext cx="397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 txBox="1"/>
          <p:nvPr/>
        </p:nvSpPr>
        <p:spPr>
          <a:xfrm>
            <a:off x="1119240" y="3471840"/>
            <a:ext cx="32702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hange my training most at th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tap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910040" y="346536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465800" y="3465360"/>
            <a:ext cx="209520" cy="1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243000" y="8458200"/>
            <a:ext cx="3357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BACK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he questionnai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243000" y="8651880"/>
            <a:ext cx="2627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sure you answered everything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952880" y="8732880"/>
            <a:ext cx="17463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243000" y="8842320"/>
            <a:ext cx="4176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you miss anything out, we may have to send it back to you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216000" y="66600"/>
            <a:ext cx="1995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O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127080" y="625320"/>
            <a:ext cx="1652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217440" y="808200"/>
            <a:ext cx="6199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your training for a typical week of the post-comp phase with NO training problem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98360" y="984240"/>
            <a:ext cx="2365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he colored insert for exampl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98360" y="1319040"/>
            <a:ext cx="25765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time spent in training each we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430440" y="130968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895480" y="1293840"/>
            <a:ext cx="455760" cy="210960"/>
            <a:chOff x="2895480" y="1293840"/>
            <a:chExt cx="455760" cy="210960"/>
          </a:xfrm>
        </p:grpSpPr>
        <p:sp>
          <p:nvSpPr>
            <p:cNvPr id="882" name=""/>
            <p:cNvSpPr/>
            <p:nvPr/>
          </p:nvSpPr>
          <p:spPr>
            <a:xfrm>
              <a:off x="2895480" y="1293840"/>
              <a:ext cx="45576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97280" y="1494000"/>
              <a:ext cx="442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"/>
          <p:cNvSpPr txBox="1"/>
          <p:nvPr/>
        </p:nvSpPr>
        <p:spPr>
          <a:xfrm>
            <a:off x="4681440" y="130968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4149720" y="1284120"/>
            <a:ext cx="465120" cy="220680"/>
            <a:chOff x="4149720" y="1284120"/>
            <a:chExt cx="465120" cy="220680"/>
          </a:xfrm>
        </p:grpSpPr>
        <p:sp>
          <p:nvSpPr>
            <p:cNvPr id="886" name=""/>
            <p:cNvSpPr/>
            <p:nvPr/>
          </p:nvSpPr>
          <p:spPr>
            <a:xfrm>
              <a:off x="4159080" y="1284120"/>
              <a:ext cx="45576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149720" y="149400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440" y="558720"/>
            <a:ext cx="6900840" cy="18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176720" y="220680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3630600" y="2162160"/>
            <a:ext cx="453960" cy="211320"/>
            <a:chOff x="3630600" y="2162160"/>
            <a:chExt cx="453960" cy="211320"/>
          </a:xfrm>
        </p:grpSpPr>
        <p:sp>
          <p:nvSpPr>
            <p:cNvPr id="891" name=""/>
            <p:cNvSpPr/>
            <p:nvPr/>
          </p:nvSpPr>
          <p:spPr>
            <a:xfrm>
              <a:off x="3630600" y="21621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32040" y="23716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 txBox="1"/>
          <p:nvPr/>
        </p:nvSpPr>
        <p:spPr>
          <a:xfrm>
            <a:off x="5427720" y="220680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4894200" y="2173320"/>
            <a:ext cx="453960" cy="209520"/>
            <a:chOff x="4894200" y="2173320"/>
            <a:chExt cx="453960" cy="209520"/>
          </a:xfrm>
        </p:grpSpPr>
        <p:sp>
          <p:nvSpPr>
            <p:cNvPr id="895" name=""/>
            <p:cNvSpPr/>
            <p:nvPr/>
          </p:nvSpPr>
          <p:spPr>
            <a:xfrm>
              <a:off x="4894200" y="21733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96000" y="2371680"/>
              <a:ext cx="4410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 txBox="1"/>
          <p:nvPr/>
        </p:nvSpPr>
        <p:spPr>
          <a:xfrm>
            <a:off x="2246400" y="2206800"/>
            <a:ext cx="1306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or fast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176720" y="246852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3630600" y="2446200"/>
            <a:ext cx="453960" cy="209520"/>
            <a:chOff x="3630600" y="2446200"/>
            <a:chExt cx="453960" cy="209520"/>
          </a:xfrm>
        </p:grpSpPr>
        <p:sp>
          <p:nvSpPr>
            <p:cNvPr id="900" name=""/>
            <p:cNvSpPr/>
            <p:nvPr/>
          </p:nvSpPr>
          <p:spPr>
            <a:xfrm>
              <a:off x="3630600" y="24462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632040" y="26449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 txBox="1"/>
          <p:nvPr/>
        </p:nvSpPr>
        <p:spPr>
          <a:xfrm>
            <a:off x="5427720" y="246852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4894200" y="2446200"/>
            <a:ext cx="453960" cy="219240"/>
            <a:chOff x="4894200" y="2446200"/>
            <a:chExt cx="453960" cy="219240"/>
          </a:xfrm>
        </p:grpSpPr>
        <p:sp>
          <p:nvSpPr>
            <p:cNvPr id="904" name=""/>
            <p:cNvSpPr/>
            <p:nvPr/>
          </p:nvSpPr>
          <p:spPr>
            <a:xfrm>
              <a:off x="4894200" y="244620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96000" y="2655720"/>
              <a:ext cx="4410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"/>
          <p:cNvSpPr txBox="1"/>
          <p:nvPr/>
        </p:nvSpPr>
        <p:spPr>
          <a:xfrm>
            <a:off x="198360" y="1690560"/>
            <a:ext cx="620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urance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stop exercise and intervals, each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inutes or m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2441520" y="175428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98360" y="1995480"/>
            <a:ext cx="21049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otal time each week at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198360" y="2741760"/>
            <a:ext cx="29433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endurance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543560" y="3032280"/>
            <a:ext cx="2103480" cy="282600"/>
            <a:chOff x="4543560" y="3032280"/>
            <a:chExt cx="2103480" cy="282600"/>
          </a:xfrm>
        </p:grpSpPr>
        <p:sp>
          <p:nvSpPr>
            <p:cNvPr id="911" name=""/>
            <p:cNvSpPr/>
            <p:nvPr/>
          </p:nvSpPr>
          <p:spPr>
            <a:xfrm>
              <a:off x="4543560" y="30322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545000" y="330516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210960" y="3032280"/>
            <a:ext cx="2103480" cy="282600"/>
            <a:chOff x="210960" y="3032280"/>
            <a:chExt cx="2103480" cy="282600"/>
          </a:xfrm>
        </p:grpSpPr>
        <p:sp>
          <p:nvSpPr>
            <p:cNvPr id="914" name=""/>
            <p:cNvSpPr/>
            <p:nvPr/>
          </p:nvSpPr>
          <p:spPr>
            <a:xfrm>
              <a:off x="210960" y="30322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2760" y="330516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371680" y="3032280"/>
            <a:ext cx="2103480" cy="282600"/>
            <a:chOff x="2371680" y="3032280"/>
            <a:chExt cx="2103480" cy="282600"/>
          </a:xfrm>
        </p:grpSpPr>
        <p:sp>
          <p:nvSpPr>
            <p:cNvPr id="917" name=""/>
            <p:cNvSpPr/>
            <p:nvPr/>
          </p:nvSpPr>
          <p:spPr>
            <a:xfrm>
              <a:off x="2371680" y="303228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73480" y="330516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"/>
          <p:cNvSpPr txBox="1"/>
          <p:nvPr/>
        </p:nvSpPr>
        <p:spPr>
          <a:xfrm>
            <a:off x="1770120" y="2468520"/>
            <a:ext cx="1782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and easy pac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-1440" y="1649520"/>
            <a:ext cx="687528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176720" y="397188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630600" y="3927600"/>
            <a:ext cx="453960" cy="210960"/>
            <a:chOff x="3630600" y="3927600"/>
            <a:chExt cx="453960" cy="210960"/>
          </a:xfrm>
        </p:grpSpPr>
        <p:sp>
          <p:nvSpPr>
            <p:cNvPr id="923" name=""/>
            <p:cNvSpPr/>
            <p:nvPr/>
          </p:nvSpPr>
          <p:spPr>
            <a:xfrm>
              <a:off x="3630600" y="392760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32040" y="413712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/>
          <p:cNvSpPr txBox="1"/>
          <p:nvPr/>
        </p:nvSpPr>
        <p:spPr>
          <a:xfrm>
            <a:off x="5427720" y="397188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894200" y="3938760"/>
            <a:ext cx="453960" cy="209520"/>
            <a:chOff x="4894200" y="3938760"/>
            <a:chExt cx="453960" cy="209520"/>
          </a:xfrm>
        </p:grpSpPr>
        <p:sp>
          <p:nvSpPr>
            <p:cNvPr id="927" name=""/>
            <p:cNvSpPr/>
            <p:nvPr/>
          </p:nvSpPr>
          <p:spPr>
            <a:xfrm>
              <a:off x="4894200" y="39387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896000" y="413712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 txBox="1"/>
          <p:nvPr/>
        </p:nvSpPr>
        <p:spPr>
          <a:xfrm>
            <a:off x="1182600" y="3971880"/>
            <a:ext cx="23702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or fast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176720" y="423396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3630600" y="4211640"/>
            <a:ext cx="453960" cy="209520"/>
            <a:chOff x="3630600" y="4211640"/>
            <a:chExt cx="453960" cy="209520"/>
          </a:xfrm>
        </p:grpSpPr>
        <p:sp>
          <p:nvSpPr>
            <p:cNvPr id="932" name=""/>
            <p:cNvSpPr/>
            <p:nvPr/>
          </p:nvSpPr>
          <p:spPr>
            <a:xfrm>
              <a:off x="3630600" y="42116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32040" y="441000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"/>
          <p:cNvSpPr txBox="1"/>
          <p:nvPr/>
        </p:nvSpPr>
        <p:spPr>
          <a:xfrm>
            <a:off x="5427720" y="423396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4894200" y="4211640"/>
            <a:ext cx="453960" cy="219240"/>
            <a:chOff x="4894200" y="4211640"/>
            <a:chExt cx="453960" cy="219240"/>
          </a:xfrm>
        </p:grpSpPr>
        <p:sp>
          <p:nvSpPr>
            <p:cNvPr id="936" name=""/>
            <p:cNvSpPr/>
            <p:nvPr/>
          </p:nvSpPr>
          <p:spPr>
            <a:xfrm>
              <a:off x="4894200" y="421164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896000" y="442116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 txBox="1"/>
          <p:nvPr/>
        </p:nvSpPr>
        <p:spPr>
          <a:xfrm>
            <a:off x="198360" y="3443400"/>
            <a:ext cx="4883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 trai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ach interval or rep las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han 3 minu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2441520" y="350676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198360" y="3747960"/>
            <a:ext cx="23605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otal time each week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198360" y="4506840"/>
            <a:ext cx="27687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interval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543560" y="4797360"/>
            <a:ext cx="2103480" cy="282600"/>
            <a:chOff x="4543560" y="4797360"/>
            <a:chExt cx="2103480" cy="282600"/>
          </a:xfrm>
        </p:grpSpPr>
        <p:sp>
          <p:nvSpPr>
            <p:cNvPr id="943" name=""/>
            <p:cNvSpPr/>
            <p:nvPr/>
          </p:nvSpPr>
          <p:spPr>
            <a:xfrm>
              <a:off x="4543560" y="479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45000" y="50706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10960" y="4797360"/>
            <a:ext cx="2103480" cy="282600"/>
            <a:chOff x="210960" y="4797360"/>
            <a:chExt cx="2103480" cy="282600"/>
          </a:xfrm>
        </p:grpSpPr>
        <p:sp>
          <p:nvSpPr>
            <p:cNvPr id="946" name=""/>
            <p:cNvSpPr/>
            <p:nvPr/>
          </p:nvSpPr>
          <p:spPr>
            <a:xfrm>
              <a:off x="210960" y="479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12760" y="50706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371680" y="4797360"/>
            <a:ext cx="2103480" cy="282600"/>
            <a:chOff x="2371680" y="4797360"/>
            <a:chExt cx="2103480" cy="282600"/>
          </a:xfrm>
        </p:grpSpPr>
        <p:sp>
          <p:nvSpPr>
            <p:cNvPr id="949" name=""/>
            <p:cNvSpPr/>
            <p:nvPr/>
          </p:nvSpPr>
          <p:spPr>
            <a:xfrm>
              <a:off x="2371680" y="479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73480" y="50706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 txBox="1"/>
          <p:nvPr/>
        </p:nvSpPr>
        <p:spPr>
          <a:xfrm>
            <a:off x="706320" y="4233960"/>
            <a:ext cx="28465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and easy se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1440" y="3402000"/>
            <a:ext cx="687528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4176720" y="574992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3630600" y="5705640"/>
            <a:ext cx="453960" cy="210960"/>
            <a:chOff x="3630600" y="5705640"/>
            <a:chExt cx="453960" cy="210960"/>
          </a:xfrm>
        </p:grpSpPr>
        <p:sp>
          <p:nvSpPr>
            <p:cNvPr id="955" name=""/>
            <p:cNvSpPr/>
            <p:nvPr/>
          </p:nvSpPr>
          <p:spPr>
            <a:xfrm>
              <a:off x="3630600" y="57056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632040" y="5915160"/>
              <a:ext cx="441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 txBox="1"/>
          <p:nvPr/>
        </p:nvSpPr>
        <p:spPr>
          <a:xfrm>
            <a:off x="5427720" y="574992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4894200" y="5716440"/>
            <a:ext cx="453960" cy="209520"/>
            <a:chOff x="4894200" y="5716440"/>
            <a:chExt cx="453960" cy="209520"/>
          </a:xfrm>
        </p:grpSpPr>
        <p:sp>
          <p:nvSpPr>
            <p:cNvPr id="959" name=""/>
            <p:cNvSpPr/>
            <p:nvPr/>
          </p:nvSpPr>
          <p:spPr>
            <a:xfrm>
              <a:off x="4894200" y="571644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96000" y="591516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"/>
          <p:cNvSpPr txBox="1"/>
          <p:nvPr/>
        </p:nvSpPr>
        <p:spPr>
          <a:xfrm>
            <a:off x="338040" y="5749920"/>
            <a:ext cx="3214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or exhausting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4176720" y="601200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630600" y="5989680"/>
            <a:ext cx="453960" cy="209520"/>
            <a:chOff x="3630600" y="5989680"/>
            <a:chExt cx="453960" cy="209520"/>
          </a:xfrm>
        </p:grpSpPr>
        <p:sp>
          <p:nvSpPr>
            <p:cNvPr id="964" name=""/>
            <p:cNvSpPr/>
            <p:nvPr/>
          </p:nvSpPr>
          <p:spPr>
            <a:xfrm>
              <a:off x="3630600" y="598968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32040" y="618804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 txBox="1"/>
          <p:nvPr/>
        </p:nvSpPr>
        <p:spPr>
          <a:xfrm>
            <a:off x="5427720" y="601200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894200" y="5989680"/>
            <a:ext cx="453960" cy="219240"/>
            <a:chOff x="4894200" y="5989680"/>
            <a:chExt cx="453960" cy="219240"/>
          </a:xfrm>
        </p:grpSpPr>
        <p:sp>
          <p:nvSpPr>
            <p:cNvPr id="968" name=""/>
            <p:cNvSpPr/>
            <p:nvPr/>
          </p:nvSpPr>
          <p:spPr>
            <a:xfrm>
              <a:off x="4894200" y="5989680"/>
              <a:ext cx="4539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96000" y="619920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"/>
          <p:cNvSpPr txBox="1"/>
          <p:nvPr/>
        </p:nvSpPr>
        <p:spPr>
          <a:xfrm>
            <a:off x="198360" y="5208480"/>
            <a:ext cx="3963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so called resistance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2441520" y="527220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198360" y="5513400"/>
            <a:ext cx="19717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otal time each doing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198360" y="6284880"/>
            <a:ext cx="2797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strength-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543560" y="6575400"/>
            <a:ext cx="2103480" cy="282600"/>
            <a:chOff x="4543560" y="6575400"/>
            <a:chExt cx="2103480" cy="282600"/>
          </a:xfrm>
        </p:grpSpPr>
        <p:sp>
          <p:nvSpPr>
            <p:cNvPr id="975" name=""/>
            <p:cNvSpPr/>
            <p:nvPr/>
          </p:nvSpPr>
          <p:spPr>
            <a:xfrm>
              <a:off x="4543560" y="65754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45000" y="684864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210960" y="6575400"/>
            <a:ext cx="2103480" cy="282600"/>
            <a:chOff x="210960" y="6575400"/>
            <a:chExt cx="2103480" cy="282600"/>
          </a:xfrm>
        </p:grpSpPr>
        <p:sp>
          <p:nvSpPr>
            <p:cNvPr id="978" name=""/>
            <p:cNvSpPr/>
            <p:nvPr/>
          </p:nvSpPr>
          <p:spPr>
            <a:xfrm>
              <a:off x="210960" y="65754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2760" y="684864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371680" y="6575400"/>
            <a:ext cx="2103480" cy="282600"/>
            <a:chOff x="2371680" y="6575400"/>
            <a:chExt cx="2103480" cy="282600"/>
          </a:xfrm>
        </p:grpSpPr>
        <p:sp>
          <p:nvSpPr>
            <p:cNvPr id="981" name=""/>
            <p:cNvSpPr/>
            <p:nvPr/>
          </p:nvSpPr>
          <p:spPr>
            <a:xfrm>
              <a:off x="2371680" y="657540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73480" y="684864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"/>
          <p:cNvSpPr txBox="1"/>
          <p:nvPr/>
        </p:nvSpPr>
        <p:spPr>
          <a:xfrm>
            <a:off x="338040" y="6012000"/>
            <a:ext cx="3214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and easy workouts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-1440" y="5167440"/>
            <a:ext cx="687528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4176720" y="7477200"/>
            <a:ext cx="646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630600" y="7432560"/>
            <a:ext cx="453960" cy="211320"/>
            <a:chOff x="3630600" y="7432560"/>
            <a:chExt cx="453960" cy="211320"/>
          </a:xfrm>
        </p:grpSpPr>
        <p:sp>
          <p:nvSpPr>
            <p:cNvPr id="987" name=""/>
            <p:cNvSpPr/>
            <p:nvPr/>
          </p:nvSpPr>
          <p:spPr>
            <a:xfrm>
              <a:off x="3630600" y="743256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32040" y="7642080"/>
              <a:ext cx="441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 txBox="1"/>
          <p:nvPr/>
        </p:nvSpPr>
        <p:spPr>
          <a:xfrm>
            <a:off x="5427720" y="7477200"/>
            <a:ext cx="1165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 per we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894200" y="7443720"/>
            <a:ext cx="453960" cy="209520"/>
            <a:chOff x="4894200" y="7443720"/>
            <a:chExt cx="453960" cy="209520"/>
          </a:xfrm>
        </p:grpSpPr>
        <p:sp>
          <p:nvSpPr>
            <p:cNvPr id="991" name=""/>
            <p:cNvSpPr/>
            <p:nvPr/>
          </p:nvSpPr>
          <p:spPr>
            <a:xfrm>
              <a:off x="4894200" y="7443720"/>
              <a:ext cx="45396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896000" y="7642080"/>
              <a:ext cx="4410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"/>
          <p:cNvSpPr txBox="1"/>
          <p:nvPr/>
        </p:nvSpPr>
        <p:spPr>
          <a:xfrm>
            <a:off x="198360" y="6986520"/>
            <a:ext cx="4044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ll training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so called technique or form train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441520" y="7050240"/>
            <a:ext cx="41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961920" y="7446960"/>
            <a:ext cx="2581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time each week (including rests)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198360" y="7759800"/>
            <a:ext cx="339732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your main skill or technique training activiti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4543560" y="8037360"/>
            <a:ext cx="2103480" cy="282600"/>
            <a:chOff x="4543560" y="8037360"/>
            <a:chExt cx="2103480" cy="282600"/>
          </a:xfrm>
        </p:grpSpPr>
        <p:sp>
          <p:nvSpPr>
            <p:cNvPr id="998" name=""/>
            <p:cNvSpPr/>
            <p:nvPr/>
          </p:nvSpPr>
          <p:spPr>
            <a:xfrm>
              <a:off x="4543560" y="803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45000" y="83106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10960" y="8037360"/>
            <a:ext cx="2103480" cy="282600"/>
            <a:chOff x="210960" y="8037360"/>
            <a:chExt cx="2103480" cy="282600"/>
          </a:xfrm>
        </p:grpSpPr>
        <p:sp>
          <p:nvSpPr>
            <p:cNvPr id="1001" name=""/>
            <p:cNvSpPr/>
            <p:nvPr/>
          </p:nvSpPr>
          <p:spPr>
            <a:xfrm>
              <a:off x="210960" y="803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12760" y="8310600"/>
              <a:ext cx="2090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371680" y="8037360"/>
            <a:ext cx="2103480" cy="282600"/>
            <a:chOff x="2371680" y="8037360"/>
            <a:chExt cx="2103480" cy="282600"/>
          </a:xfrm>
        </p:grpSpPr>
        <p:sp>
          <p:nvSpPr>
            <p:cNvPr id="1004" name=""/>
            <p:cNvSpPr/>
            <p:nvPr/>
          </p:nvSpPr>
          <p:spPr>
            <a:xfrm>
              <a:off x="2371680" y="8037360"/>
              <a:ext cx="21034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373480" y="8310600"/>
              <a:ext cx="2090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-1440" y="6945480"/>
            <a:ext cx="687528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440" y="8394840"/>
            <a:ext cx="6875640" cy="14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partment of Physiology</dc:creator>
  <dc:description/>
  <dc:language>en-US</dc:language>
  <cp:lastModifiedBy>Will Hopkins</cp:lastModifiedBy>
  <cp:revision>0</cp:revision>
  <dc:subject/>
  <dc:title>No Slide Title</dc:title>
</cp:coreProperties>
</file>